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D70-1D34-404F-9009-5D0F3AC0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2B5-223B-4B3B-8354-9032D54B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F24-78D3-4DE8-A2A8-838F3919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52D-A3C2-4ABA-BFCF-C3942745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5053-D399-4195-94E6-EFAC1E6F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5417-D960-47E7-8DB7-5036033D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2D2B-2EF1-4BA9-ADAE-E3B09309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4543-C943-438B-B280-B5E86BDB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F1AD-9918-4281-A8D7-F69F11F1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3B46-C793-4471-9DEC-A234211D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18F5-94D8-4197-AA2C-8D879183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3DD-F53E-4C87-97ED-97F79F0F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8716-10E2-4763-9D14-805C114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66C6-D35F-4EDD-B03D-5F20D67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C0CA-190E-4114-9EE6-238AE0B1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7F30-241E-4901-BCE5-3B27C4FF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04AA-2B1A-4854-9C25-0DDB60EB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4E7-AA7F-4DD2-93C3-1A692B7F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F77-AA31-46F6-8ED4-56279193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EB8-86AC-4B6A-8C54-17D3A40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5B4-49F3-4337-9FF4-F58635C0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4E4-E066-4C86-BFC0-9359F90A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55F-2F0F-425C-B541-D03A476E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11A-A034-4BEB-9B64-F1662A0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A62A-326B-44B6-A06B-3D01C6324306}" type="slidenum"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31A8-E012-4698-940F-7DDE37908AE1}" type="slidenum"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Fault Tolerant Token Ring Embedding in Double Loop Network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4724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Ting-Yi Sung, Chun-Yuan L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Yen-Chu Chuang, Lih-Hsing Hs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Information Processing Letters 66 (1998) 201-20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69F5-E3CD-4BC5-8C50-B96172BA57C0}" type="slidenum">
              <a:t>1</a:t>
            </a:fld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90720" y="838080"/>
                <a:ext cx="7467480" cy="47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use 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to denote the </m:t>
                        </m:r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a double loo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twork with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  <m:r>
                          <m:rPr>
                            <m:lit/>
                            <m:nor/>
                          </m:rPr>
                          <m:t xml:space="preserve">α,β,γ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rPr>
                            <m:lit/>
                            <m:nor/>
                          </m:rPr>
                          <m:t xml:space="preserve">δ </m:t>
                        </m:r>
                        <m:r>
                          <m:rPr>
                            <m:lit/>
                            <m:nor/>
                          </m:rPr>
                          <m:t xml:space="preserve"> be nonnegative integers satisfying 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γ, β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δ,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hen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]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E54-D87C-4C9A-8695-D0B3B4D070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43000" y="1219320"/>
                <a:ext cx="6858000" cy="30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therwise,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γ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lies 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β-γ-δ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get a contradi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362-DBE4-459D-B483-9E4623177E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838080" y="990720"/>
                <a:ext cx="7848720" cy="36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hamiltonia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and only i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and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647-0B81-4CA6-A74B-A70651D0472C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85800" y="1143000"/>
                <a:ext cx="8153280" cy="38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roll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ontains a hamiltonia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ycle with at least on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link and on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lin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and only i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and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417-7EF7-4E46-B5FB-6683A4822A6B}" type="slidenum">
              <a:t>13</a:t>
            </a:fld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85800" y="685800"/>
                <a:ext cx="7620120" cy="36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roll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hamiltonia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&lt;</m:t>
                            </m:r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nd</m:t>
                            </m:r>
                            <m:r>
                              <m:t xml:space="preserve"> </m:t>
                            </m:r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cd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-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d,n/d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;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!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-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fferent hamiltonian cycl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493-16BD-417B-A596-FDBC16536CA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1676520"/>
                <a:ext cx="74674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 LFT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least one of the following statements hold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and 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, 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</m:t>
                        </m:r>
                        <m:r>
                          <m:rPr>
                            <m:lit/>
                            <m:nor/>
                          </m:rPr>
                          <m:t xml:space="preserve">i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A39-B594-47D5-8BD3-AAD27804F737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2120" y="1371600"/>
                <a:ext cx="784836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roll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Assum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LFT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least one of the following statements hold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and 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, 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</m:t>
                        </m:r>
                        <m:r>
                          <m:rPr>
                            <m:lit/>
                            <m:nor/>
                          </m:rPr>
                          <m:t xml:space="preserve">i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8BA-4899-428A-AECF-5C04809F10E5}" type="slidenum">
              <a:t>16</a:t>
            </a:fld>
          </a:p>
        </p:txBody>
      </p:sp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1219320"/>
                <a:ext cx="8001000" cy="30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roll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Assum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two disjoint hamiltonian cycle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1F8-F3C9-4B28-A441-282B8BFF54A4}" type="slidenum">
              <a:t>17</a:t>
            </a:fld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909720" y="1069920"/>
          <a:ext cx="7445160" cy="427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9720" y="1069920"/>
                    <a:ext cx="744516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FC0-5F7C-40B4-83F3-CD29680670A2}" type="slidenum">
              <a:t>18</a:t>
            </a:fld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43000" y="735120"/>
                <a:ext cx="7008840" cy="52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uct a sequence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: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,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0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,s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equence terminates if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struct a sequence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: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,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0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,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equence terminates if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A0E-1104-4746-A94D-B2613C8AC8C2}" type="slidenum">
              <a:t>19</a:t>
            </a:fld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925800" y="1844640"/>
            <a:ext cx="4654800" cy="4780800"/>
            <a:chOff x="3925800" y="1844640"/>
            <a:chExt cx="4654800" cy="4780800"/>
          </a:xfrm>
        </p:grpSpPr>
        <p:sp>
          <p:nvSpPr>
            <p:cNvPr id="86" name=""/>
            <p:cNvSpPr/>
            <p:nvPr/>
          </p:nvSpPr>
          <p:spPr>
            <a:xfrm rot="15300000">
              <a:off x="5795640" y="2516040"/>
              <a:ext cx="7632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3500000">
              <a:off x="4989240" y="2980800"/>
              <a:ext cx="7632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1700000">
              <a:off x="4524120" y="3789360"/>
              <a:ext cx="7596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9900000">
              <a:off x="4524120" y="4720680"/>
              <a:ext cx="7596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8100000">
              <a:off x="4988880" y="5527440"/>
              <a:ext cx="7596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300000">
              <a:off x="5797440" y="5992560"/>
              <a:ext cx="7596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4500000">
              <a:off x="6728760" y="5992560"/>
              <a:ext cx="7596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700000">
              <a:off x="7536240" y="5527440"/>
              <a:ext cx="7596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900000">
              <a:off x="8000640" y="4719240"/>
              <a:ext cx="7632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700000">
              <a:off x="8000640" y="3787560"/>
              <a:ext cx="7632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7535520" y="2981160"/>
              <a:ext cx="7632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7100000">
              <a:off x="6727320" y="2516040"/>
              <a:ext cx="7632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53080" y="184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78880" y="61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380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4580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44000" y="3500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1380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0580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3440" y="2565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25800" y="3573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97440" y="465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3280" y="5661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5308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34160" y="2554200"/>
              <a:ext cx="2205000" cy="12715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65840" y="2554200"/>
              <a:ext cx="1273320" cy="2203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4040" y="3019320"/>
              <a:ext cx="0" cy="25462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767640" y="3825720"/>
              <a:ext cx="1271520" cy="22053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35240" y="4757760"/>
              <a:ext cx="2203560" cy="1273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027400" y="5565600"/>
              <a:ext cx="254628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562280" y="4758840"/>
              <a:ext cx="2205000" cy="1271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562640" y="3827160"/>
              <a:ext cx="1272960" cy="2203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027760" y="3018960"/>
              <a:ext cx="0" cy="25462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562640" y="2553840"/>
              <a:ext cx="1271520" cy="2205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562640" y="2553840"/>
              <a:ext cx="2203200" cy="1273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27760" y="3019320"/>
              <a:ext cx="254628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834160" y="2554200"/>
              <a:ext cx="1440" cy="34768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027760" y="2553840"/>
              <a:ext cx="1738080" cy="30114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562280" y="3018600"/>
              <a:ext cx="3011400" cy="17398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561920" y="3825360"/>
              <a:ext cx="3476520" cy="18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5027400" y="3018960"/>
              <a:ext cx="3011400" cy="17384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34160" y="2554200"/>
              <a:ext cx="1739880" cy="30114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65120" y="2554200"/>
              <a:ext cx="1800" cy="34768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835600" y="3019320"/>
              <a:ext cx="1738440" cy="301176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027760" y="3825360"/>
              <a:ext cx="3011400" cy="17398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62640" y="4757760"/>
              <a:ext cx="3476520" cy="14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62640" y="3827520"/>
              <a:ext cx="3011400" cy="17380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7760" y="3019320"/>
              <a:ext cx="1739880" cy="301176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79480" y="1073160"/>
            <a:ext cx="27730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ouble loop netwo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(n,s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i +s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mod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i +s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mod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(12;3,7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9D3-50B1-4A9C-92B6-C7E6819D7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066680" y="533520"/>
                <a:ext cx="7467840" cy="46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t xml:space="preserve">4,9,2,7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,1,8,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ew sequence: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,4,9,2,7,5,10,3,8,1,6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earrangement mod 5</m:t>
                        </m: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t xml:space="preserve">5,6,7,1,2,8,9,3,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C13-9E5E-492D-985A-A717FD46757F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14400" y="685800"/>
                <a:ext cx="7467480" cy="451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: Let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a double loo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twork with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,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hen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are the small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gers satisfying </m:t>
                        </m:r>
                        <m:r>
                          <m:rPr>
                            <m:lit/>
                            <m:nor/>
                          </m:rPr>
                          <m:t xml:space="preserve">x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y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respectivel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Moreover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-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∅</m:t>
                        </m:r>
                        <m:r>
                          <m:rPr>
                            <m:lit/>
                            <m:nor/>
                          </m:rPr>
                          <m:t xml:space="preserve">, and 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E6D-671C-408A-8C79-5712AADA7390}" type="slidenum">
              <a:t>21</a:t>
            </a:fld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838080"/>
                <a:ext cx="7619760" cy="521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:  Let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an NFT doub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network, a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be a hamiltonian cyc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hen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all vertices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all vertices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mma: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n NFT double loo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twork, then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,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947-F7BD-4DCB-8F6A-8815361C0587}" type="slidenum">
              <a:t>22</a:t>
            </a:fld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143000" y="990720"/>
                <a:ext cx="762012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: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NFT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ollowing conditions hold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,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n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the small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sitive integer satisfying </m:t>
                        </m:r>
                        <m:r>
                          <m:rPr>
                            <m:lit/>
                            <m:nor/>
                          </m:rPr>
                          <m:t xml:space="preserve">x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C7B-BF7B-4EFC-916E-DC1DDE5D0F39}" type="slidenum">
              <a:t>23</a:t>
            </a:fld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762120" y="914400"/>
          <a:ext cx="7599240" cy="39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14400"/>
                    <a:ext cx="759924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F22-A736-4D7A-ABF1-B9269B43E730}" type="slidenum">
              <a:t>24</a:t>
            </a:fld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066680" y="990720"/>
                <a:ext cx="7543800" cy="473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re is no LNFT double loop networ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s e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s odd, the number of double loop network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at are LNFT is not smal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s prime, every NFT double loop network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lso L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1EA-B863-434E-90D3-79BAA8B049F3}" type="slidenum">
              <a:t>25</a:t>
            </a:fld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62120" y="762120"/>
                <a:ext cx="7924680" cy="46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iameter consideration: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f: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;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Known result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  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;x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closed to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ED2-DEB1-4F0A-AB42-E994A38A1815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92200" y="1116000"/>
                <a:ext cx="6462720" cy="37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th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,p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n LNFT double loop network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ameter 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roblem:  Can we find other LNFT network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nodes with diameter 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digraphs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FA2-5C73-406A-8F95-47E07759A236}" type="slidenum">
              <a:t>27</a:t>
            </a:fld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280" y="836640"/>
            <a:ext cx="835344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A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 is </a:t>
            </a:r>
            <a:r>
              <a:rPr b="0" lang="zh-TW" sz="3200" spc="-1" strike="noStrike">
                <a:solidFill>
                  <a:srgbClr val="ff9900"/>
                </a:solidFill>
                <a:latin typeface="Times New Roman"/>
              </a:rPr>
              <a:t>LFT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if there is a hamiltonian cycle in every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 – e where e is any link in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A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 is </a:t>
            </a:r>
            <a:r>
              <a:rPr b="0" lang="zh-TW" sz="3200" spc="-1" strike="noStrike">
                <a:solidFill>
                  <a:srgbClr val="ff9900"/>
                </a:solidFill>
                <a:latin typeface="Times New Roman"/>
              </a:rPr>
              <a:t>NFT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if there is a hamiltonian cycle in every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 – v where v is node in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B1D-0F90-4F9F-B614-652DA36210C0}" type="slidenum">
              <a:t>3</a:t>
            </a:fld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85800" y="380880"/>
                <a:ext cx="8077320" cy="558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,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be a hamiltonian cycle of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y vertex in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e define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nction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s follows:</m:t>
                        </m:r>
                      </m:e>
                      <m:e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,i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,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E4B-A8EE-47D0-99F1-464EE7F73065}" type="slidenum">
              <a:t>4</a:t>
            </a:fld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838080" y="609480"/>
          <a:ext cx="7326360" cy="545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09480"/>
                    <a:ext cx="7326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7C1-39AA-4ED7-AB92-6AE7FF84D658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838080" y="2209680"/>
                <a:ext cx="7925040" cy="32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 </m:t>
                            </m:r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 and j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r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be any hamiltonian cycle in 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For any two vertices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in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ith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, we hav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14400" y="838080"/>
                <a:ext cx="66279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use 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to denote the </m:t>
                        </m:r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B2B-010B-4F26-A407-06890F7F4261}" type="slidenum">
              <a:t>6</a:t>
            </a:fld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95280" y="838080"/>
                <a:ext cx="6324840" cy="434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assum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ose that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hav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 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 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get contradi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F20-6ED6-4076-A28C-83E2BE4028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43000" y="838080"/>
                <a:ext cx="6324480" cy="553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hamiltonian cycle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, w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rom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n-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o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Hence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0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002-22A1-44CC-A8E5-B940225B2A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43000" y="685800"/>
                <a:ext cx="73152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hamiltonia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2590920"/>
                <a:ext cx="5257800" cy="38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pose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that </m:t>
                        </m:r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map the set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90D-A0F6-4325-B4A6-000D3090B4D5}" type="slidenum">
              <a:t>9</a:t>
            </a:fld>
          </a:p>
        </p:txBody>
      </p:sp>
    </p:spTree>
  </p:cSld>
  <p:transition>
    <p:pull dir="l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1:03:44Z</dcterms:created>
  <dc:creator>lhhsu</dc:creator>
  <dc:description/>
  <dc:language>en-US</dc:language>
  <cp:lastModifiedBy>lhhsu</cp:lastModifiedBy>
  <dcterms:modified xsi:type="dcterms:W3CDTF">2003-12-24T01:35:56Z</dcterms:modified>
  <cp:revision>8</cp:revision>
  <dc:subject/>
  <dc:title>Fault Tolerant Token Ring Embedding in Double Loop Networks</dc:title>
</cp:coreProperties>
</file>