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FA8-5A73-46B9-8ACA-3C22B223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DED-5F72-4E4C-BEBD-01D0DAD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664-4CB7-4D98-8703-4A27CED0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1B5-2B80-4913-AFEE-8E8A3D67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56AA-CB74-4688-A09B-1A7BEB3B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842F-9FB5-4EDA-991D-046A9075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4F6C-8A4C-4AC8-B07B-262B1B2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D68-F940-4F7B-8D2D-5B1FCD4E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402-5A4E-4EBB-B658-596F79DC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5CB-4A14-4537-B301-C4A546C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6E86-FAAB-407F-9D5E-62A812B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991-F6E3-406F-BA7F-C9F77E9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44C-8F60-4E64-8724-AD10123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E39F-3867-45AF-B708-1147C9A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3088-EA0E-4C5E-8E3D-B14B982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219-1D8C-4679-88DB-AD24A8CD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1B51-6C91-436C-BF8F-FBB813D6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C4B-53B2-4D45-A30E-77F2A8E2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685-B3BF-4ED2-997F-FD84CC36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3A8-D503-4B3E-AD5D-15FAA7C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5B1-5171-4E2A-9286-2B2B729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307-F4FD-4DFC-9A58-6520269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678-E600-48A1-B38B-EB31577E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72B-7B14-4082-953B-730E6A7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8FC-1EEC-478E-9E05-A048F7826E09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0929-C322-4D2E-BE98-1E605E0321A1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Fault Tolerant Token Ring Embedding in Double Loop Network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Ting-Yi Sung, Chun-Yuan L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Yen-Chu Chuang, Lih-Hsing Hs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Information Processing Letters 66 (1998) 201-20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649-6B30-4FFA-AAE2-AF6B5922AA1B}" type="slidenum">
              <a:t>1</a:t>
            </a:fld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90720" y="838080"/>
                <a:ext cx="7467480" cy="47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use 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to denote the 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rPr>
                            <m:lit/>
                            <m:nor/>
                          </m:rPr>
                          <m:t xml:space="preserve">α,β,γ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rPr>
                            <m:lit/>
                            <m:nor/>
                          </m:rPr>
                          <m:t xml:space="preserve">δ </m:t>
                        </m:r>
                        <m:r>
                          <m:rPr>
                            <m:lit/>
                            <m:nor/>
                          </m:rPr>
                          <m:t xml:space="preserve"> be nonnegative integers satisfying 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γ, β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δ,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]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84E-F412-495E-B64A-33474E8C6E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43000" y="1219320"/>
                <a:ext cx="685800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wise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γ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lies 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β-γ-δ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get a contradi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B65-510F-4A4D-B779-D5FB7CC84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838080" y="990720"/>
                <a:ext cx="7848720" cy="36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hamiltoni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and only i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D6B-EDBA-43C1-A374-1E6E2E719FD7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85800" y="1143000"/>
                <a:ext cx="8153280" cy="38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ontains a hamiltoni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ycle with at least on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link and on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lin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and only i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105-5E6A-4460-9EB4-AF6F74CC7A7F}" type="slidenum">
              <a:t>13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85800" y="685800"/>
                <a:ext cx="7620120" cy="36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hamiltonia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&lt;</m:t>
                            </m:r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nd</m:t>
                            </m:r>
                            <m:r>
                              <m:t xml:space="preserve"> 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cd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-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d,n/d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;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!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!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-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fferent hamiltonian cycl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C7F-2737-415D-A6A2-B6C0768720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1676520"/>
                <a:ext cx="74674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 L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least one of the following statement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</m:t>
                        </m:r>
                        <m:r>
                          <m:rPr>
                            <m:lit/>
                            <m:nor/>
                          </m:rPr>
                          <m:t xml:space="preserve">i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A30-4B84-486F-8D83-0E8EFCAE9C16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1371600"/>
                <a:ext cx="784836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ssum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L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least one of the following statement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and 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</m:t>
                        </m:r>
                        <m:r>
                          <m:rPr>
                            <m:lit/>
                            <m:nor/>
                          </m:rPr>
                          <m:t xml:space="preserve">i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957-7CD5-4B5E-BCFC-D10C1B1C32D7}" type="slidenum">
              <a:t>16</a:t>
            </a:fld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1219320"/>
                <a:ext cx="8001000" cy="30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roll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Assum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two disjoint hamiltonian cycle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n integer </m:t>
                        </m:r>
                        <m:r>
                          <m:rPr>
                            <m:lit/>
                            <m:nor/>
                          </m:rPr>
                          <m:t xml:space="preserve">k,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d,n/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952-8A2E-4789-8A76-9E72AFF42E21}" type="slidenum">
              <a:t>17</a:t>
            </a:fld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09720" y="1069920"/>
          <a:ext cx="7445160" cy="427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1069920"/>
                    <a:ext cx="74451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0A8-16E9-4A75-BAF4-AE0394AFBCC7}" type="slidenum">
              <a:t>18</a:t>
            </a:fld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735120"/>
                <a:ext cx="7008840" cy="52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uct a sequence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: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0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quence terminates if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truct a sequence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y: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s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0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quence terminates if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0E3-7722-4E34-BC20-241EF0674EC4}" type="slidenum">
              <a:t>19</a:t>
            </a:fld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925800" y="1844640"/>
            <a:ext cx="4654800" cy="4780800"/>
            <a:chOff x="3925800" y="1844640"/>
            <a:chExt cx="4654800" cy="4780800"/>
          </a:xfrm>
        </p:grpSpPr>
        <p:sp>
          <p:nvSpPr>
            <p:cNvPr id="86" name=""/>
            <p:cNvSpPr/>
            <p:nvPr/>
          </p:nvSpPr>
          <p:spPr>
            <a:xfrm rot="15300000">
              <a:off x="5795640" y="25160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3500000">
              <a:off x="4989240" y="2980800"/>
              <a:ext cx="7632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700000">
              <a:off x="4524120" y="378936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900000">
              <a:off x="4524120" y="472068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8100000">
              <a:off x="4988880" y="552744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300000">
              <a:off x="5797440" y="599256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4500000">
              <a:off x="6728760" y="5992560"/>
              <a:ext cx="7596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700000">
              <a:off x="7536240" y="5527440"/>
              <a:ext cx="7596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900000">
              <a:off x="8000640" y="47192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700000">
              <a:off x="8000640" y="3787560"/>
              <a:ext cx="76320" cy="7596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7535520" y="298116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7100000">
              <a:off x="6727320" y="2516040"/>
              <a:ext cx="76320" cy="76320"/>
            </a:xfrm>
            <a:prstGeom prst="ellipse">
              <a:avLst/>
            </a:prstGeom>
            <a:solidFill>
              <a:srgbClr val="e1b7b7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3080" y="18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8880" y="61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3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4580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44000" y="3500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1380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5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344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25800" y="3573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97440" y="465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3280" y="5661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5308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4160" y="2554200"/>
              <a:ext cx="2205000" cy="1271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65840" y="2554200"/>
              <a:ext cx="1273320" cy="2203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4040" y="3019320"/>
              <a:ext cx="0" cy="2546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767640" y="3825720"/>
              <a:ext cx="1271520" cy="2205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35240" y="4757760"/>
              <a:ext cx="2203560" cy="1273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27400" y="5565600"/>
              <a:ext cx="2546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562280" y="4758840"/>
              <a:ext cx="2205000" cy="1271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562640" y="3827160"/>
              <a:ext cx="1272960" cy="2203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27760" y="3018960"/>
              <a:ext cx="0" cy="2546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562640" y="2553840"/>
              <a:ext cx="1271520" cy="2205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62640" y="2553840"/>
              <a:ext cx="2203200" cy="1273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7760" y="3019320"/>
              <a:ext cx="2546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34160" y="2554200"/>
              <a:ext cx="1440" cy="3476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027760" y="2553840"/>
              <a:ext cx="1738080" cy="30114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62280" y="3018600"/>
              <a:ext cx="3011400" cy="1739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61920" y="3825360"/>
              <a:ext cx="3476520" cy="18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027400" y="3018960"/>
              <a:ext cx="3011400" cy="17384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4160" y="2554200"/>
              <a:ext cx="1739880" cy="30114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5120" y="2554200"/>
              <a:ext cx="1800" cy="3476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35600" y="3019320"/>
              <a:ext cx="1738440" cy="30117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027760" y="3825360"/>
              <a:ext cx="3011400" cy="17398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62640" y="4757760"/>
              <a:ext cx="3476520" cy="14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2640" y="3827520"/>
              <a:ext cx="3011400" cy="1738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7760" y="3019320"/>
              <a:ext cx="1739880" cy="30117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79480" y="1073160"/>
            <a:ext cx="277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ouble loop netwo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(n,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i +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mod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i +s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mod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G(12;3,7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2DC-0BF5-4F33-B9E5-8DFF130DC4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66680" y="533520"/>
                <a:ext cx="7467840" cy="46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4,9,2,7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1,8,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ew sequence: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,4,9,2,7,5,10,3,8,1,6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arrangement mod 5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5,6,7,1,2,8,9,3,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AF4-6B09-4992-AD41-3DE57FD782EE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14400" y="685800"/>
                <a:ext cx="7467480" cy="451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: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t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are the small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gers satisfying </m:t>
                        </m:r>
                        <m:r>
                          <m:rPr>
                            <m:lit/>
                            <m:nor/>
                          </m:rPr>
                          <m:t xml:space="preserve">x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y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Moreover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-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599-A861-454B-B309-026293E29860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838080"/>
                <a:ext cx="7619760" cy="521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:  Let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an NFT dou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network, a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 hamiltonian cyc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vertices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vertices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: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n NFT double loo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twork, then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B74-E3D3-4F52-9B53-E5BA50E591C5}" type="slidenum">
              <a:t>22</a:t>
            </a:fld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990720"/>
                <a:ext cx="762012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: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NFT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ollowing conditions hold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n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the small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sitive integer satisfying </m:t>
                        </m:r>
                        <m:r>
                          <m:rPr>
                            <m:lit/>
                            <m:nor/>
                          </m:rPr>
                          <m:t xml:space="preserve">x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22F-45D2-4B18-A5D5-0CDEE59DA50C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62120" y="914400"/>
          <a:ext cx="7599240" cy="39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759924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CEC-0D15-4E48-B44C-D85E70D2E697}" type="slidenum">
              <a:t>24</a:t>
            </a:fld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66680" y="990720"/>
                <a:ext cx="7543800" cy="47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re is no LNFT double loop networ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e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odd, the number of double loop network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at are LNFT is not smal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is prime, every NFT double loop network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lso L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752-E409-400D-A519-4DF707E6BF26}" type="slidenum">
              <a:t>25</a:t>
            </a:fld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762120"/>
                <a:ext cx="7924680" cy="46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ameter consider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f: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;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Known result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  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   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;x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closed to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3E1-743B-4BF1-90C9-0E28B097C6F4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92200" y="1116000"/>
                <a:ext cx="646272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,p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LNFT double loop network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ameter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roblem:  Can we find other LNFT network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nodes with diameter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digraphs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D1D-9352-4B2D-8E15-A184CE2E282C}" type="slidenum">
              <a:t>27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836640"/>
            <a:ext cx="835344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A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is </a:t>
            </a:r>
            <a:r>
              <a:rPr b="0" lang="zh-TW" sz="3200" spc="-1" strike="noStrike">
                <a:solidFill>
                  <a:srgbClr val="ff9900"/>
                </a:solidFill>
                <a:latin typeface="Times New Roman"/>
              </a:rPr>
              <a:t>LFT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if there is a hamiltonian cycle in every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– e where e is any link in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A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is </a:t>
            </a:r>
            <a:r>
              <a:rPr b="0" lang="zh-TW" sz="3200" spc="-1" strike="noStrike">
                <a:solidFill>
                  <a:srgbClr val="ff9900"/>
                </a:solidFill>
                <a:latin typeface="Times New Roman"/>
              </a:rPr>
              <a:t>NFT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if there is a hamiltonian cycle in every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 – v where v is node in G(n;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,s</a:t>
            </a:r>
            <a:r>
              <a:rPr b="0" lang="zh-TW" sz="32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ED8-6A03-4E97-BF8A-6172853CB824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85800" y="380880"/>
                <a:ext cx="8077320" cy="558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 hamiltonian cycle of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ertex in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e define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tion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s follows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,i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n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,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187-C172-4B96-88A9-48366D5E4940}" type="slidenum">
              <a:t>4</a:t>
            </a:fld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38080" y="609480"/>
          <a:ext cx="7326360" cy="545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09480"/>
                    <a:ext cx="7326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C04-3311-4759-AA04-7778EBFB71ED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38080" y="2209680"/>
                <a:ext cx="7925040" cy="32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 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and j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er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be any hamiltonian cycle in 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For any two vertices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in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, we hav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14400" y="838080"/>
                <a:ext cx="66279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use 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to denote the </m:t>
                        </m:r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65A-66AA-4161-A818-0C800D4D127D}" type="slidenum">
              <a:t>6</a:t>
            </a:fld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95280" y="838080"/>
                <a:ext cx="6324840" cy="434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assum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ose that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, 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 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get contradi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5AA-A7DC-4573-80A9-E1B81D612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43000" y="838080"/>
                <a:ext cx="6324480" cy="553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hamiltonian cycle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, w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rom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-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o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Hence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72A-55C5-4342-B50E-21F516212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43000" y="685800"/>
                <a:ext cx="73152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;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hamiltonia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2590920"/>
                <a:ext cx="5257800" cy="38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ose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,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that </m:t>
                        </m:r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map the set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DB5-5610-4978-A3B1-9906B1EE2CD0}" type="slidenum">
              <a:t>9</a:t>
            </a:fld>
          </a:p>
        </p:txBody>
      </p:sp>
    </p:spTree>
  </p:cSld>
  <p:transition>
    <p:pull dir="l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1:03:44Z</dcterms:created>
  <dc:creator>lhhsu</dc:creator>
  <dc:description/>
  <dc:language>en-US</dc:language>
  <cp:lastModifiedBy>lhhsu</cp:lastModifiedBy>
  <dcterms:modified xsi:type="dcterms:W3CDTF">2003-12-24T01:35:56Z</dcterms:modified>
  <cp:revision>8</cp:revision>
  <dc:subject/>
  <dc:title>Fault Tolerant Token Ring Embedding in Double Loop Networks</dc:title>
</cp:coreProperties>
</file>