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8C9-9016-42F8-8278-148A2C49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398-7321-4AC0-8304-A0A7CDC5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97F-4EB8-4AC2-934F-E90A8E77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1EC-8438-48D6-9E21-E3F890A8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7D4-8E01-41AD-BB28-0C8370C1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B94-D450-4A11-B2AC-31C5890A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49E-4DDE-4A4D-A3B2-D995A2CD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D84-60AF-47E3-8D71-9F6AC673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684-8A1A-4D5C-879E-D2669038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91D-7074-4019-8F33-23DACA0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988-E3B4-4B14-81D6-F7FC3FC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8F3-4DAE-427D-ABA5-506C54D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CB1-B813-46BD-8A5A-9A2CC97EEBC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thful 1-edge fault tolerant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hih-Yih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Lih-Hsing H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ing-Ti 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formation Processing Letters 61 (1997) 173-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757080" y="534960"/>
            <a:ext cx="82800" cy="82440"/>
            <a:chOff x="757080" y="534960"/>
            <a:chExt cx="82800" cy="82440"/>
          </a:xfrm>
        </p:grpSpPr>
        <p:sp>
          <p:nvSpPr>
            <p:cNvPr id="449" name=""/>
            <p:cNvSpPr/>
            <p:nvPr/>
          </p:nvSpPr>
          <p:spPr>
            <a:xfrm>
              <a:off x="757080" y="534960"/>
              <a:ext cx="8280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12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339920" y="534960"/>
            <a:ext cx="82440" cy="82440"/>
            <a:chOff x="1339920" y="534960"/>
            <a:chExt cx="82440" cy="82440"/>
          </a:xfrm>
        </p:grpSpPr>
        <p:sp>
          <p:nvSpPr>
            <p:cNvPr id="452" name=""/>
            <p:cNvSpPr/>
            <p:nvPr/>
          </p:nvSpPr>
          <p:spPr>
            <a:xfrm>
              <a:off x="133992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8132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24200" y="534960"/>
            <a:ext cx="82440" cy="82440"/>
            <a:chOff x="1924200" y="534960"/>
            <a:chExt cx="82440" cy="82440"/>
          </a:xfrm>
        </p:grpSpPr>
        <p:sp>
          <p:nvSpPr>
            <p:cNvPr id="455" name=""/>
            <p:cNvSpPr/>
            <p:nvPr/>
          </p:nvSpPr>
          <p:spPr>
            <a:xfrm>
              <a:off x="192420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6524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506680" y="534960"/>
            <a:ext cx="82440" cy="82440"/>
            <a:chOff x="2506680" y="534960"/>
            <a:chExt cx="82440" cy="82440"/>
          </a:xfrm>
        </p:grpSpPr>
        <p:sp>
          <p:nvSpPr>
            <p:cNvPr id="458" name=""/>
            <p:cNvSpPr/>
            <p:nvPr/>
          </p:nvSpPr>
          <p:spPr>
            <a:xfrm>
              <a:off x="250668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808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90960" y="534960"/>
            <a:ext cx="82440" cy="82440"/>
            <a:chOff x="3090960" y="534960"/>
            <a:chExt cx="82440" cy="82440"/>
          </a:xfrm>
        </p:grpSpPr>
        <p:sp>
          <p:nvSpPr>
            <p:cNvPr id="461" name=""/>
            <p:cNvSpPr/>
            <p:nvPr/>
          </p:nvSpPr>
          <p:spPr>
            <a:xfrm>
              <a:off x="309096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200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673440" y="534960"/>
            <a:ext cx="84240" cy="82440"/>
            <a:chOff x="3673440" y="534960"/>
            <a:chExt cx="84240" cy="82440"/>
          </a:xfrm>
        </p:grpSpPr>
        <p:sp>
          <p:nvSpPr>
            <p:cNvPr id="464" name=""/>
            <p:cNvSpPr/>
            <p:nvPr/>
          </p:nvSpPr>
          <p:spPr>
            <a:xfrm>
              <a:off x="3673440" y="534960"/>
              <a:ext cx="842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556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98480" y="5763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80960" y="576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65240" y="57636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48080" y="57636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32000" y="576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-2283480" y="33480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757080" y="1195560"/>
            <a:ext cx="82800" cy="82440"/>
            <a:chOff x="757080" y="1195560"/>
            <a:chExt cx="82800" cy="82440"/>
          </a:xfrm>
        </p:grpSpPr>
        <p:sp>
          <p:nvSpPr>
            <p:cNvPr id="473" name=""/>
            <p:cNvSpPr/>
            <p:nvPr/>
          </p:nvSpPr>
          <p:spPr>
            <a:xfrm>
              <a:off x="757080" y="1195560"/>
              <a:ext cx="8280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12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339920" y="1195560"/>
            <a:ext cx="82440" cy="82440"/>
            <a:chOff x="1339920" y="1195560"/>
            <a:chExt cx="82440" cy="82440"/>
          </a:xfrm>
        </p:grpSpPr>
        <p:sp>
          <p:nvSpPr>
            <p:cNvPr id="476" name=""/>
            <p:cNvSpPr/>
            <p:nvPr/>
          </p:nvSpPr>
          <p:spPr>
            <a:xfrm>
              <a:off x="133992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8132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24200" y="1195560"/>
            <a:ext cx="82440" cy="82440"/>
            <a:chOff x="1924200" y="1195560"/>
            <a:chExt cx="82440" cy="82440"/>
          </a:xfrm>
        </p:grpSpPr>
        <p:sp>
          <p:nvSpPr>
            <p:cNvPr id="479" name=""/>
            <p:cNvSpPr/>
            <p:nvPr/>
          </p:nvSpPr>
          <p:spPr>
            <a:xfrm>
              <a:off x="192420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6524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506680" y="1195560"/>
            <a:ext cx="82440" cy="82440"/>
            <a:chOff x="2506680" y="1195560"/>
            <a:chExt cx="82440" cy="82440"/>
          </a:xfrm>
        </p:grpSpPr>
        <p:sp>
          <p:nvSpPr>
            <p:cNvPr id="482" name=""/>
            <p:cNvSpPr/>
            <p:nvPr/>
          </p:nvSpPr>
          <p:spPr>
            <a:xfrm>
              <a:off x="250668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4808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090960" y="1195560"/>
            <a:ext cx="82440" cy="82440"/>
            <a:chOff x="3090960" y="1195560"/>
            <a:chExt cx="82440" cy="82440"/>
          </a:xfrm>
        </p:grpSpPr>
        <p:sp>
          <p:nvSpPr>
            <p:cNvPr id="485" name=""/>
            <p:cNvSpPr/>
            <p:nvPr/>
          </p:nvSpPr>
          <p:spPr>
            <a:xfrm>
              <a:off x="309096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3200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673440" y="1195560"/>
            <a:ext cx="84240" cy="82440"/>
            <a:chOff x="3673440" y="1195560"/>
            <a:chExt cx="84240" cy="82440"/>
          </a:xfrm>
        </p:grpSpPr>
        <p:sp>
          <p:nvSpPr>
            <p:cNvPr id="488" name=""/>
            <p:cNvSpPr/>
            <p:nvPr/>
          </p:nvSpPr>
          <p:spPr>
            <a:xfrm>
              <a:off x="3673440" y="1195560"/>
              <a:ext cx="842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1556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98480" y="12366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0960" y="1236600"/>
            <a:ext cx="584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65240" y="1236600"/>
            <a:ext cx="5828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48080" y="123660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10040" y="1236600"/>
            <a:ext cx="60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2283480" y="995400"/>
            <a:ext cx="9081720" cy="908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57080" y="1855800"/>
            <a:ext cx="82800" cy="84240"/>
            <a:chOff x="757080" y="1855800"/>
            <a:chExt cx="82800" cy="84240"/>
          </a:xfrm>
        </p:grpSpPr>
        <p:sp>
          <p:nvSpPr>
            <p:cNvPr id="497" name=""/>
            <p:cNvSpPr/>
            <p:nvPr/>
          </p:nvSpPr>
          <p:spPr>
            <a:xfrm>
              <a:off x="757080" y="1855800"/>
              <a:ext cx="8280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812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339920" y="1855800"/>
            <a:ext cx="82440" cy="84240"/>
            <a:chOff x="1339920" y="1855800"/>
            <a:chExt cx="82440" cy="84240"/>
          </a:xfrm>
        </p:grpSpPr>
        <p:sp>
          <p:nvSpPr>
            <p:cNvPr id="500" name=""/>
            <p:cNvSpPr/>
            <p:nvPr/>
          </p:nvSpPr>
          <p:spPr>
            <a:xfrm>
              <a:off x="133992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8132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924200" y="1855800"/>
            <a:ext cx="82440" cy="84240"/>
            <a:chOff x="1924200" y="1855800"/>
            <a:chExt cx="82440" cy="84240"/>
          </a:xfrm>
        </p:grpSpPr>
        <p:sp>
          <p:nvSpPr>
            <p:cNvPr id="503" name=""/>
            <p:cNvSpPr/>
            <p:nvPr/>
          </p:nvSpPr>
          <p:spPr>
            <a:xfrm>
              <a:off x="192420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6524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506680" y="1855800"/>
            <a:ext cx="82440" cy="84240"/>
            <a:chOff x="2506680" y="1855800"/>
            <a:chExt cx="82440" cy="84240"/>
          </a:xfrm>
        </p:grpSpPr>
        <p:sp>
          <p:nvSpPr>
            <p:cNvPr id="506" name=""/>
            <p:cNvSpPr/>
            <p:nvPr/>
          </p:nvSpPr>
          <p:spPr>
            <a:xfrm>
              <a:off x="250668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808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90960" y="1855800"/>
            <a:ext cx="82440" cy="84240"/>
            <a:chOff x="3090960" y="1855800"/>
            <a:chExt cx="82440" cy="84240"/>
          </a:xfrm>
        </p:grpSpPr>
        <p:sp>
          <p:nvSpPr>
            <p:cNvPr id="509" name=""/>
            <p:cNvSpPr/>
            <p:nvPr/>
          </p:nvSpPr>
          <p:spPr>
            <a:xfrm>
              <a:off x="309096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200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673440" y="1855800"/>
            <a:ext cx="84240" cy="84240"/>
            <a:chOff x="3673440" y="1855800"/>
            <a:chExt cx="84240" cy="84240"/>
          </a:xfrm>
        </p:grpSpPr>
        <p:sp>
          <p:nvSpPr>
            <p:cNvPr id="512" name=""/>
            <p:cNvSpPr/>
            <p:nvPr/>
          </p:nvSpPr>
          <p:spPr>
            <a:xfrm>
              <a:off x="3673440" y="1855800"/>
              <a:ext cx="842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1556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98480" y="18972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0960" y="18972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65240" y="189720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48080" y="189720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32000" y="18972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2283480" y="165744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57080" y="2516040"/>
            <a:ext cx="82800" cy="82800"/>
            <a:chOff x="757080" y="2516040"/>
            <a:chExt cx="82800" cy="82800"/>
          </a:xfrm>
        </p:grpSpPr>
        <p:sp>
          <p:nvSpPr>
            <p:cNvPr id="521" name=""/>
            <p:cNvSpPr/>
            <p:nvPr/>
          </p:nvSpPr>
          <p:spPr>
            <a:xfrm>
              <a:off x="757080" y="251604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812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339920" y="2516040"/>
            <a:ext cx="82440" cy="82800"/>
            <a:chOff x="1339920" y="2516040"/>
            <a:chExt cx="82440" cy="82800"/>
          </a:xfrm>
        </p:grpSpPr>
        <p:sp>
          <p:nvSpPr>
            <p:cNvPr id="524" name=""/>
            <p:cNvSpPr/>
            <p:nvPr/>
          </p:nvSpPr>
          <p:spPr>
            <a:xfrm>
              <a:off x="133992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8132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924200" y="2516040"/>
            <a:ext cx="82440" cy="82800"/>
            <a:chOff x="1924200" y="2516040"/>
            <a:chExt cx="82440" cy="82800"/>
          </a:xfrm>
        </p:grpSpPr>
        <p:sp>
          <p:nvSpPr>
            <p:cNvPr id="527" name=""/>
            <p:cNvSpPr/>
            <p:nvPr/>
          </p:nvSpPr>
          <p:spPr>
            <a:xfrm>
              <a:off x="192420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6524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506680" y="2516040"/>
            <a:ext cx="82440" cy="82800"/>
            <a:chOff x="2506680" y="2516040"/>
            <a:chExt cx="82440" cy="82800"/>
          </a:xfrm>
        </p:grpSpPr>
        <p:sp>
          <p:nvSpPr>
            <p:cNvPr id="530" name=""/>
            <p:cNvSpPr/>
            <p:nvPr/>
          </p:nvSpPr>
          <p:spPr>
            <a:xfrm>
              <a:off x="250668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4808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090960" y="2516040"/>
            <a:ext cx="82440" cy="82800"/>
            <a:chOff x="3090960" y="2516040"/>
            <a:chExt cx="82440" cy="82800"/>
          </a:xfrm>
        </p:grpSpPr>
        <p:sp>
          <p:nvSpPr>
            <p:cNvPr id="533" name=""/>
            <p:cNvSpPr/>
            <p:nvPr/>
          </p:nvSpPr>
          <p:spPr>
            <a:xfrm>
              <a:off x="309096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3200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3673440" y="2516040"/>
            <a:ext cx="84240" cy="82800"/>
            <a:chOff x="3673440" y="2516040"/>
            <a:chExt cx="84240" cy="82800"/>
          </a:xfrm>
        </p:grpSpPr>
        <p:sp>
          <p:nvSpPr>
            <p:cNvPr id="536" name=""/>
            <p:cNvSpPr/>
            <p:nvPr/>
          </p:nvSpPr>
          <p:spPr>
            <a:xfrm>
              <a:off x="3673440" y="2516040"/>
              <a:ext cx="842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1556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98480" y="255744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80960" y="255744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65240" y="255744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48080" y="255744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2557440"/>
            <a:ext cx="584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-2283480" y="231768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11280" y="-1118160"/>
            <a:ext cx="5371560" cy="5370120"/>
            <a:chOff x="611280" y="-1118160"/>
            <a:chExt cx="5371560" cy="5370120"/>
          </a:xfrm>
        </p:grpSpPr>
        <p:sp>
          <p:nvSpPr>
            <p:cNvPr id="545" name=""/>
            <p:cNvSpPr/>
            <p:nvPr/>
          </p:nvSpPr>
          <p:spPr>
            <a:xfrm flipV="1">
              <a:off x="797760" y="189756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97760" y="12366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97760" y="5760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280" y="-111816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79360" y="-1126440"/>
            <a:ext cx="5372280" cy="5375160"/>
            <a:chOff x="1179360" y="-1126440"/>
            <a:chExt cx="5372280" cy="5375160"/>
          </a:xfrm>
        </p:grpSpPr>
        <p:sp>
          <p:nvSpPr>
            <p:cNvPr id="550" name=""/>
            <p:cNvSpPr/>
            <p:nvPr/>
          </p:nvSpPr>
          <p:spPr>
            <a:xfrm flipV="1">
              <a:off x="1365840" y="1892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365840" y="123084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365840" y="56988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79360" y="-1126440"/>
              <a:ext cx="537228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87400" y="-1131120"/>
            <a:ext cx="5372280" cy="5375160"/>
            <a:chOff x="1787400" y="-1131120"/>
            <a:chExt cx="5372280" cy="5375160"/>
          </a:xfrm>
        </p:grpSpPr>
        <p:sp>
          <p:nvSpPr>
            <p:cNvPr id="555" name=""/>
            <p:cNvSpPr/>
            <p:nvPr/>
          </p:nvSpPr>
          <p:spPr>
            <a:xfrm flipV="1">
              <a:off x="1973880" y="18874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973880" y="122616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973880" y="56520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87400" y="-1131120"/>
              <a:ext cx="537228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355840" y="-1134000"/>
            <a:ext cx="5371560" cy="5370120"/>
            <a:chOff x="2355840" y="-1134000"/>
            <a:chExt cx="5371560" cy="5370120"/>
          </a:xfrm>
        </p:grpSpPr>
        <p:sp>
          <p:nvSpPr>
            <p:cNvPr id="560" name=""/>
            <p:cNvSpPr/>
            <p:nvPr/>
          </p:nvSpPr>
          <p:spPr>
            <a:xfrm flipV="1">
              <a:off x="2542320" y="188172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542320" y="122076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542320" y="56016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55840" y="-113400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940120" y="-1118160"/>
            <a:ext cx="5371560" cy="5370120"/>
            <a:chOff x="2940120" y="-1118160"/>
            <a:chExt cx="5371560" cy="5370120"/>
          </a:xfrm>
        </p:grpSpPr>
        <p:sp>
          <p:nvSpPr>
            <p:cNvPr id="565" name=""/>
            <p:cNvSpPr/>
            <p:nvPr/>
          </p:nvSpPr>
          <p:spPr>
            <a:xfrm flipV="1">
              <a:off x="3126600" y="189756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26600" y="12366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126600" y="5760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40120" y="-111816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29080" y="-1126440"/>
            <a:ext cx="5371560" cy="5375160"/>
            <a:chOff x="3529080" y="-1126440"/>
            <a:chExt cx="5371560" cy="5375160"/>
          </a:xfrm>
        </p:grpSpPr>
        <p:sp>
          <p:nvSpPr>
            <p:cNvPr id="570" name=""/>
            <p:cNvSpPr/>
            <p:nvPr/>
          </p:nvSpPr>
          <p:spPr>
            <a:xfrm flipV="1">
              <a:off x="3715560" y="1892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715560" y="123084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715560" y="56988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080" y="-1126440"/>
              <a:ext cx="537156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V="1">
            <a:off x="798480" y="1236240"/>
            <a:ext cx="1749600" cy="1320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380960" y="123624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5240" y="123624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798480" y="123624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80960" y="1236600"/>
            <a:ext cx="1751040" cy="1320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65240" y="12366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98480" y="57600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1380960" y="5760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65240" y="5760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98480" y="57600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80960" y="57636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65240" y="57636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389960" y="303840"/>
            <a:ext cx="11184120" cy="12531600"/>
            <a:chOff x="1389960" y="303840"/>
            <a:chExt cx="11184120" cy="12531600"/>
          </a:xfrm>
        </p:grpSpPr>
        <p:grpSp>
          <p:nvGrpSpPr>
            <p:cNvPr id="587" name=""/>
            <p:cNvGrpSpPr/>
            <p:nvPr/>
          </p:nvGrpSpPr>
          <p:grpSpPr>
            <a:xfrm>
              <a:off x="4430880" y="1973160"/>
              <a:ext cx="82440" cy="82080"/>
              <a:chOff x="4430880" y="1973160"/>
              <a:chExt cx="82440" cy="82080"/>
            </a:xfrm>
          </p:grpSpPr>
          <p:sp>
            <p:nvSpPr>
              <p:cNvPr id="588" name=""/>
              <p:cNvSpPr/>
              <p:nvPr/>
            </p:nvSpPr>
            <p:spPr>
              <a:xfrm>
                <a:off x="443088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7192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013360" y="1973160"/>
              <a:ext cx="82440" cy="82080"/>
              <a:chOff x="5013360" y="1973160"/>
              <a:chExt cx="82440" cy="82080"/>
            </a:xfrm>
          </p:grpSpPr>
          <p:sp>
            <p:nvSpPr>
              <p:cNvPr id="591" name=""/>
              <p:cNvSpPr/>
              <p:nvPr/>
            </p:nvSpPr>
            <p:spPr>
              <a:xfrm>
                <a:off x="501336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5476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597640" y="1973160"/>
              <a:ext cx="82440" cy="82080"/>
              <a:chOff x="5597640" y="1973160"/>
              <a:chExt cx="82440" cy="82080"/>
            </a:xfrm>
          </p:grpSpPr>
          <p:sp>
            <p:nvSpPr>
              <p:cNvPr id="594" name=""/>
              <p:cNvSpPr/>
              <p:nvPr/>
            </p:nvSpPr>
            <p:spPr>
              <a:xfrm>
                <a:off x="559764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3868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180120" y="1973160"/>
              <a:ext cx="82440" cy="82080"/>
              <a:chOff x="6180120" y="1973160"/>
              <a:chExt cx="82440" cy="82080"/>
            </a:xfrm>
          </p:grpSpPr>
          <p:sp>
            <p:nvSpPr>
              <p:cNvPr id="597" name=""/>
              <p:cNvSpPr/>
              <p:nvPr/>
            </p:nvSpPr>
            <p:spPr>
              <a:xfrm>
                <a:off x="618012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2152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764400" y="1973160"/>
              <a:ext cx="82440" cy="82080"/>
              <a:chOff x="6764400" y="1973160"/>
              <a:chExt cx="82440" cy="82080"/>
            </a:xfrm>
          </p:grpSpPr>
          <p:sp>
            <p:nvSpPr>
              <p:cNvPr id="600" name=""/>
              <p:cNvSpPr/>
              <p:nvPr/>
            </p:nvSpPr>
            <p:spPr>
              <a:xfrm>
                <a:off x="676440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0544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7346880" y="1973160"/>
              <a:ext cx="84240" cy="82080"/>
              <a:chOff x="7346880" y="1973160"/>
              <a:chExt cx="84240" cy="82080"/>
            </a:xfrm>
          </p:grpSpPr>
          <p:sp>
            <p:nvSpPr>
              <p:cNvPr id="603" name=""/>
              <p:cNvSpPr/>
              <p:nvPr/>
            </p:nvSpPr>
            <p:spPr>
              <a:xfrm>
                <a:off x="7346880" y="1973160"/>
                <a:ext cx="842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8900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4471920" y="20142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54760" y="20142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38680" y="20142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21520" y="20142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05440" y="20142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89960" y="177336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30880" y="2633400"/>
              <a:ext cx="82440" cy="82440"/>
              <a:chOff x="4430880" y="2633400"/>
              <a:chExt cx="82440" cy="82440"/>
            </a:xfrm>
          </p:grpSpPr>
          <p:sp>
            <p:nvSpPr>
              <p:cNvPr id="612" name=""/>
              <p:cNvSpPr/>
              <p:nvPr/>
            </p:nvSpPr>
            <p:spPr>
              <a:xfrm>
                <a:off x="443088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192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013360" y="2633400"/>
              <a:ext cx="82440" cy="82440"/>
              <a:chOff x="5013360" y="2633400"/>
              <a:chExt cx="82440" cy="82440"/>
            </a:xfrm>
          </p:grpSpPr>
          <p:sp>
            <p:nvSpPr>
              <p:cNvPr id="615" name=""/>
              <p:cNvSpPr/>
              <p:nvPr/>
            </p:nvSpPr>
            <p:spPr>
              <a:xfrm>
                <a:off x="501336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05476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597640" y="2633400"/>
              <a:ext cx="82440" cy="82440"/>
              <a:chOff x="5597640" y="2633400"/>
              <a:chExt cx="82440" cy="82440"/>
            </a:xfrm>
          </p:grpSpPr>
          <p:sp>
            <p:nvSpPr>
              <p:cNvPr id="618" name=""/>
              <p:cNvSpPr/>
              <p:nvPr/>
            </p:nvSpPr>
            <p:spPr>
              <a:xfrm>
                <a:off x="559764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3868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180120" y="2633400"/>
              <a:ext cx="82440" cy="82440"/>
              <a:chOff x="6180120" y="2633400"/>
              <a:chExt cx="82440" cy="82440"/>
            </a:xfrm>
          </p:grpSpPr>
          <p:sp>
            <p:nvSpPr>
              <p:cNvPr id="621" name=""/>
              <p:cNvSpPr/>
              <p:nvPr/>
            </p:nvSpPr>
            <p:spPr>
              <a:xfrm>
                <a:off x="618012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2152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764400" y="2633400"/>
              <a:ext cx="82440" cy="82440"/>
              <a:chOff x="6764400" y="2633400"/>
              <a:chExt cx="82440" cy="82440"/>
            </a:xfrm>
          </p:grpSpPr>
          <p:sp>
            <p:nvSpPr>
              <p:cNvPr id="624" name=""/>
              <p:cNvSpPr/>
              <p:nvPr/>
            </p:nvSpPr>
            <p:spPr>
              <a:xfrm>
                <a:off x="676440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0544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7346880" y="2633400"/>
              <a:ext cx="84240" cy="82440"/>
              <a:chOff x="7346880" y="2633400"/>
              <a:chExt cx="84240" cy="82440"/>
            </a:xfrm>
          </p:grpSpPr>
          <p:sp>
            <p:nvSpPr>
              <p:cNvPr id="627" name=""/>
              <p:cNvSpPr/>
              <p:nvPr/>
            </p:nvSpPr>
            <p:spPr>
              <a:xfrm>
                <a:off x="7346880" y="2633400"/>
                <a:ext cx="842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8900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4471920" y="26748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54760" y="267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38680" y="26748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21520" y="267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83480" y="2674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89960" y="2433600"/>
              <a:ext cx="9081720" cy="90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30880" y="3294000"/>
              <a:ext cx="82440" cy="83520"/>
              <a:chOff x="4430880" y="3294000"/>
              <a:chExt cx="82440" cy="83520"/>
            </a:xfrm>
          </p:grpSpPr>
          <p:sp>
            <p:nvSpPr>
              <p:cNvPr id="636" name=""/>
              <p:cNvSpPr/>
              <p:nvPr/>
            </p:nvSpPr>
            <p:spPr>
              <a:xfrm>
                <a:off x="443088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192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013360" y="3294000"/>
              <a:ext cx="82440" cy="83520"/>
              <a:chOff x="5013360" y="3294000"/>
              <a:chExt cx="82440" cy="83520"/>
            </a:xfrm>
          </p:grpSpPr>
          <p:sp>
            <p:nvSpPr>
              <p:cNvPr id="639" name=""/>
              <p:cNvSpPr/>
              <p:nvPr/>
            </p:nvSpPr>
            <p:spPr>
              <a:xfrm>
                <a:off x="501336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5476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597640" y="3294000"/>
              <a:ext cx="82440" cy="83520"/>
              <a:chOff x="5597640" y="3294000"/>
              <a:chExt cx="82440" cy="83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9764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3868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180120" y="3294000"/>
              <a:ext cx="82440" cy="83520"/>
              <a:chOff x="6180120" y="3294000"/>
              <a:chExt cx="82440" cy="83520"/>
            </a:xfrm>
          </p:grpSpPr>
          <p:sp>
            <p:nvSpPr>
              <p:cNvPr id="645" name=""/>
              <p:cNvSpPr/>
              <p:nvPr/>
            </p:nvSpPr>
            <p:spPr>
              <a:xfrm>
                <a:off x="618012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2152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6764400" y="3294000"/>
              <a:ext cx="82440" cy="83520"/>
              <a:chOff x="6764400" y="3294000"/>
              <a:chExt cx="82440" cy="83520"/>
            </a:xfrm>
          </p:grpSpPr>
          <p:sp>
            <p:nvSpPr>
              <p:cNvPr id="648" name=""/>
              <p:cNvSpPr/>
              <p:nvPr/>
            </p:nvSpPr>
            <p:spPr>
              <a:xfrm>
                <a:off x="676440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0544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346880" y="3294000"/>
              <a:ext cx="84240" cy="83520"/>
              <a:chOff x="7346880" y="3294000"/>
              <a:chExt cx="84240" cy="83520"/>
            </a:xfrm>
          </p:grpSpPr>
          <p:sp>
            <p:nvSpPr>
              <p:cNvPr id="651" name=""/>
              <p:cNvSpPr/>
              <p:nvPr/>
            </p:nvSpPr>
            <p:spPr>
              <a:xfrm>
                <a:off x="7346880" y="3294000"/>
                <a:ext cx="842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8900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4471920" y="333504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54760" y="33350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38680" y="333504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21520" y="33350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05440" y="33350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89960" y="309528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430880" y="3954240"/>
              <a:ext cx="82440" cy="82080"/>
              <a:chOff x="4430880" y="3954240"/>
              <a:chExt cx="82440" cy="82080"/>
            </a:xfrm>
          </p:grpSpPr>
          <p:sp>
            <p:nvSpPr>
              <p:cNvPr id="660" name=""/>
              <p:cNvSpPr/>
              <p:nvPr/>
            </p:nvSpPr>
            <p:spPr>
              <a:xfrm>
                <a:off x="443088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7192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013360" y="3954240"/>
              <a:ext cx="82440" cy="82080"/>
              <a:chOff x="5013360" y="3954240"/>
              <a:chExt cx="82440" cy="82080"/>
            </a:xfrm>
          </p:grpSpPr>
          <p:sp>
            <p:nvSpPr>
              <p:cNvPr id="663" name=""/>
              <p:cNvSpPr/>
              <p:nvPr/>
            </p:nvSpPr>
            <p:spPr>
              <a:xfrm>
                <a:off x="501336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05476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597640" y="3954240"/>
              <a:ext cx="82440" cy="82080"/>
              <a:chOff x="5597640" y="3954240"/>
              <a:chExt cx="82440" cy="82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59764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3868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180120" y="3954240"/>
              <a:ext cx="82440" cy="82080"/>
              <a:chOff x="6180120" y="3954240"/>
              <a:chExt cx="82440" cy="82080"/>
            </a:xfrm>
          </p:grpSpPr>
          <p:sp>
            <p:nvSpPr>
              <p:cNvPr id="669" name=""/>
              <p:cNvSpPr/>
              <p:nvPr/>
            </p:nvSpPr>
            <p:spPr>
              <a:xfrm>
                <a:off x="618012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152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764400" y="3954240"/>
              <a:ext cx="82440" cy="82080"/>
              <a:chOff x="6764400" y="3954240"/>
              <a:chExt cx="82440" cy="8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676440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0544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346880" y="3954240"/>
              <a:ext cx="84240" cy="82080"/>
              <a:chOff x="7346880" y="3954240"/>
              <a:chExt cx="84240" cy="82080"/>
            </a:xfrm>
          </p:grpSpPr>
          <p:sp>
            <p:nvSpPr>
              <p:cNvPr id="675" name=""/>
              <p:cNvSpPr/>
              <p:nvPr/>
            </p:nvSpPr>
            <p:spPr>
              <a:xfrm>
                <a:off x="7346880" y="3954240"/>
                <a:ext cx="842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8900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471920" y="3995640"/>
              <a:ext cx="5828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54760" y="3995640"/>
              <a:ext cx="583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8680" y="3995640"/>
              <a:ext cx="5828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21520" y="3995640"/>
              <a:ext cx="583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5440" y="3995640"/>
              <a:ext cx="574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89960" y="375588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284720" y="319680"/>
              <a:ext cx="5371560" cy="5370120"/>
              <a:chOff x="4284720" y="319680"/>
              <a:chExt cx="5371560" cy="5370120"/>
            </a:xfrm>
          </p:grpSpPr>
          <p:sp>
            <p:nvSpPr>
              <p:cNvPr id="684" name=""/>
              <p:cNvSpPr/>
              <p:nvPr/>
            </p:nvSpPr>
            <p:spPr>
              <a:xfrm flipV="1">
                <a:off x="4471200" y="333540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4471200" y="26744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4471200" y="20138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284720" y="31968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4853160" y="312120"/>
              <a:ext cx="5371560" cy="5374080"/>
              <a:chOff x="4853160" y="312120"/>
              <a:chExt cx="5371560" cy="537408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5039640" y="3330360"/>
                <a:ext cx="0" cy="66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5039640" y="266904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039640" y="200808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53160" y="312120"/>
                <a:ext cx="5371560" cy="53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460840" y="307800"/>
              <a:ext cx="5372280" cy="5373360"/>
              <a:chOff x="5460840" y="307800"/>
              <a:chExt cx="5372280" cy="5373360"/>
            </a:xfrm>
          </p:grpSpPr>
          <p:sp>
            <p:nvSpPr>
              <p:cNvPr id="694" name=""/>
              <p:cNvSpPr/>
              <p:nvPr/>
            </p:nvSpPr>
            <p:spPr>
              <a:xfrm flipV="1">
                <a:off x="5647320" y="33249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647320" y="266436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647320" y="200340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60840" y="307800"/>
                <a:ext cx="5372280" cy="537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029280" y="303840"/>
              <a:ext cx="5371560" cy="5370120"/>
              <a:chOff x="6029280" y="303840"/>
              <a:chExt cx="5371560" cy="537012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6215760" y="331956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6215760" y="265860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215760" y="199800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29280" y="30384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613560" y="319680"/>
              <a:ext cx="5371560" cy="5370120"/>
              <a:chOff x="6613560" y="319680"/>
              <a:chExt cx="5371560" cy="537012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6800040" y="333540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800040" y="26744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800040" y="20138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3560" y="31968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7202520" y="312120"/>
              <a:ext cx="5371560" cy="5374080"/>
              <a:chOff x="7202520" y="312120"/>
              <a:chExt cx="5371560" cy="537408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7389000" y="3330360"/>
                <a:ext cx="0" cy="66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389000" y="266904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389000" y="200808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02520" y="312120"/>
                <a:ext cx="5371560" cy="53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042920" y="2492280"/>
            <a:ext cx="216000" cy="142920"/>
            <a:chOff x="1042920" y="2492280"/>
            <a:chExt cx="216000" cy="142920"/>
          </a:xfrm>
        </p:grpSpPr>
        <p:sp>
          <p:nvSpPr>
            <p:cNvPr id="714" name=""/>
            <p:cNvSpPr/>
            <p:nvPr/>
          </p:nvSpPr>
          <p:spPr>
            <a:xfrm>
              <a:off x="1042920" y="2492280"/>
              <a:ext cx="216000" cy="14292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042920" y="2492280"/>
              <a:ext cx="216000" cy="14292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053080" y="5445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eoretic appro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ative and Assoc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00000" y="1773360"/>
            <a:ext cx="7559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m 1. 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71640" y="3789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.  Cartesian product and tensor product are commutative and associ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00000" y="5445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Basic mathematical observ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cursively 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cursively 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rollary 2.  For any permutation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on the set {1,2,…,n}, we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i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, we define the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808080"/>
                </a:solidFill>
                <a:latin typeface="Arial"/>
              </a:rPr>
              <a:t>th projectio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as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p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: 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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p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((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,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,…,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))=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j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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j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j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42920" y="508464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= 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ful edge fault tolerant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92200" y="1996920"/>
            <a:ext cx="127080" cy="127080"/>
            <a:chOff x="1492200" y="1996920"/>
            <a:chExt cx="127080" cy="127080"/>
          </a:xfrm>
        </p:grpSpPr>
        <p:sp>
          <p:nvSpPr>
            <p:cNvPr id="729" name=""/>
            <p:cNvSpPr/>
            <p:nvPr/>
          </p:nvSpPr>
          <p:spPr>
            <a:xfrm>
              <a:off x="149220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55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029040" y="1996920"/>
            <a:ext cx="127080" cy="127080"/>
            <a:chOff x="3029040" y="1996920"/>
            <a:chExt cx="127080" cy="127080"/>
          </a:xfrm>
        </p:grpSpPr>
        <p:sp>
          <p:nvSpPr>
            <p:cNvPr id="732" name=""/>
            <p:cNvSpPr/>
            <p:nvPr/>
          </p:nvSpPr>
          <p:spPr>
            <a:xfrm>
              <a:off x="302904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924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564080" y="1996920"/>
            <a:ext cx="127080" cy="127080"/>
            <a:chOff x="4564080" y="1996920"/>
            <a:chExt cx="127080" cy="127080"/>
          </a:xfrm>
        </p:grpSpPr>
        <p:sp>
          <p:nvSpPr>
            <p:cNvPr id="735" name=""/>
            <p:cNvSpPr/>
            <p:nvPr/>
          </p:nvSpPr>
          <p:spPr>
            <a:xfrm>
              <a:off x="456408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278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6100920" y="1996920"/>
            <a:ext cx="126720" cy="127080"/>
            <a:chOff x="6100920" y="1996920"/>
            <a:chExt cx="126720" cy="127080"/>
          </a:xfrm>
        </p:grpSpPr>
        <p:sp>
          <p:nvSpPr>
            <p:cNvPr id="738" name=""/>
            <p:cNvSpPr/>
            <p:nvPr/>
          </p:nvSpPr>
          <p:spPr>
            <a:xfrm>
              <a:off x="6100920" y="1996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63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389680" y="-66672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-515160" y="1405080"/>
            <a:ext cx="875304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555920" y="206064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92400" y="20606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27440" y="20606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492200" y="4829040"/>
            <a:ext cx="127080" cy="127080"/>
            <a:chOff x="1492200" y="4829040"/>
            <a:chExt cx="127080" cy="127080"/>
          </a:xfrm>
        </p:grpSpPr>
        <p:sp>
          <p:nvSpPr>
            <p:cNvPr id="746" name=""/>
            <p:cNvSpPr/>
            <p:nvPr/>
          </p:nvSpPr>
          <p:spPr>
            <a:xfrm>
              <a:off x="149220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5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029040" y="4829040"/>
            <a:ext cx="127080" cy="127080"/>
            <a:chOff x="3029040" y="4829040"/>
            <a:chExt cx="127080" cy="127080"/>
          </a:xfrm>
        </p:grpSpPr>
        <p:sp>
          <p:nvSpPr>
            <p:cNvPr id="749" name=""/>
            <p:cNvSpPr/>
            <p:nvPr/>
          </p:nvSpPr>
          <p:spPr>
            <a:xfrm>
              <a:off x="302904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924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564080" y="4829040"/>
            <a:ext cx="127080" cy="127080"/>
            <a:chOff x="4564080" y="4829040"/>
            <a:chExt cx="127080" cy="127080"/>
          </a:xfrm>
        </p:grpSpPr>
        <p:sp>
          <p:nvSpPr>
            <p:cNvPr id="752" name=""/>
            <p:cNvSpPr/>
            <p:nvPr/>
          </p:nvSpPr>
          <p:spPr>
            <a:xfrm>
              <a:off x="456408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278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00920" y="4829040"/>
            <a:ext cx="126720" cy="127080"/>
            <a:chOff x="6100920" y="4829040"/>
            <a:chExt cx="126720" cy="127080"/>
          </a:xfrm>
        </p:grpSpPr>
        <p:sp>
          <p:nvSpPr>
            <p:cNvPr id="755" name=""/>
            <p:cNvSpPr/>
            <p:nvPr/>
          </p:nvSpPr>
          <p:spPr>
            <a:xfrm>
              <a:off x="6100920" y="4829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63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555920" y="489276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92400" y="4892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27440" y="4892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492200" y="3500280"/>
            <a:ext cx="127080" cy="127080"/>
            <a:chOff x="1492200" y="3500280"/>
            <a:chExt cx="127080" cy="127080"/>
          </a:xfrm>
        </p:grpSpPr>
        <p:sp>
          <p:nvSpPr>
            <p:cNvPr id="761" name=""/>
            <p:cNvSpPr/>
            <p:nvPr/>
          </p:nvSpPr>
          <p:spPr>
            <a:xfrm>
              <a:off x="149220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5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029040" y="3500280"/>
            <a:ext cx="127080" cy="127080"/>
            <a:chOff x="3029040" y="3500280"/>
            <a:chExt cx="127080" cy="127080"/>
          </a:xfrm>
        </p:grpSpPr>
        <p:sp>
          <p:nvSpPr>
            <p:cNvPr id="764" name=""/>
            <p:cNvSpPr/>
            <p:nvPr/>
          </p:nvSpPr>
          <p:spPr>
            <a:xfrm>
              <a:off x="302904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924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564080" y="3500280"/>
            <a:ext cx="127080" cy="127080"/>
            <a:chOff x="4564080" y="3500280"/>
            <a:chExt cx="127080" cy="127080"/>
          </a:xfrm>
        </p:grpSpPr>
        <p:sp>
          <p:nvSpPr>
            <p:cNvPr id="767" name=""/>
            <p:cNvSpPr/>
            <p:nvPr/>
          </p:nvSpPr>
          <p:spPr>
            <a:xfrm>
              <a:off x="456408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278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100920" y="3500280"/>
            <a:ext cx="126720" cy="127080"/>
            <a:chOff x="6100920" y="3500280"/>
            <a:chExt cx="126720" cy="127080"/>
          </a:xfrm>
        </p:grpSpPr>
        <p:sp>
          <p:nvSpPr>
            <p:cNvPr id="770" name=""/>
            <p:cNvSpPr/>
            <p:nvPr/>
          </p:nvSpPr>
          <p:spPr>
            <a:xfrm>
              <a:off x="6100920" y="35002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63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555920" y="356400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92400" y="356400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627440" y="356400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55592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5592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16428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55556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9240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62744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45320" y="155736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8520" y="12682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Mo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53600" y="3995640"/>
            <a:ext cx="195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41440" y="58770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ge set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ful edge fault tolerant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492200" y="1996920"/>
            <a:ext cx="127080" cy="127080"/>
            <a:chOff x="1492200" y="1996920"/>
            <a:chExt cx="127080" cy="127080"/>
          </a:xfrm>
        </p:grpSpPr>
        <p:sp>
          <p:nvSpPr>
            <p:cNvPr id="789" name=""/>
            <p:cNvSpPr/>
            <p:nvPr/>
          </p:nvSpPr>
          <p:spPr>
            <a:xfrm>
              <a:off x="149220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55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029040" y="1996920"/>
            <a:ext cx="127080" cy="127080"/>
            <a:chOff x="3029040" y="1996920"/>
            <a:chExt cx="127080" cy="127080"/>
          </a:xfrm>
        </p:grpSpPr>
        <p:sp>
          <p:nvSpPr>
            <p:cNvPr id="792" name=""/>
            <p:cNvSpPr/>
            <p:nvPr/>
          </p:nvSpPr>
          <p:spPr>
            <a:xfrm>
              <a:off x="302904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924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564080" y="1996920"/>
            <a:ext cx="127080" cy="127080"/>
            <a:chOff x="4564080" y="1996920"/>
            <a:chExt cx="127080" cy="127080"/>
          </a:xfrm>
        </p:grpSpPr>
        <p:sp>
          <p:nvSpPr>
            <p:cNvPr id="795" name=""/>
            <p:cNvSpPr/>
            <p:nvPr/>
          </p:nvSpPr>
          <p:spPr>
            <a:xfrm>
              <a:off x="456408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278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100920" y="1996920"/>
            <a:ext cx="126720" cy="127080"/>
            <a:chOff x="6100920" y="1996920"/>
            <a:chExt cx="126720" cy="127080"/>
          </a:xfrm>
        </p:grpSpPr>
        <p:sp>
          <p:nvSpPr>
            <p:cNvPr id="798" name=""/>
            <p:cNvSpPr/>
            <p:nvPr/>
          </p:nvSpPr>
          <p:spPr>
            <a:xfrm>
              <a:off x="6100920" y="1996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63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389680" y="-66672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-515160" y="1405080"/>
            <a:ext cx="875304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55920" y="206064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92400" y="20606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27440" y="20606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492200" y="4829040"/>
            <a:ext cx="127080" cy="127080"/>
            <a:chOff x="1492200" y="4829040"/>
            <a:chExt cx="127080" cy="127080"/>
          </a:xfrm>
        </p:grpSpPr>
        <p:sp>
          <p:nvSpPr>
            <p:cNvPr id="806" name=""/>
            <p:cNvSpPr/>
            <p:nvPr/>
          </p:nvSpPr>
          <p:spPr>
            <a:xfrm>
              <a:off x="149220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55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29040" y="4829040"/>
            <a:ext cx="127080" cy="127080"/>
            <a:chOff x="3029040" y="4829040"/>
            <a:chExt cx="127080" cy="127080"/>
          </a:xfrm>
        </p:grpSpPr>
        <p:sp>
          <p:nvSpPr>
            <p:cNvPr id="809" name=""/>
            <p:cNvSpPr/>
            <p:nvPr/>
          </p:nvSpPr>
          <p:spPr>
            <a:xfrm>
              <a:off x="302904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924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564080" y="4829040"/>
            <a:ext cx="127080" cy="127080"/>
            <a:chOff x="4564080" y="4829040"/>
            <a:chExt cx="127080" cy="127080"/>
          </a:xfrm>
        </p:grpSpPr>
        <p:sp>
          <p:nvSpPr>
            <p:cNvPr id="812" name=""/>
            <p:cNvSpPr/>
            <p:nvPr/>
          </p:nvSpPr>
          <p:spPr>
            <a:xfrm>
              <a:off x="456408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278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100920" y="4829040"/>
            <a:ext cx="126720" cy="127080"/>
            <a:chOff x="6100920" y="4829040"/>
            <a:chExt cx="126720" cy="127080"/>
          </a:xfrm>
        </p:grpSpPr>
        <p:sp>
          <p:nvSpPr>
            <p:cNvPr id="815" name=""/>
            <p:cNvSpPr/>
            <p:nvPr/>
          </p:nvSpPr>
          <p:spPr>
            <a:xfrm>
              <a:off x="6100920" y="4829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63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555920" y="489276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92400" y="4892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627440" y="4892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492200" y="3500280"/>
            <a:ext cx="127080" cy="127080"/>
            <a:chOff x="1492200" y="3500280"/>
            <a:chExt cx="127080" cy="127080"/>
          </a:xfrm>
        </p:grpSpPr>
        <p:sp>
          <p:nvSpPr>
            <p:cNvPr id="821" name=""/>
            <p:cNvSpPr/>
            <p:nvPr/>
          </p:nvSpPr>
          <p:spPr>
            <a:xfrm>
              <a:off x="149220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55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3029040" y="3500280"/>
            <a:ext cx="127080" cy="127080"/>
            <a:chOff x="3029040" y="3500280"/>
            <a:chExt cx="127080" cy="127080"/>
          </a:xfrm>
        </p:grpSpPr>
        <p:sp>
          <p:nvSpPr>
            <p:cNvPr id="824" name=""/>
            <p:cNvSpPr/>
            <p:nvPr/>
          </p:nvSpPr>
          <p:spPr>
            <a:xfrm>
              <a:off x="302904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924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564080" y="3500280"/>
            <a:ext cx="127080" cy="127080"/>
            <a:chOff x="4564080" y="3500280"/>
            <a:chExt cx="127080" cy="127080"/>
          </a:xfrm>
        </p:grpSpPr>
        <p:sp>
          <p:nvSpPr>
            <p:cNvPr id="827" name=""/>
            <p:cNvSpPr/>
            <p:nvPr/>
          </p:nvSpPr>
          <p:spPr>
            <a:xfrm>
              <a:off x="456408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278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100920" y="3500280"/>
            <a:ext cx="126720" cy="127080"/>
            <a:chOff x="6100920" y="3500280"/>
            <a:chExt cx="126720" cy="127080"/>
          </a:xfrm>
        </p:grpSpPr>
        <p:sp>
          <p:nvSpPr>
            <p:cNvPr id="830" name=""/>
            <p:cNvSpPr/>
            <p:nvPr/>
          </p:nvSpPr>
          <p:spPr>
            <a:xfrm>
              <a:off x="6100920" y="35002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63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555920" y="356400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092400" y="356400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27440" y="356400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5592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5592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16428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55556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9240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2744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2240" y="5300640"/>
            <a:ext cx="2564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ge set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 Y</a:t>
            </a:r>
            <a:r>
              <a:rPr b="0" lang="en-US" sz="36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34180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 graph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faithfu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faithful graph with respect to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denoted by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FG(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if it satisfies the following two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) There exists a function 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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: V(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V(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such that the function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:V(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h:V(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given by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=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=(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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duces an isomorphism fro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 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o a subgraph of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G*,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C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-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1692360" y="2924280"/>
            <a:ext cx="4735440" cy="1455480"/>
            <a:chOff x="1692360" y="2924280"/>
            <a:chExt cx="4735440" cy="1455480"/>
          </a:xfrm>
        </p:grpSpPr>
        <p:grpSp>
          <p:nvGrpSpPr>
            <p:cNvPr id="848" name=""/>
            <p:cNvGrpSpPr/>
            <p:nvPr/>
          </p:nvGrpSpPr>
          <p:grpSpPr>
            <a:xfrm>
              <a:off x="1692360" y="4253040"/>
              <a:ext cx="127080" cy="126720"/>
              <a:chOff x="1692360" y="4253040"/>
              <a:chExt cx="127080" cy="126720"/>
            </a:xfrm>
          </p:grpSpPr>
          <p:sp>
            <p:nvSpPr>
              <p:cNvPr id="849" name=""/>
              <p:cNvSpPr/>
              <p:nvPr/>
            </p:nvSpPr>
            <p:spPr>
              <a:xfrm>
                <a:off x="169236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5608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3228840" y="4253040"/>
              <a:ext cx="127080" cy="126720"/>
              <a:chOff x="3228840" y="4253040"/>
              <a:chExt cx="127080" cy="126720"/>
            </a:xfrm>
          </p:grpSpPr>
          <p:sp>
            <p:nvSpPr>
              <p:cNvPr id="852" name=""/>
              <p:cNvSpPr/>
              <p:nvPr/>
            </p:nvSpPr>
            <p:spPr>
              <a:xfrm>
                <a:off x="322884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9220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4764240" y="4253040"/>
              <a:ext cx="126720" cy="126720"/>
              <a:chOff x="4764240" y="4253040"/>
              <a:chExt cx="126720" cy="126720"/>
            </a:xfrm>
          </p:grpSpPr>
          <p:sp>
            <p:nvSpPr>
              <p:cNvPr id="855" name=""/>
              <p:cNvSpPr/>
              <p:nvPr/>
            </p:nvSpPr>
            <p:spPr>
              <a:xfrm>
                <a:off x="4764240" y="425304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2760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300720" y="4253040"/>
              <a:ext cx="127080" cy="126720"/>
              <a:chOff x="6300720" y="4253040"/>
              <a:chExt cx="127080" cy="126720"/>
            </a:xfrm>
          </p:grpSpPr>
          <p:sp>
            <p:nvSpPr>
              <p:cNvPr id="858" name=""/>
              <p:cNvSpPr/>
              <p:nvPr/>
            </p:nvSpPr>
            <p:spPr>
              <a:xfrm>
                <a:off x="630072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36408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1755720" y="43164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92560" y="431640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7600" y="43164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1692360" y="2924280"/>
              <a:ext cx="127080" cy="126720"/>
              <a:chOff x="1692360" y="2924280"/>
              <a:chExt cx="127080" cy="126720"/>
            </a:xfrm>
          </p:grpSpPr>
          <p:sp>
            <p:nvSpPr>
              <p:cNvPr id="864" name=""/>
              <p:cNvSpPr/>
              <p:nvPr/>
            </p:nvSpPr>
            <p:spPr>
              <a:xfrm>
                <a:off x="169236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75608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228840" y="2924280"/>
              <a:ext cx="127080" cy="126720"/>
              <a:chOff x="3228840" y="2924280"/>
              <a:chExt cx="127080" cy="126720"/>
            </a:xfrm>
          </p:grpSpPr>
          <p:sp>
            <p:nvSpPr>
              <p:cNvPr id="867" name=""/>
              <p:cNvSpPr/>
              <p:nvPr/>
            </p:nvSpPr>
            <p:spPr>
              <a:xfrm>
                <a:off x="322884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9220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764240" y="2924280"/>
              <a:ext cx="126720" cy="126720"/>
              <a:chOff x="4764240" y="2924280"/>
              <a:chExt cx="126720" cy="126720"/>
            </a:xfrm>
          </p:grpSpPr>
          <p:sp>
            <p:nvSpPr>
              <p:cNvPr id="870" name=""/>
              <p:cNvSpPr/>
              <p:nvPr/>
            </p:nvSpPr>
            <p:spPr>
              <a:xfrm>
                <a:off x="4764240" y="292428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2760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6300720" y="2924280"/>
              <a:ext cx="127080" cy="126720"/>
              <a:chOff x="6300720" y="2924280"/>
              <a:chExt cx="127080" cy="126720"/>
            </a:xfrm>
          </p:grpSpPr>
          <p:sp>
            <p:nvSpPr>
              <p:cNvPr id="873" name=""/>
              <p:cNvSpPr/>
              <p:nvPr/>
            </p:nvSpPr>
            <p:spPr>
              <a:xfrm>
                <a:off x="630072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36408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755720" y="29876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92560" y="298764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27600" y="29876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55720" y="2987640"/>
              <a:ext cx="460872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1755720" y="2987640"/>
              <a:ext cx="460872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292560" y="2987280"/>
              <a:ext cx="153504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3292560" y="2987280"/>
              <a:ext cx="153504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708200" y="1235160"/>
            <a:ext cx="4735440" cy="127080"/>
            <a:chOff x="1708200" y="1235160"/>
            <a:chExt cx="4735440" cy="127080"/>
          </a:xfrm>
        </p:grpSpPr>
        <p:grpSp>
          <p:nvGrpSpPr>
            <p:cNvPr id="883" name=""/>
            <p:cNvGrpSpPr/>
            <p:nvPr/>
          </p:nvGrpSpPr>
          <p:grpSpPr>
            <a:xfrm>
              <a:off x="1708200" y="1235160"/>
              <a:ext cx="127080" cy="127080"/>
              <a:chOff x="1708200" y="1235160"/>
              <a:chExt cx="127080" cy="127080"/>
            </a:xfrm>
          </p:grpSpPr>
          <p:sp>
            <p:nvSpPr>
              <p:cNvPr id="884" name=""/>
              <p:cNvSpPr/>
              <p:nvPr/>
            </p:nvSpPr>
            <p:spPr>
              <a:xfrm>
                <a:off x="170820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7192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244680" y="1235160"/>
              <a:ext cx="127080" cy="127080"/>
              <a:chOff x="3244680" y="1235160"/>
              <a:chExt cx="127080" cy="127080"/>
            </a:xfrm>
          </p:grpSpPr>
          <p:sp>
            <p:nvSpPr>
              <p:cNvPr id="887" name=""/>
              <p:cNvSpPr/>
              <p:nvPr/>
            </p:nvSpPr>
            <p:spPr>
              <a:xfrm>
                <a:off x="324468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804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4780080" y="1235160"/>
              <a:ext cx="126720" cy="127080"/>
              <a:chOff x="4780080" y="1235160"/>
              <a:chExt cx="126720" cy="127080"/>
            </a:xfrm>
          </p:grpSpPr>
          <p:sp>
            <p:nvSpPr>
              <p:cNvPr id="890" name=""/>
              <p:cNvSpPr/>
              <p:nvPr/>
            </p:nvSpPr>
            <p:spPr>
              <a:xfrm>
                <a:off x="4780080" y="1235160"/>
                <a:ext cx="12672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4344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6316560" y="1235160"/>
              <a:ext cx="127080" cy="127080"/>
              <a:chOff x="6316560" y="1235160"/>
              <a:chExt cx="127080" cy="127080"/>
            </a:xfrm>
          </p:grpSpPr>
          <p:sp>
            <p:nvSpPr>
              <p:cNvPr id="893" name=""/>
              <p:cNvSpPr/>
              <p:nvPr/>
            </p:nvSpPr>
            <p:spPr>
              <a:xfrm>
                <a:off x="631656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37992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1771560" y="1298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08400" y="129852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43440" y="1298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708200" y="2165400"/>
            <a:ext cx="4735440" cy="127080"/>
            <a:chOff x="1708200" y="2165400"/>
            <a:chExt cx="4735440" cy="127080"/>
          </a:xfrm>
        </p:grpSpPr>
        <p:sp>
          <p:nvSpPr>
            <p:cNvPr id="899" name=""/>
            <p:cNvSpPr/>
            <p:nvPr/>
          </p:nvSpPr>
          <p:spPr>
            <a:xfrm>
              <a:off x="170820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156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4468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0840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0080" y="21654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4344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1656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8028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71560" y="22287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08400" y="222876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3440" y="22287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908000" y="1413000"/>
            <a:ext cx="5243400" cy="647640"/>
            <a:chOff x="1908000" y="1413000"/>
            <a:chExt cx="5243400" cy="647640"/>
          </a:xfrm>
        </p:grpSpPr>
        <p:sp>
          <p:nvSpPr>
            <p:cNvPr id="911" name=""/>
            <p:cNvSpPr/>
            <p:nvPr/>
          </p:nvSpPr>
          <p:spPr>
            <a:xfrm>
              <a:off x="1908000" y="1484280"/>
              <a:ext cx="4104000" cy="576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48000" y="1413000"/>
              <a:ext cx="1440000" cy="576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348000" y="1413000"/>
              <a:ext cx="1511280" cy="64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908000" y="1484280"/>
              <a:ext cx="4392720" cy="576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86360" y="1498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692360" y="4853160"/>
            <a:ext cx="4735440" cy="1455480"/>
            <a:chOff x="1692360" y="4853160"/>
            <a:chExt cx="4735440" cy="1455480"/>
          </a:xfrm>
        </p:grpSpPr>
        <p:grpSp>
          <p:nvGrpSpPr>
            <p:cNvPr id="917" name=""/>
            <p:cNvGrpSpPr/>
            <p:nvPr/>
          </p:nvGrpSpPr>
          <p:grpSpPr>
            <a:xfrm>
              <a:off x="1692360" y="6181560"/>
              <a:ext cx="127080" cy="127080"/>
              <a:chOff x="1692360" y="6181560"/>
              <a:chExt cx="127080" cy="127080"/>
            </a:xfrm>
          </p:grpSpPr>
          <p:sp>
            <p:nvSpPr>
              <p:cNvPr id="918" name=""/>
              <p:cNvSpPr/>
              <p:nvPr/>
            </p:nvSpPr>
            <p:spPr>
              <a:xfrm>
                <a:off x="169236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75608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228840" y="6181560"/>
              <a:ext cx="127080" cy="127080"/>
              <a:chOff x="3228840" y="6181560"/>
              <a:chExt cx="127080" cy="127080"/>
            </a:xfrm>
          </p:grpSpPr>
          <p:sp>
            <p:nvSpPr>
              <p:cNvPr id="921" name=""/>
              <p:cNvSpPr/>
              <p:nvPr/>
            </p:nvSpPr>
            <p:spPr>
              <a:xfrm>
                <a:off x="322884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9220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4764240" y="6181560"/>
              <a:ext cx="126720" cy="127080"/>
              <a:chOff x="4764240" y="6181560"/>
              <a:chExt cx="126720" cy="127080"/>
            </a:xfrm>
          </p:grpSpPr>
          <p:sp>
            <p:nvSpPr>
              <p:cNvPr id="924" name=""/>
              <p:cNvSpPr/>
              <p:nvPr/>
            </p:nvSpPr>
            <p:spPr>
              <a:xfrm>
                <a:off x="4764240" y="6181560"/>
                <a:ext cx="12672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82760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6300720" y="6181560"/>
              <a:ext cx="127080" cy="127080"/>
              <a:chOff x="6300720" y="6181560"/>
              <a:chExt cx="127080" cy="127080"/>
            </a:xfrm>
          </p:grpSpPr>
          <p:sp>
            <p:nvSpPr>
              <p:cNvPr id="927" name=""/>
              <p:cNvSpPr/>
              <p:nvPr/>
            </p:nvSpPr>
            <p:spPr>
              <a:xfrm>
                <a:off x="630072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36408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1755720" y="62452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92560" y="624528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27600" y="62452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1692360" y="4853160"/>
              <a:ext cx="127080" cy="126720"/>
              <a:chOff x="1692360" y="4853160"/>
              <a:chExt cx="127080" cy="126720"/>
            </a:xfrm>
          </p:grpSpPr>
          <p:sp>
            <p:nvSpPr>
              <p:cNvPr id="933" name=""/>
              <p:cNvSpPr/>
              <p:nvPr/>
            </p:nvSpPr>
            <p:spPr>
              <a:xfrm>
                <a:off x="169236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5608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228840" y="4853160"/>
              <a:ext cx="127080" cy="126720"/>
              <a:chOff x="3228840" y="4853160"/>
              <a:chExt cx="127080" cy="126720"/>
            </a:xfrm>
          </p:grpSpPr>
          <p:sp>
            <p:nvSpPr>
              <p:cNvPr id="936" name=""/>
              <p:cNvSpPr/>
              <p:nvPr/>
            </p:nvSpPr>
            <p:spPr>
              <a:xfrm>
                <a:off x="322884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9220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764240" y="4853160"/>
              <a:ext cx="126720" cy="126720"/>
              <a:chOff x="4764240" y="4853160"/>
              <a:chExt cx="126720" cy="126720"/>
            </a:xfrm>
          </p:grpSpPr>
          <p:sp>
            <p:nvSpPr>
              <p:cNvPr id="939" name=""/>
              <p:cNvSpPr/>
              <p:nvPr/>
            </p:nvSpPr>
            <p:spPr>
              <a:xfrm>
                <a:off x="4764240" y="485316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2760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300720" y="4853160"/>
              <a:ext cx="127080" cy="126720"/>
              <a:chOff x="6300720" y="4853160"/>
              <a:chExt cx="127080" cy="126720"/>
            </a:xfrm>
          </p:grpSpPr>
          <p:sp>
            <p:nvSpPr>
              <p:cNvPr id="942" name=""/>
              <p:cNvSpPr/>
              <p:nvPr/>
            </p:nvSpPr>
            <p:spPr>
              <a:xfrm>
                <a:off x="630072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36408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1755720" y="4916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491652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27600" y="4916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755720" y="491616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6364440" y="491616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92560" y="491652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27600" y="491652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9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. Harary and J. P. Hayes, Edge fault tolerance in graphs, Networks 23 (1993) 135-1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2) For any edge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e=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j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there exists an isomorphis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to a subgraph of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G*,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C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-Y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 = 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s the 1st pro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708200" y="1444680"/>
            <a:ext cx="127080" cy="127080"/>
            <a:chOff x="1708200" y="1444680"/>
            <a:chExt cx="127080" cy="127080"/>
          </a:xfrm>
        </p:grpSpPr>
        <p:sp>
          <p:nvSpPr>
            <p:cNvPr id="953" name=""/>
            <p:cNvSpPr/>
            <p:nvPr/>
          </p:nvSpPr>
          <p:spPr>
            <a:xfrm>
              <a:off x="170820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7192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244680" y="1444680"/>
            <a:ext cx="127080" cy="127080"/>
            <a:chOff x="3244680" y="1444680"/>
            <a:chExt cx="127080" cy="127080"/>
          </a:xfrm>
        </p:grpSpPr>
        <p:sp>
          <p:nvSpPr>
            <p:cNvPr id="956" name=""/>
            <p:cNvSpPr/>
            <p:nvPr/>
          </p:nvSpPr>
          <p:spPr>
            <a:xfrm>
              <a:off x="324468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0804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780080" y="1444680"/>
            <a:ext cx="126720" cy="127080"/>
            <a:chOff x="4780080" y="1444680"/>
            <a:chExt cx="126720" cy="127080"/>
          </a:xfrm>
        </p:grpSpPr>
        <p:sp>
          <p:nvSpPr>
            <p:cNvPr id="959" name=""/>
            <p:cNvSpPr/>
            <p:nvPr/>
          </p:nvSpPr>
          <p:spPr>
            <a:xfrm>
              <a:off x="4780080" y="14446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4344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316560" y="1444680"/>
            <a:ext cx="127080" cy="127080"/>
            <a:chOff x="6316560" y="1444680"/>
            <a:chExt cx="127080" cy="127080"/>
          </a:xfrm>
        </p:grpSpPr>
        <p:sp>
          <p:nvSpPr>
            <p:cNvPr id="962" name=""/>
            <p:cNvSpPr/>
            <p:nvPr/>
          </p:nvSpPr>
          <p:spPr>
            <a:xfrm>
              <a:off x="631656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7992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2605320" y="-121896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299160" y="852480"/>
            <a:ext cx="8753040" cy="875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71560" y="15080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08400" y="15080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843440" y="15080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708200" y="3844800"/>
            <a:ext cx="127080" cy="127080"/>
            <a:chOff x="1708200" y="3844800"/>
            <a:chExt cx="127080" cy="127080"/>
          </a:xfrm>
        </p:grpSpPr>
        <p:sp>
          <p:nvSpPr>
            <p:cNvPr id="970" name=""/>
            <p:cNvSpPr/>
            <p:nvPr/>
          </p:nvSpPr>
          <p:spPr>
            <a:xfrm>
              <a:off x="170820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7192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244680" y="3844800"/>
            <a:ext cx="127080" cy="127080"/>
            <a:chOff x="3244680" y="3844800"/>
            <a:chExt cx="127080" cy="127080"/>
          </a:xfrm>
        </p:grpSpPr>
        <p:sp>
          <p:nvSpPr>
            <p:cNvPr id="973" name=""/>
            <p:cNvSpPr/>
            <p:nvPr/>
          </p:nvSpPr>
          <p:spPr>
            <a:xfrm>
              <a:off x="324468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30804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780080" y="3844800"/>
            <a:ext cx="126720" cy="127080"/>
            <a:chOff x="4780080" y="3844800"/>
            <a:chExt cx="126720" cy="127080"/>
          </a:xfrm>
        </p:grpSpPr>
        <p:sp>
          <p:nvSpPr>
            <p:cNvPr id="976" name=""/>
            <p:cNvSpPr/>
            <p:nvPr/>
          </p:nvSpPr>
          <p:spPr>
            <a:xfrm>
              <a:off x="4780080" y="3844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4344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6316560" y="3844800"/>
            <a:ext cx="127080" cy="127080"/>
            <a:chOff x="6316560" y="3844800"/>
            <a:chExt cx="127080" cy="127080"/>
          </a:xfrm>
        </p:grpSpPr>
        <p:sp>
          <p:nvSpPr>
            <p:cNvPr id="979" name=""/>
            <p:cNvSpPr/>
            <p:nvPr/>
          </p:nvSpPr>
          <p:spPr>
            <a:xfrm>
              <a:off x="631656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7992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771560" y="3908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308400" y="390852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43440" y="3908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708200" y="2516040"/>
            <a:ext cx="127080" cy="127080"/>
            <a:chOff x="1708200" y="2516040"/>
            <a:chExt cx="127080" cy="127080"/>
          </a:xfrm>
        </p:grpSpPr>
        <p:sp>
          <p:nvSpPr>
            <p:cNvPr id="985" name=""/>
            <p:cNvSpPr/>
            <p:nvPr/>
          </p:nvSpPr>
          <p:spPr>
            <a:xfrm>
              <a:off x="170820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7192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244680" y="2516040"/>
            <a:ext cx="127080" cy="127080"/>
            <a:chOff x="3244680" y="2516040"/>
            <a:chExt cx="127080" cy="127080"/>
          </a:xfrm>
        </p:grpSpPr>
        <p:sp>
          <p:nvSpPr>
            <p:cNvPr id="988" name=""/>
            <p:cNvSpPr/>
            <p:nvPr/>
          </p:nvSpPr>
          <p:spPr>
            <a:xfrm>
              <a:off x="324468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0804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4780080" y="2516040"/>
            <a:ext cx="126720" cy="127080"/>
            <a:chOff x="4780080" y="2516040"/>
            <a:chExt cx="126720" cy="127080"/>
          </a:xfrm>
        </p:grpSpPr>
        <p:sp>
          <p:nvSpPr>
            <p:cNvPr id="991" name=""/>
            <p:cNvSpPr/>
            <p:nvPr/>
          </p:nvSpPr>
          <p:spPr>
            <a:xfrm>
              <a:off x="4780080" y="2516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4344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316560" y="2516040"/>
            <a:ext cx="127080" cy="127080"/>
            <a:chOff x="6316560" y="2516040"/>
            <a:chExt cx="127080" cy="127080"/>
          </a:xfrm>
        </p:grpSpPr>
        <p:sp>
          <p:nvSpPr>
            <p:cNvPr id="994" name=""/>
            <p:cNvSpPr/>
            <p:nvPr/>
          </p:nvSpPr>
          <p:spPr>
            <a:xfrm>
              <a:off x="631656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7992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1771560" y="2579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08400" y="2579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43440" y="2579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771560" y="25794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71560" y="2579760"/>
            <a:ext cx="460872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380280" y="25794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771560" y="2579760"/>
            <a:ext cx="460872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308400" y="257976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308400" y="257940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43440" y="257976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3308400" y="257940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557800" y="172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692360" y="4710240"/>
            <a:ext cx="4735440" cy="1455480"/>
            <a:chOff x="1692360" y="4710240"/>
            <a:chExt cx="4735440" cy="1455480"/>
          </a:xfrm>
        </p:grpSpPr>
        <p:grpSp>
          <p:nvGrpSpPr>
            <p:cNvPr id="1009" name=""/>
            <p:cNvGrpSpPr/>
            <p:nvPr/>
          </p:nvGrpSpPr>
          <p:grpSpPr>
            <a:xfrm>
              <a:off x="1692360" y="6039000"/>
              <a:ext cx="127080" cy="126720"/>
              <a:chOff x="1692360" y="6039000"/>
              <a:chExt cx="127080" cy="126720"/>
            </a:xfrm>
          </p:grpSpPr>
          <p:sp>
            <p:nvSpPr>
              <p:cNvPr id="1010" name=""/>
              <p:cNvSpPr/>
              <p:nvPr/>
            </p:nvSpPr>
            <p:spPr>
              <a:xfrm>
                <a:off x="169236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5608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3228840" y="6039000"/>
              <a:ext cx="127080" cy="126720"/>
              <a:chOff x="3228840" y="6039000"/>
              <a:chExt cx="127080" cy="126720"/>
            </a:xfrm>
          </p:grpSpPr>
          <p:sp>
            <p:nvSpPr>
              <p:cNvPr id="1013" name=""/>
              <p:cNvSpPr/>
              <p:nvPr/>
            </p:nvSpPr>
            <p:spPr>
              <a:xfrm>
                <a:off x="322884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29220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764240" y="6039000"/>
              <a:ext cx="126720" cy="126720"/>
              <a:chOff x="4764240" y="6039000"/>
              <a:chExt cx="126720" cy="126720"/>
            </a:xfrm>
          </p:grpSpPr>
          <p:sp>
            <p:nvSpPr>
              <p:cNvPr id="1016" name=""/>
              <p:cNvSpPr/>
              <p:nvPr/>
            </p:nvSpPr>
            <p:spPr>
              <a:xfrm>
                <a:off x="4764240" y="603900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2760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300720" y="6039000"/>
              <a:ext cx="127080" cy="126720"/>
              <a:chOff x="6300720" y="6039000"/>
              <a:chExt cx="127080" cy="126720"/>
            </a:xfrm>
          </p:grpSpPr>
          <p:sp>
            <p:nvSpPr>
              <p:cNvPr id="1019" name=""/>
              <p:cNvSpPr/>
              <p:nvPr/>
            </p:nvSpPr>
            <p:spPr>
              <a:xfrm>
                <a:off x="630072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36408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1755720" y="61023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92560" y="610236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27600" y="61023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1692360" y="4710240"/>
              <a:ext cx="127080" cy="126720"/>
              <a:chOff x="1692360" y="4710240"/>
              <a:chExt cx="127080" cy="126720"/>
            </a:xfrm>
          </p:grpSpPr>
          <p:sp>
            <p:nvSpPr>
              <p:cNvPr id="1025" name=""/>
              <p:cNvSpPr/>
              <p:nvPr/>
            </p:nvSpPr>
            <p:spPr>
              <a:xfrm>
                <a:off x="169236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5608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228840" y="4710240"/>
              <a:ext cx="127080" cy="126720"/>
              <a:chOff x="3228840" y="4710240"/>
              <a:chExt cx="127080" cy="126720"/>
            </a:xfrm>
          </p:grpSpPr>
          <p:sp>
            <p:nvSpPr>
              <p:cNvPr id="1028" name=""/>
              <p:cNvSpPr/>
              <p:nvPr/>
            </p:nvSpPr>
            <p:spPr>
              <a:xfrm>
                <a:off x="322884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9220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4764240" y="4710240"/>
              <a:ext cx="126720" cy="126720"/>
              <a:chOff x="4764240" y="4710240"/>
              <a:chExt cx="126720" cy="126720"/>
            </a:xfrm>
          </p:grpSpPr>
          <p:sp>
            <p:nvSpPr>
              <p:cNvPr id="1031" name=""/>
              <p:cNvSpPr/>
              <p:nvPr/>
            </p:nvSpPr>
            <p:spPr>
              <a:xfrm>
                <a:off x="4764240" y="471024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2760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300720" y="4710240"/>
              <a:ext cx="127080" cy="126720"/>
              <a:chOff x="6300720" y="4710240"/>
              <a:chExt cx="127080" cy="126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630072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36408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1755720" y="47736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92560" y="477360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27600" y="47736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1755720" y="477324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364440" y="477324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77360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27600" y="477360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1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1924200" y="1450800"/>
            <a:ext cx="126720" cy="127080"/>
            <a:chOff x="1924200" y="1450800"/>
            <a:chExt cx="126720" cy="127080"/>
          </a:xfrm>
        </p:grpSpPr>
        <p:sp>
          <p:nvSpPr>
            <p:cNvPr id="1044" name=""/>
            <p:cNvSpPr/>
            <p:nvPr/>
          </p:nvSpPr>
          <p:spPr>
            <a:xfrm>
              <a:off x="1924200" y="1450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8756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460680" y="1450800"/>
            <a:ext cx="127080" cy="127080"/>
            <a:chOff x="3460680" y="1450800"/>
            <a:chExt cx="127080" cy="127080"/>
          </a:xfrm>
        </p:grpSpPr>
        <p:sp>
          <p:nvSpPr>
            <p:cNvPr id="1047" name=""/>
            <p:cNvSpPr/>
            <p:nvPr/>
          </p:nvSpPr>
          <p:spPr>
            <a:xfrm>
              <a:off x="346068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2404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995720" y="1450800"/>
            <a:ext cx="127080" cy="127080"/>
            <a:chOff x="4995720" y="1450800"/>
            <a:chExt cx="127080" cy="127080"/>
          </a:xfrm>
        </p:grpSpPr>
        <p:sp>
          <p:nvSpPr>
            <p:cNvPr id="1050" name=""/>
            <p:cNvSpPr/>
            <p:nvPr/>
          </p:nvSpPr>
          <p:spPr>
            <a:xfrm>
              <a:off x="499572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5944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32560" y="1450800"/>
            <a:ext cx="127080" cy="127080"/>
            <a:chOff x="6532560" y="1450800"/>
            <a:chExt cx="127080" cy="127080"/>
          </a:xfrm>
        </p:grpSpPr>
        <p:sp>
          <p:nvSpPr>
            <p:cNvPr id="1053" name=""/>
            <p:cNvSpPr/>
            <p:nvPr/>
          </p:nvSpPr>
          <p:spPr>
            <a:xfrm>
              <a:off x="653256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9592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2821320" y="-121284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-83520" y="858960"/>
            <a:ext cx="875376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87560" y="1514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24400" y="151452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59440" y="151452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979640" y="2565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916280" y="250200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97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086280" y="250200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14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42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48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9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65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40360" y="2060640"/>
            <a:ext cx="360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25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31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278080" y="-1149480"/>
            <a:ext cx="4082760" cy="40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89" y="19651"/>
                </a:moveTo>
                <a:arcTo wR="10800" hR="10800" stAng="3302131" swAng="4195738"/>
                <a:lnTo>
                  <a:pt x="10800" y="10800"/>
                </a:lnTo>
                <a:close/>
              </a:path>
              <a:path fill="none" w="21600" h="21600">
                <a:moveTo>
                  <a:pt x="16989" y="19651"/>
                </a:moveTo>
                <a:arcTo wR="10800" hR="10800" stAng="3302131" swAng="419573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35080" y="-4866840"/>
            <a:ext cx="8168760" cy="816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87" y="19652"/>
                </a:moveTo>
                <a:arcTo wR="10800" hR="10800" stAng="3302933" swAng="4194134"/>
                <a:lnTo>
                  <a:pt x="10800" y="10800"/>
                </a:lnTo>
                <a:close/>
              </a:path>
              <a:path fill="none" w="21600" h="21600">
                <a:moveTo>
                  <a:pt x="16987" y="19652"/>
                </a:moveTo>
                <a:arcTo wR="10800" hR="10800" stAng="3302933" swAng="4194134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643400" y="4214880"/>
            <a:ext cx="507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3.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FG(P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-52200" y="-6019200"/>
            <a:ext cx="8168760" cy="8168400"/>
            <a:chOff x="-52200" y="-6019200"/>
            <a:chExt cx="8168760" cy="8168400"/>
          </a:xfrm>
        </p:grpSpPr>
        <p:sp>
          <p:nvSpPr>
            <p:cNvPr id="1076" name=""/>
            <p:cNvSpPr/>
            <p:nvPr/>
          </p:nvSpPr>
          <p:spPr>
            <a:xfrm>
              <a:off x="1692360" y="1413000"/>
              <a:ext cx="46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2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9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9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6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13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0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7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52720" y="907920"/>
              <a:ext cx="360360" cy="5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6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3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90800" y="-2301840"/>
              <a:ext cx="4082760" cy="40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89" y="19651"/>
                  </a:moveTo>
                  <a:arcTo wR="10800" hR="10800" stAng="3302131" swAng="41957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89" y="19651"/>
                  </a:moveTo>
                  <a:arcTo wR="10800" hR="10800" stAng="3302131" swAng="4195738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52200" y="-6019200"/>
              <a:ext cx="8168760" cy="816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87" y="19652"/>
                  </a:moveTo>
                  <a:arcTo wR="10800" hR="10800" stAng="3302933" swAng="4194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87" y="19652"/>
                  </a:moveTo>
                  <a:arcTo wR="10800" hR="10800" stAng="3302933" swAng="4194134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692360" y="52135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2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9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79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86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13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20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30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37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96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3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92360" y="360828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2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69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9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86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13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0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0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6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03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692360" y="3608280"/>
            <a:ext cx="0" cy="16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6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03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20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37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692360" y="3608280"/>
            <a:ext cx="468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692360" y="3608280"/>
            <a:ext cx="468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862360" y="3608280"/>
            <a:ext cx="234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862360" y="3608280"/>
            <a:ext cx="234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443320" y="3413160"/>
            <a:ext cx="1993320" cy="19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15" y="2112"/>
                </a:moveTo>
                <a:arcTo wR="10800" hR="10800" stAng="-3213401" swAng="6426803"/>
                <a:lnTo>
                  <a:pt x="10800" y="10800"/>
                </a:lnTo>
                <a:close/>
              </a:path>
              <a:path fill="none" w="21600" h="21600">
                <a:moveTo>
                  <a:pt x="17215" y="2112"/>
                </a:moveTo>
                <a:arcTo wR="10800" hR="10800" stAng="-3213401" swAng="642680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411200" y="8841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0828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14792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227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37992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72960" y="314172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54040" y="3068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93880" y="3116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730400" y="3068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897160" y="3116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345680" y="5348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26760" y="52754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66600" y="5322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03480" y="52754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970240" y="5322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"/>
          <p:cNvGrpSpPr/>
          <p:nvPr/>
        </p:nvGrpSpPr>
        <p:grpSpPr>
          <a:xfrm>
            <a:off x="1272960" y="692280"/>
            <a:ext cx="5590080" cy="2789640"/>
            <a:chOff x="1272960" y="692280"/>
            <a:chExt cx="5590080" cy="2789640"/>
          </a:xfrm>
        </p:grpSpPr>
        <p:sp>
          <p:nvSpPr>
            <p:cNvPr id="1138" name=""/>
            <p:cNvSpPr/>
            <p:nvPr/>
          </p:nvSpPr>
          <p:spPr>
            <a:xfrm>
              <a:off x="1692360" y="2836800"/>
              <a:ext cx="468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2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9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79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6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0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0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7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6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3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92360" y="1231920"/>
              <a:ext cx="468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2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9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9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6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3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0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0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7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6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3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92360" y="1231920"/>
              <a:ext cx="0" cy="162072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6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3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0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92360" y="123192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692360" y="123192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62360" y="1231920"/>
              <a:ext cx="234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862360" y="1231920"/>
              <a:ext cx="234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43320" y="1036800"/>
              <a:ext cx="1993320" cy="199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15" y="2112"/>
                  </a:moveTo>
                  <a:arcTo wR="10800" hR="10800" stAng="-3213401" swAng="64268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15" y="2112"/>
                  </a:moveTo>
                  <a:arcTo wR="10800" hR="10800" stAng="-3213401" swAng="6426803"/>
                </a:path>
              </a:pathLst>
            </a:cu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72960" y="765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354040" y="69228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93880" y="739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30400" y="69228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97160" y="739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45680" y="2971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26760" y="2898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66600" y="29462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3480" y="2898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70240" y="29462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201320" y="3835440"/>
            <a:ext cx="5588640" cy="2840400"/>
            <a:chOff x="1201320" y="3835440"/>
            <a:chExt cx="5588640" cy="2840400"/>
          </a:xfrm>
        </p:grpSpPr>
        <p:sp>
          <p:nvSpPr>
            <p:cNvPr id="1181" name=""/>
            <p:cNvSpPr/>
            <p:nvPr/>
          </p:nvSpPr>
          <p:spPr>
            <a:xfrm>
              <a:off x="155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2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2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9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6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3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3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0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9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6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5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2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2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9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6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13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23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0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9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96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20720" y="4400640"/>
              <a:ext cx="0" cy="1620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90720" y="4400640"/>
              <a:ext cx="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960720" y="4365720"/>
              <a:ext cx="0" cy="1639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30720" y="4400640"/>
              <a:ext cx="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00720" y="4400640"/>
              <a:ext cx="0" cy="15494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20720" y="440064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620720" y="440064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90720" y="4400640"/>
              <a:ext cx="2340000" cy="16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790720" y="4400640"/>
              <a:ext cx="2340000" cy="16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71320" y="4205520"/>
              <a:ext cx="1994040" cy="199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15" y="2112"/>
                  </a:moveTo>
                  <a:arcTo wR="10800" hR="10800" stAng="-3213401" swAng="64268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15" y="2112"/>
                  </a:moveTo>
                  <a:arcTo wR="10800" hR="10800" stAng="-3213401" swAng="642680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01320" y="3908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8240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640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65876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9716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201320" y="6165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82400" y="6093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2240" y="6140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58760" y="6093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25880" y="6140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90720" y="6005520"/>
              <a:ext cx="1170000" cy="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60720" y="6005520"/>
              <a:ext cx="23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60720" y="4400640"/>
              <a:ext cx="23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20720" y="4400640"/>
              <a:ext cx="117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20720" y="6005520"/>
              <a:ext cx="117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90720" y="4400640"/>
              <a:ext cx="1170000" cy="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ma 4. Any faithful graph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ect to G is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1-EFT(G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over,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|E(G*) – E(G)| 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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|V(G)/2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any faithful graph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568960" y="4149720"/>
            <a:ext cx="45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7c80"/>
                </a:solidFill>
                <a:latin typeface="Arial"/>
              </a:rPr>
              <a:t>f</a:t>
            </a:r>
            <a:r>
              <a:rPr b="0" lang="zh-TW" sz="36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485800" y="522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2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5. Any graph has a faithful super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1258920" y="3500280"/>
                <a:ext cx="4038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Harary and Hayes: 1-EFT(C</a:t>
            </a:r>
            <a:r>
              <a:rPr b="0" lang="zh-TW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0221800">
            <a:off x="1187280" y="2060640"/>
            <a:ext cx="2953080" cy="29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rot="13501800">
            <a:off x="1547280" y="24361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10801800">
            <a:off x="1123560" y="34837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8101800">
            <a:off x="1563840" y="452412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1800">
            <a:off x="2610720" y="49478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2701800">
            <a:off x="3650760" y="45082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rot="21541800">
            <a:off x="4074840" y="3460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18901800">
            <a:off x="3635280" y="24206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141800">
            <a:off x="2587320" y="19965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651040" y="2060640"/>
            <a:ext cx="23760" cy="29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611360" y="2484360"/>
            <a:ext cx="20876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187280" y="3524400"/>
            <a:ext cx="295128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1627200" y="4572000"/>
            <a:ext cx="20876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20221800">
            <a:off x="5291280" y="1916280"/>
            <a:ext cx="2952720" cy="29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rot="13825800">
            <a:off x="5754240" y="21952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rot="11425800">
            <a:off x="5241240" y="306684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rot="9025800">
            <a:off x="5409360" y="40618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rot="6625800">
            <a:off x="6178320" y="471816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rot="4225800">
            <a:off x="7189560" y="47242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825800">
            <a:off x="7967160" y="4081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rot="21025800">
            <a:off x="8150040" y="308772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18625800">
            <a:off x="7651800" y="2209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rot="16225800">
            <a:off x="6705360" y="1856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242040" y="1920960"/>
            <a:ext cx="527040" cy="28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769080" y="1920960"/>
            <a:ext cx="484200" cy="28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818320" y="2259000"/>
            <a:ext cx="1896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305320" y="3130560"/>
            <a:ext cx="290844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473800" y="4125960"/>
            <a:ext cx="25574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888560" y="567540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Not faith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187280" y="126828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1123920" y="1204920"/>
            <a:ext cx="127080" cy="127080"/>
            <a:chOff x="1123920" y="1204920"/>
            <a:chExt cx="127080" cy="127080"/>
          </a:xfrm>
        </p:grpSpPr>
        <p:sp>
          <p:nvSpPr>
            <p:cNvPr id="1264" name=""/>
            <p:cNvSpPr/>
            <p:nvPr/>
          </p:nvSpPr>
          <p:spPr>
            <a:xfrm>
              <a:off x="112392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8728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2333520" y="1204920"/>
            <a:ext cx="127080" cy="127080"/>
            <a:chOff x="2333520" y="1204920"/>
            <a:chExt cx="127080" cy="127080"/>
          </a:xfrm>
        </p:grpSpPr>
        <p:sp>
          <p:nvSpPr>
            <p:cNvPr id="1267" name=""/>
            <p:cNvSpPr/>
            <p:nvPr/>
          </p:nvSpPr>
          <p:spPr>
            <a:xfrm>
              <a:off x="233352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3972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543480" y="1204920"/>
            <a:ext cx="126720" cy="127080"/>
            <a:chOff x="3543480" y="1204920"/>
            <a:chExt cx="126720" cy="127080"/>
          </a:xfrm>
        </p:grpSpPr>
        <p:sp>
          <p:nvSpPr>
            <p:cNvPr id="1270" name=""/>
            <p:cNvSpPr/>
            <p:nvPr/>
          </p:nvSpPr>
          <p:spPr>
            <a:xfrm>
              <a:off x="3543480" y="1204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068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753080" y="1204920"/>
            <a:ext cx="126720" cy="127080"/>
            <a:chOff x="4753080" y="1204920"/>
            <a:chExt cx="126720" cy="127080"/>
          </a:xfrm>
        </p:grpSpPr>
        <p:sp>
          <p:nvSpPr>
            <p:cNvPr id="1273" name=""/>
            <p:cNvSpPr/>
            <p:nvPr/>
          </p:nvSpPr>
          <p:spPr>
            <a:xfrm>
              <a:off x="4753080" y="1204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164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5962680" y="1204920"/>
            <a:ext cx="127080" cy="127080"/>
            <a:chOff x="5962680" y="1204920"/>
            <a:chExt cx="127080" cy="127080"/>
          </a:xfrm>
        </p:grpSpPr>
        <p:sp>
          <p:nvSpPr>
            <p:cNvPr id="1276" name=""/>
            <p:cNvSpPr/>
            <p:nvPr/>
          </p:nvSpPr>
          <p:spPr>
            <a:xfrm>
              <a:off x="596268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260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172280" y="1204920"/>
            <a:ext cx="127080" cy="127080"/>
            <a:chOff x="7172280" y="1204920"/>
            <a:chExt cx="127080" cy="127080"/>
          </a:xfrm>
        </p:grpSpPr>
        <p:sp>
          <p:nvSpPr>
            <p:cNvPr id="1279" name=""/>
            <p:cNvSpPr/>
            <p:nvPr/>
          </p:nvSpPr>
          <p:spPr>
            <a:xfrm>
              <a:off x="717228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3600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187280" y="242892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123920" y="2365200"/>
            <a:ext cx="127080" cy="127080"/>
            <a:chOff x="1123920" y="2365200"/>
            <a:chExt cx="127080" cy="127080"/>
          </a:xfrm>
        </p:grpSpPr>
        <p:sp>
          <p:nvSpPr>
            <p:cNvPr id="1283" name=""/>
            <p:cNvSpPr/>
            <p:nvPr/>
          </p:nvSpPr>
          <p:spPr>
            <a:xfrm>
              <a:off x="112392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18728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333520" y="2365200"/>
            <a:ext cx="127080" cy="127080"/>
            <a:chOff x="2333520" y="2365200"/>
            <a:chExt cx="127080" cy="127080"/>
          </a:xfrm>
        </p:grpSpPr>
        <p:sp>
          <p:nvSpPr>
            <p:cNvPr id="1286" name=""/>
            <p:cNvSpPr/>
            <p:nvPr/>
          </p:nvSpPr>
          <p:spPr>
            <a:xfrm>
              <a:off x="233352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972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3543480" y="2365200"/>
            <a:ext cx="126720" cy="127080"/>
            <a:chOff x="3543480" y="2365200"/>
            <a:chExt cx="126720" cy="127080"/>
          </a:xfrm>
        </p:grpSpPr>
        <p:sp>
          <p:nvSpPr>
            <p:cNvPr id="1289" name=""/>
            <p:cNvSpPr/>
            <p:nvPr/>
          </p:nvSpPr>
          <p:spPr>
            <a:xfrm>
              <a:off x="3543480" y="23652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068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753080" y="2365200"/>
            <a:ext cx="126720" cy="127080"/>
            <a:chOff x="4753080" y="2365200"/>
            <a:chExt cx="126720" cy="127080"/>
          </a:xfrm>
        </p:grpSpPr>
        <p:sp>
          <p:nvSpPr>
            <p:cNvPr id="1292" name=""/>
            <p:cNvSpPr/>
            <p:nvPr/>
          </p:nvSpPr>
          <p:spPr>
            <a:xfrm>
              <a:off x="4753080" y="23652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164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962680" y="2365200"/>
            <a:ext cx="127080" cy="127080"/>
            <a:chOff x="5962680" y="2365200"/>
            <a:chExt cx="127080" cy="127080"/>
          </a:xfrm>
        </p:grpSpPr>
        <p:sp>
          <p:nvSpPr>
            <p:cNvPr id="1295" name=""/>
            <p:cNvSpPr/>
            <p:nvPr/>
          </p:nvSpPr>
          <p:spPr>
            <a:xfrm>
              <a:off x="596268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260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7172280" y="2365200"/>
            <a:ext cx="127080" cy="127080"/>
            <a:chOff x="7172280" y="2365200"/>
            <a:chExt cx="127080" cy="127080"/>
          </a:xfrm>
        </p:grpSpPr>
        <p:sp>
          <p:nvSpPr>
            <p:cNvPr id="1298" name=""/>
            <p:cNvSpPr/>
            <p:nvPr/>
          </p:nvSpPr>
          <p:spPr>
            <a:xfrm>
              <a:off x="717228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3600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118728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3972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6068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8164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0260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23600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186920" y="1268280"/>
            <a:ext cx="6049080" cy="1160640"/>
            <a:chOff x="1186920" y="1268280"/>
            <a:chExt cx="6049080" cy="1160640"/>
          </a:xfrm>
        </p:grpSpPr>
        <p:sp>
          <p:nvSpPr>
            <p:cNvPr id="1307" name=""/>
            <p:cNvSpPr/>
            <p:nvPr/>
          </p:nvSpPr>
          <p:spPr>
            <a:xfrm flipH="1" flipV="1">
              <a:off x="1186920" y="1268280"/>
              <a:ext cx="36291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1186920" y="1268280"/>
              <a:ext cx="36291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97240" y="1268280"/>
              <a:ext cx="48387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396880" y="1268280"/>
              <a:ext cx="48387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3606840" y="1268280"/>
              <a:ext cx="241920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606840" y="1268280"/>
              <a:ext cx="241920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-8381520" y="900000"/>
            <a:ext cx="25189560" cy="2519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07" y="316"/>
                </a:moveTo>
                <a:arcTo wR="10800" hR="10800" stAng="-6233580" swAng="1667161"/>
                <a:lnTo>
                  <a:pt x="10800" y="10800"/>
                </a:lnTo>
                <a:close/>
              </a:path>
              <a:path fill="none" w="21600" h="21600">
                <a:moveTo>
                  <a:pt x="8207" y="316"/>
                </a:moveTo>
                <a:arcTo wR="10800" hR="10800" stAng="-6233580" swAng="16671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-6590520" y="-18741600"/>
            <a:ext cx="21603960" cy="216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24" y="21168"/>
                </a:moveTo>
                <a:arcTo wR="10800" hR="10800" stAng="4424484" swAng="1951032"/>
                <a:lnTo>
                  <a:pt x="10800" y="10800"/>
                </a:lnTo>
                <a:close/>
              </a:path>
              <a:path fill="none" w="21600" h="21600">
                <a:moveTo>
                  <a:pt x="13824" y="21168"/>
                </a:moveTo>
                <a:arcTo wR="10800" hR="10800" stAng="4424484" swAng="19510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84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3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484360" y="1413000"/>
            <a:ext cx="2448000" cy="24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rot="15300000">
            <a:off x="3327480" y="1390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rot="13500000">
            <a:off x="2779200" y="17074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rot="11700000">
            <a:off x="2461320" y="22554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rot="9900000">
            <a:off x="2461680" y="28900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rot="8100000">
            <a:off x="2778840" y="3438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rot="6300000">
            <a:off x="3327120" y="37558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rot="4500000">
            <a:off x="3962160" y="3755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2700000">
            <a:off x="4509720" y="34383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rot="900000">
            <a:off x="4827600" y="28904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rot="20700000">
            <a:off x="4827240" y="22557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rot="18900000">
            <a:off x="4510080" y="17078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17100000">
            <a:off x="3962160" y="139032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90840" y="1453680"/>
            <a:ext cx="63504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843280" y="1771560"/>
            <a:ext cx="173016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2525760" y="2319480"/>
            <a:ext cx="236520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2525760" y="2319120"/>
            <a:ext cx="236520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2843280" y="1771200"/>
            <a:ext cx="173016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3390840" y="1453680"/>
            <a:ext cx="63504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92200" y="4738680"/>
            <a:ext cx="7956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6.  Let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n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be a positive integ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C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FG(C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n </a:t>
            </a:r>
            <a:r>
              <a:rPr b="0" i="1" lang="zh-TW" sz="36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 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graph of order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positive integer. An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tex graph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-edge fault toler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-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th respect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every graph obtained by removing any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dges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revity, we refer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"/>
          <p:cNvGrpSpPr/>
          <p:nvPr/>
        </p:nvGrpSpPr>
        <p:grpSpPr>
          <a:xfrm>
            <a:off x="1708200" y="2293920"/>
            <a:ext cx="127080" cy="127080"/>
            <a:chOff x="1708200" y="2293920"/>
            <a:chExt cx="127080" cy="127080"/>
          </a:xfrm>
        </p:grpSpPr>
        <p:sp>
          <p:nvSpPr>
            <p:cNvPr id="1336" name=""/>
            <p:cNvSpPr/>
            <p:nvPr/>
          </p:nvSpPr>
          <p:spPr>
            <a:xfrm>
              <a:off x="170820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7192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244680" y="2293920"/>
            <a:ext cx="127080" cy="127080"/>
            <a:chOff x="3244680" y="2293920"/>
            <a:chExt cx="127080" cy="127080"/>
          </a:xfrm>
        </p:grpSpPr>
        <p:sp>
          <p:nvSpPr>
            <p:cNvPr id="1339" name=""/>
            <p:cNvSpPr/>
            <p:nvPr/>
          </p:nvSpPr>
          <p:spPr>
            <a:xfrm>
              <a:off x="324468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30804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780080" y="2293920"/>
            <a:ext cx="126720" cy="127080"/>
            <a:chOff x="4780080" y="2293920"/>
            <a:chExt cx="126720" cy="127080"/>
          </a:xfrm>
        </p:grpSpPr>
        <p:sp>
          <p:nvSpPr>
            <p:cNvPr id="1342" name=""/>
            <p:cNvSpPr/>
            <p:nvPr/>
          </p:nvSpPr>
          <p:spPr>
            <a:xfrm>
              <a:off x="4780080" y="2293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4344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6316560" y="2293920"/>
            <a:ext cx="127080" cy="127080"/>
            <a:chOff x="6316560" y="2293920"/>
            <a:chExt cx="127080" cy="127080"/>
          </a:xfrm>
        </p:grpSpPr>
        <p:sp>
          <p:nvSpPr>
            <p:cNvPr id="1345" name=""/>
            <p:cNvSpPr/>
            <p:nvPr/>
          </p:nvSpPr>
          <p:spPr>
            <a:xfrm>
              <a:off x="631656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992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1771560" y="23572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308400" y="2357280"/>
            <a:ext cx="153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843440" y="23572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708200" y="965160"/>
            <a:ext cx="127080" cy="127080"/>
            <a:chOff x="1708200" y="965160"/>
            <a:chExt cx="127080" cy="127080"/>
          </a:xfrm>
        </p:grpSpPr>
        <p:sp>
          <p:nvSpPr>
            <p:cNvPr id="1351" name=""/>
            <p:cNvSpPr/>
            <p:nvPr/>
          </p:nvSpPr>
          <p:spPr>
            <a:xfrm>
              <a:off x="170820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7192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3244680" y="965160"/>
            <a:ext cx="127080" cy="127080"/>
            <a:chOff x="3244680" y="965160"/>
            <a:chExt cx="127080" cy="127080"/>
          </a:xfrm>
        </p:grpSpPr>
        <p:sp>
          <p:nvSpPr>
            <p:cNvPr id="1354" name=""/>
            <p:cNvSpPr/>
            <p:nvPr/>
          </p:nvSpPr>
          <p:spPr>
            <a:xfrm>
              <a:off x="324468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0804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4780080" y="965160"/>
            <a:ext cx="126720" cy="127080"/>
            <a:chOff x="4780080" y="965160"/>
            <a:chExt cx="126720" cy="127080"/>
          </a:xfrm>
        </p:grpSpPr>
        <p:sp>
          <p:nvSpPr>
            <p:cNvPr id="1357" name=""/>
            <p:cNvSpPr/>
            <p:nvPr/>
          </p:nvSpPr>
          <p:spPr>
            <a:xfrm>
              <a:off x="4780080" y="96516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4344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6316560" y="965160"/>
            <a:ext cx="127080" cy="127080"/>
            <a:chOff x="6316560" y="965160"/>
            <a:chExt cx="127080" cy="127080"/>
          </a:xfrm>
        </p:grpSpPr>
        <p:sp>
          <p:nvSpPr>
            <p:cNvPr id="1360" name=""/>
            <p:cNvSpPr/>
            <p:nvPr/>
          </p:nvSpPr>
          <p:spPr>
            <a:xfrm>
              <a:off x="631656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992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1771560" y="10288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308400" y="1028880"/>
            <a:ext cx="153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843440" y="10288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177156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38028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0840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4344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-1787400" y="557280"/>
            <a:ext cx="11728440" cy="117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8" y="868"/>
                </a:moveTo>
                <a:arcTo wR="10800" hR="10800" stAng="-6787670" swAng="2775341"/>
                <a:lnTo>
                  <a:pt x="10800" y="10800"/>
                </a:lnTo>
                <a:close/>
              </a:path>
              <a:path fill="none" w="21600" h="21600">
                <a:moveTo>
                  <a:pt x="6558" y="868"/>
                </a:moveTo>
                <a:arcTo wR="10800" hR="10800" stAng="-6787670" swAng="277534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-2284560" y="-9937800"/>
            <a:ext cx="12722760" cy="127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1" y="20867"/>
                </a:moveTo>
                <a:arcTo wR="10800" hR="10800" stAng="4126304" swAng="2547393"/>
                <a:lnTo>
                  <a:pt x="10800" y="10800"/>
                </a:lnTo>
                <a:close/>
              </a:path>
              <a:path fill="none" w="21600" h="21600">
                <a:moveTo>
                  <a:pt x="14711" y="20867"/>
                </a:moveTo>
                <a:arcTo wR="10800" hR="10800" stAng="4126304" swAng="254739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77156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30840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177120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30804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80168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38604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4096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2532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40960" y="198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425320" y="191628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817520" y="1844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386040" y="198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866960" y="5276880"/>
            <a:ext cx="127080" cy="127080"/>
            <a:chOff x="1866960" y="5276880"/>
            <a:chExt cx="127080" cy="127080"/>
          </a:xfrm>
        </p:grpSpPr>
        <p:sp>
          <p:nvSpPr>
            <p:cNvPr id="1384" name=""/>
            <p:cNvSpPr/>
            <p:nvPr/>
          </p:nvSpPr>
          <p:spPr>
            <a:xfrm>
              <a:off x="186696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3068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403440" y="5276880"/>
            <a:ext cx="127080" cy="127080"/>
            <a:chOff x="3403440" y="5276880"/>
            <a:chExt cx="127080" cy="127080"/>
          </a:xfrm>
        </p:grpSpPr>
        <p:sp>
          <p:nvSpPr>
            <p:cNvPr id="1387" name=""/>
            <p:cNvSpPr/>
            <p:nvPr/>
          </p:nvSpPr>
          <p:spPr>
            <a:xfrm>
              <a:off x="340344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46680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4938840" y="5276880"/>
            <a:ext cx="126720" cy="127080"/>
            <a:chOff x="4938840" y="5276880"/>
            <a:chExt cx="126720" cy="127080"/>
          </a:xfrm>
        </p:grpSpPr>
        <p:sp>
          <p:nvSpPr>
            <p:cNvPr id="1390" name=""/>
            <p:cNvSpPr/>
            <p:nvPr/>
          </p:nvSpPr>
          <p:spPr>
            <a:xfrm>
              <a:off x="4938840" y="52768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220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475320" y="5276880"/>
            <a:ext cx="127080" cy="127080"/>
            <a:chOff x="6475320" y="5276880"/>
            <a:chExt cx="127080" cy="127080"/>
          </a:xfrm>
        </p:grpSpPr>
        <p:sp>
          <p:nvSpPr>
            <p:cNvPr id="1393" name=""/>
            <p:cNvSpPr/>
            <p:nvPr/>
          </p:nvSpPr>
          <p:spPr>
            <a:xfrm>
              <a:off x="647532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53868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930320" y="534024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467160" y="5340240"/>
            <a:ext cx="1535040" cy="0"/>
          </a:xfrm>
          <a:prstGeom prst="line">
            <a:avLst/>
          </a:prstGeom>
          <a:ln cap="rnd" w="5724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002200" y="534024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866960" y="3948120"/>
            <a:ext cx="127080" cy="127080"/>
            <a:chOff x="1866960" y="3948120"/>
            <a:chExt cx="127080" cy="127080"/>
          </a:xfrm>
        </p:grpSpPr>
        <p:sp>
          <p:nvSpPr>
            <p:cNvPr id="1399" name=""/>
            <p:cNvSpPr/>
            <p:nvPr/>
          </p:nvSpPr>
          <p:spPr>
            <a:xfrm>
              <a:off x="186696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3068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403440" y="3948120"/>
            <a:ext cx="127080" cy="127080"/>
            <a:chOff x="3403440" y="3948120"/>
            <a:chExt cx="127080" cy="127080"/>
          </a:xfrm>
        </p:grpSpPr>
        <p:sp>
          <p:nvSpPr>
            <p:cNvPr id="1402" name=""/>
            <p:cNvSpPr/>
            <p:nvPr/>
          </p:nvSpPr>
          <p:spPr>
            <a:xfrm>
              <a:off x="340344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680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938840" y="3948120"/>
            <a:ext cx="126720" cy="127080"/>
            <a:chOff x="4938840" y="3948120"/>
            <a:chExt cx="126720" cy="127080"/>
          </a:xfrm>
        </p:grpSpPr>
        <p:sp>
          <p:nvSpPr>
            <p:cNvPr id="1405" name=""/>
            <p:cNvSpPr/>
            <p:nvPr/>
          </p:nvSpPr>
          <p:spPr>
            <a:xfrm>
              <a:off x="4938840" y="39481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0220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6475320" y="3948120"/>
            <a:ext cx="127080" cy="127080"/>
            <a:chOff x="6475320" y="3948120"/>
            <a:chExt cx="127080" cy="127080"/>
          </a:xfrm>
        </p:grpSpPr>
        <p:sp>
          <p:nvSpPr>
            <p:cNvPr id="1408" name=""/>
            <p:cNvSpPr/>
            <p:nvPr/>
          </p:nvSpPr>
          <p:spPr>
            <a:xfrm>
              <a:off x="647532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3868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930320" y="40114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467160" y="4011480"/>
            <a:ext cx="1535040" cy="0"/>
          </a:xfrm>
          <a:prstGeom prst="line">
            <a:avLst/>
          </a:prstGeom>
          <a:ln cap="rnd" w="5724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002200" y="40114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930320" y="401112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539040" y="401112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67160" y="401148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02200" y="401148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-1628640" y="3540240"/>
            <a:ext cx="11728440" cy="117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8" y="868"/>
                </a:moveTo>
                <a:arcTo wR="10800" hR="10800" stAng="-6787670" swAng="2775341"/>
                <a:lnTo>
                  <a:pt x="10800" y="10800"/>
                </a:lnTo>
                <a:close/>
              </a:path>
              <a:path fill="none" w="21600" h="21600">
                <a:moveTo>
                  <a:pt x="6558" y="868"/>
                </a:moveTo>
                <a:arcTo wR="10800" hR="10800" stAng="-6787670" swAng="27753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-2125800" y="-6954840"/>
            <a:ext cx="12722760" cy="127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1" y="20867"/>
                </a:moveTo>
                <a:arcTo wR="10800" hR="10800" stAng="4126304" swAng="2547393"/>
                <a:lnTo>
                  <a:pt x="10800" y="10800"/>
                </a:lnTo>
                <a:close/>
              </a:path>
              <a:path fill="none" w="21600" h="21600">
                <a:moveTo>
                  <a:pt x="14711" y="20867"/>
                </a:moveTo>
                <a:arcTo wR="10800" hR="10800" stAng="4126304" swAng="254739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93032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6716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92996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346680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985320" y="3573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85520" y="39798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602040" y="494172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017680" y="486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99720" y="4971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584080" y="486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602040" y="4005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946400" y="4005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1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7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2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4" dur="2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763640" y="1628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1700280" y="1565280"/>
            <a:ext cx="127080" cy="127080"/>
            <a:chOff x="1700280" y="1565280"/>
            <a:chExt cx="127080" cy="127080"/>
          </a:xfrm>
        </p:grpSpPr>
        <p:sp>
          <p:nvSpPr>
            <p:cNvPr id="1433" name=""/>
            <p:cNvSpPr/>
            <p:nvPr/>
          </p:nvSpPr>
          <p:spPr>
            <a:xfrm>
              <a:off x="1700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6364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2549520" y="1565280"/>
            <a:ext cx="127080" cy="127080"/>
            <a:chOff x="2549520" y="1565280"/>
            <a:chExt cx="127080" cy="127080"/>
          </a:xfrm>
        </p:grpSpPr>
        <p:sp>
          <p:nvSpPr>
            <p:cNvPr id="1436" name=""/>
            <p:cNvSpPr/>
            <p:nvPr/>
          </p:nvSpPr>
          <p:spPr>
            <a:xfrm>
              <a:off x="254952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128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3398760" y="1565280"/>
            <a:ext cx="127080" cy="127080"/>
            <a:chOff x="3398760" y="1565280"/>
            <a:chExt cx="127080" cy="127080"/>
          </a:xfrm>
        </p:grpSpPr>
        <p:sp>
          <p:nvSpPr>
            <p:cNvPr id="1439" name=""/>
            <p:cNvSpPr/>
            <p:nvPr/>
          </p:nvSpPr>
          <p:spPr>
            <a:xfrm>
              <a:off x="339876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24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4249800" y="1565280"/>
            <a:ext cx="127080" cy="127080"/>
            <a:chOff x="4249800" y="1565280"/>
            <a:chExt cx="127080" cy="127080"/>
          </a:xfrm>
        </p:grpSpPr>
        <p:sp>
          <p:nvSpPr>
            <p:cNvPr id="1442" name=""/>
            <p:cNvSpPr/>
            <p:nvPr/>
          </p:nvSpPr>
          <p:spPr>
            <a:xfrm>
              <a:off x="424980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1316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099040" y="1565280"/>
            <a:ext cx="127080" cy="127080"/>
            <a:chOff x="5099040" y="1565280"/>
            <a:chExt cx="127080" cy="127080"/>
          </a:xfrm>
        </p:grpSpPr>
        <p:sp>
          <p:nvSpPr>
            <p:cNvPr id="1445" name=""/>
            <p:cNvSpPr/>
            <p:nvPr/>
          </p:nvSpPr>
          <p:spPr>
            <a:xfrm>
              <a:off x="509904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624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5948280" y="1565280"/>
            <a:ext cx="127080" cy="127080"/>
            <a:chOff x="5948280" y="1565280"/>
            <a:chExt cx="127080" cy="127080"/>
          </a:xfrm>
        </p:grpSpPr>
        <p:sp>
          <p:nvSpPr>
            <p:cNvPr id="1448" name=""/>
            <p:cNvSpPr/>
            <p:nvPr/>
          </p:nvSpPr>
          <p:spPr>
            <a:xfrm>
              <a:off x="5948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120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1763640" y="2933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700280" y="2870280"/>
            <a:ext cx="127080" cy="127080"/>
            <a:chOff x="1700280" y="2870280"/>
            <a:chExt cx="127080" cy="127080"/>
          </a:xfrm>
        </p:grpSpPr>
        <p:sp>
          <p:nvSpPr>
            <p:cNvPr id="1452" name=""/>
            <p:cNvSpPr/>
            <p:nvPr/>
          </p:nvSpPr>
          <p:spPr>
            <a:xfrm>
              <a:off x="1700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76364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549520" y="2870280"/>
            <a:ext cx="127080" cy="127080"/>
            <a:chOff x="2549520" y="2870280"/>
            <a:chExt cx="127080" cy="127080"/>
          </a:xfrm>
        </p:grpSpPr>
        <p:sp>
          <p:nvSpPr>
            <p:cNvPr id="1455" name=""/>
            <p:cNvSpPr/>
            <p:nvPr/>
          </p:nvSpPr>
          <p:spPr>
            <a:xfrm>
              <a:off x="254952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6128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98760" y="2870280"/>
            <a:ext cx="127080" cy="127080"/>
            <a:chOff x="3398760" y="2870280"/>
            <a:chExt cx="127080" cy="127080"/>
          </a:xfrm>
        </p:grpSpPr>
        <p:sp>
          <p:nvSpPr>
            <p:cNvPr id="1458" name=""/>
            <p:cNvSpPr/>
            <p:nvPr/>
          </p:nvSpPr>
          <p:spPr>
            <a:xfrm>
              <a:off x="339876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624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4249800" y="2870280"/>
            <a:ext cx="127080" cy="127080"/>
            <a:chOff x="4249800" y="2870280"/>
            <a:chExt cx="127080" cy="127080"/>
          </a:xfrm>
        </p:grpSpPr>
        <p:sp>
          <p:nvSpPr>
            <p:cNvPr id="1461" name=""/>
            <p:cNvSpPr/>
            <p:nvPr/>
          </p:nvSpPr>
          <p:spPr>
            <a:xfrm>
              <a:off x="424980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1316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099040" y="2870280"/>
            <a:ext cx="127080" cy="127080"/>
            <a:chOff x="5099040" y="2870280"/>
            <a:chExt cx="127080" cy="127080"/>
          </a:xfrm>
        </p:grpSpPr>
        <p:sp>
          <p:nvSpPr>
            <p:cNvPr id="1464" name=""/>
            <p:cNvSpPr/>
            <p:nvPr/>
          </p:nvSpPr>
          <p:spPr>
            <a:xfrm>
              <a:off x="509904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1624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948280" y="2870280"/>
            <a:ext cx="127080" cy="127080"/>
            <a:chOff x="5948280" y="2870280"/>
            <a:chExt cx="127080" cy="127080"/>
          </a:xfrm>
        </p:grpSpPr>
        <p:sp>
          <p:nvSpPr>
            <p:cNvPr id="1467" name=""/>
            <p:cNvSpPr/>
            <p:nvPr/>
          </p:nvSpPr>
          <p:spPr>
            <a:xfrm>
              <a:off x="5948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120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-2549880" y="-9580320"/>
            <a:ext cx="1287540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-1460160" y="1192320"/>
            <a:ext cx="1069560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76364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6128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4624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1316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624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0120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76364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6128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4624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76364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6128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4624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3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773360" y="4205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1709640" y="4141800"/>
            <a:ext cx="127080" cy="127080"/>
            <a:chOff x="1709640" y="4141800"/>
            <a:chExt cx="127080" cy="127080"/>
          </a:xfrm>
        </p:grpSpPr>
        <p:sp>
          <p:nvSpPr>
            <p:cNvPr id="1486" name=""/>
            <p:cNvSpPr/>
            <p:nvPr/>
          </p:nvSpPr>
          <p:spPr>
            <a:xfrm>
              <a:off x="170964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7300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2558880" y="4141800"/>
            <a:ext cx="127080" cy="127080"/>
            <a:chOff x="2558880" y="4141800"/>
            <a:chExt cx="127080" cy="127080"/>
          </a:xfrm>
        </p:grpSpPr>
        <p:sp>
          <p:nvSpPr>
            <p:cNvPr id="1489" name=""/>
            <p:cNvSpPr/>
            <p:nvPr/>
          </p:nvSpPr>
          <p:spPr>
            <a:xfrm>
              <a:off x="255888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222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3408480" y="4141800"/>
            <a:ext cx="126720" cy="127080"/>
            <a:chOff x="3408480" y="4141800"/>
            <a:chExt cx="126720" cy="127080"/>
          </a:xfrm>
        </p:grpSpPr>
        <p:sp>
          <p:nvSpPr>
            <p:cNvPr id="1492" name=""/>
            <p:cNvSpPr/>
            <p:nvPr/>
          </p:nvSpPr>
          <p:spPr>
            <a:xfrm>
              <a:off x="340848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4259160" y="4141800"/>
            <a:ext cx="127080" cy="127080"/>
            <a:chOff x="4259160" y="4141800"/>
            <a:chExt cx="127080" cy="127080"/>
          </a:xfrm>
        </p:grpSpPr>
        <p:sp>
          <p:nvSpPr>
            <p:cNvPr id="1495" name=""/>
            <p:cNvSpPr/>
            <p:nvPr/>
          </p:nvSpPr>
          <p:spPr>
            <a:xfrm>
              <a:off x="425916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2252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108400" y="4141800"/>
            <a:ext cx="127080" cy="127080"/>
            <a:chOff x="5108400" y="4141800"/>
            <a:chExt cx="127080" cy="127080"/>
          </a:xfrm>
        </p:grpSpPr>
        <p:sp>
          <p:nvSpPr>
            <p:cNvPr id="1498" name=""/>
            <p:cNvSpPr/>
            <p:nvPr/>
          </p:nvSpPr>
          <p:spPr>
            <a:xfrm>
              <a:off x="510840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717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5958000" y="4141800"/>
            <a:ext cx="126720" cy="127080"/>
            <a:chOff x="5958000" y="4141800"/>
            <a:chExt cx="126720" cy="127080"/>
          </a:xfrm>
        </p:grpSpPr>
        <p:sp>
          <p:nvSpPr>
            <p:cNvPr id="1501" name=""/>
            <p:cNvSpPr/>
            <p:nvPr/>
          </p:nvSpPr>
          <p:spPr>
            <a:xfrm>
              <a:off x="595800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13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1773360" y="5510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1709640" y="5446800"/>
            <a:ext cx="127080" cy="127080"/>
            <a:chOff x="1709640" y="5446800"/>
            <a:chExt cx="127080" cy="127080"/>
          </a:xfrm>
        </p:grpSpPr>
        <p:sp>
          <p:nvSpPr>
            <p:cNvPr id="1505" name=""/>
            <p:cNvSpPr/>
            <p:nvPr/>
          </p:nvSpPr>
          <p:spPr>
            <a:xfrm>
              <a:off x="170964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7300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2558880" y="5446800"/>
            <a:ext cx="127080" cy="127080"/>
            <a:chOff x="2558880" y="5446800"/>
            <a:chExt cx="127080" cy="127080"/>
          </a:xfrm>
        </p:grpSpPr>
        <p:sp>
          <p:nvSpPr>
            <p:cNvPr id="1508" name=""/>
            <p:cNvSpPr/>
            <p:nvPr/>
          </p:nvSpPr>
          <p:spPr>
            <a:xfrm>
              <a:off x="255888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222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408480" y="5446800"/>
            <a:ext cx="126720" cy="127080"/>
            <a:chOff x="3408480" y="5446800"/>
            <a:chExt cx="126720" cy="127080"/>
          </a:xfrm>
        </p:grpSpPr>
        <p:sp>
          <p:nvSpPr>
            <p:cNvPr id="1511" name=""/>
            <p:cNvSpPr/>
            <p:nvPr/>
          </p:nvSpPr>
          <p:spPr>
            <a:xfrm>
              <a:off x="340848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718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4259160" y="5446800"/>
            <a:ext cx="127080" cy="127080"/>
            <a:chOff x="4259160" y="5446800"/>
            <a:chExt cx="127080" cy="127080"/>
          </a:xfrm>
        </p:grpSpPr>
        <p:sp>
          <p:nvSpPr>
            <p:cNvPr id="1514" name=""/>
            <p:cNvSpPr/>
            <p:nvPr/>
          </p:nvSpPr>
          <p:spPr>
            <a:xfrm>
              <a:off x="425916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2252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5108400" y="5446800"/>
            <a:ext cx="127080" cy="127080"/>
            <a:chOff x="5108400" y="5446800"/>
            <a:chExt cx="127080" cy="127080"/>
          </a:xfrm>
        </p:grpSpPr>
        <p:sp>
          <p:nvSpPr>
            <p:cNvPr id="1517" name=""/>
            <p:cNvSpPr/>
            <p:nvPr/>
          </p:nvSpPr>
          <p:spPr>
            <a:xfrm>
              <a:off x="510840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1717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5958000" y="5446800"/>
            <a:ext cx="126720" cy="127080"/>
            <a:chOff x="5958000" y="5446800"/>
            <a:chExt cx="126720" cy="127080"/>
          </a:xfrm>
        </p:grpSpPr>
        <p:sp>
          <p:nvSpPr>
            <p:cNvPr id="1520" name=""/>
            <p:cNvSpPr/>
            <p:nvPr/>
          </p:nvSpPr>
          <p:spPr>
            <a:xfrm>
              <a:off x="595800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213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-2539800" y="-7003800"/>
            <a:ext cx="1287432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-1450080" y="3768840"/>
            <a:ext cx="1069488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773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62260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47184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32288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17212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021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5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2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9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1" dur="2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1700280" y="1565280"/>
            <a:ext cx="127080" cy="127080"/>
            <a:chOff x="1700280" y="1565280"/>
            <a:chExt cx="127080" cy="127080"/>
          </a:xfrm>
        </p:grpSpPr>
        <p:sp>
          <p:nvSpPr>
            <p:cNvPr id="1531" name=""/>
            <p:cNvSpPr/>
            <p:nvPr/>
          </p:nvSpPr>
          <p:spPr>
            <a:xfrm>
              <a:off x="1700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6364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549520" y="1565280"/>
            <a:ext cx="127080" cy="127080"/>
            <a:chOff x="2549520" y="1565280"/>
            <a:chExt cx="127080" cy="127080"/>
          </a:xfrm>
        </p:grpSpPr>
        <p:sp>
          <p:nvSpPr>
            <p:cNvPr id="1534" name=""/>
            <p:cNvSpPr/>
            <p:nvPr/>
          </p:nvSpPr>
          <p:spPr>
            <a:xfrm>
              <a:off x="254952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128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398760" y="1565280"/>
            <a:ext cx="127080" cy="127080"/>
            <a:chOff x="3398760" y="1565280"/>
            <a:chExt cx="127080" cy="127080"/>
          </a:xfrm>
        </p:grpSpPr>
        <p:sp>
          <p:nvSpPr>
            <p:cNvPr id="1537" name=""/>
            <p:cNvSpPr/>
            <p:nvPr/>
          </p:nvSpPr>
          <p:spPr>
            <a:xfrm>
              <a:off x="339876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624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4249800" y="1565280"/>
            <a:ext cx="127080" cy="127080"/>
            <a:chOff x="4249800" y="1565280"/>
            <a:chExt cx="127080" cy="127080"/>
          </a:xfrm>
        </p:grpSpPr>
        <p:sp>
          <p:nvSpPr>
            <p:cNvPr id="1540" name=""/>
            <p:cNvSpPr/>
            <p:nvPr/>
          </p:nvSpPr>
          <p:spPr>
            <a:xfrm>
              <a:off x="424980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31316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5099040" y="1565280"/>
            <a:ext cx="127080" cy="127080"/>
            <a:chOff x="5099040" y="1565280"/>
            <a:chExt cx="127080" cy="127080"/>
          </a:xfrm>
        </p:grpSpPr>
        <p:sp>
          <p:nvSpPr>
            <p:cNvPr id="1543" name=""/>
            <p:cNvSpPr/>
            <p:nvPr/>
          </p:nvSpPr>
          <p:spPr>
            <a:xfrm>
              <a:off x="509904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1624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948280" y="1565280"/>
            <a:ext cx="127080" cy="127080"/>
            <a:chOff x="5948280" y="1565280"/>
            <a:chExt cx="127080" cy="127080"/>
          </a:xfrm>
        </p:grpSpPr>
        <p:sp>
          <p:nvSpPr>
            <p:cNvPr id="1546" name=""/>
            <p:cNvSpPr/>
            <p:nvPr/>
          </p:nvSpPr>
          <p:spPr>
            <a:xfrm>
              <a:off x="5948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20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1700280" y="2870280"/>
            <a:ext cx="127080" cy="127080"/>
            <a:chOff x="1700280" y="2870280"/>
            <a:chExt cx="127080" cy="127080"/>
          </a:xfrm>
        </p:grpSpPr>
        <p:sp>
          <p:nvSpPr>
            <p:cNvPr id="1549" name=""/>
            <p:cNvSpPr/>
            <p:nvPr/>
          </p:nvSpPr>
          <p:spPr>
            <a:xfrm>
              <a:off x="1700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6364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2549520" y="2870280"/>
            <a:ext cx="127080" cy="127080"/>
            <a:chOff x="2549520" y="2870280"/>
            <a:chExt cx="127080" cy="127080"/>
          </a:xfrm>
        </p:grpSpPr>
        <p:sp>
          <p:nvSpPr>
            <p:cNvPr id="1552" name=""/>
            <p:cNvSpPr/>
            <p:nvPr/>
          </p:nvSpPr>
          <p:spPr>
            <a:xfrm>
              <a:off x="254952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128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3398760" y="2870280"/>
            <a:ext cx="127080" cy="127080"/>
            <a:chOff x="3398760" y="2870280"/>
            <a:chExt cx="127080" cy="127080"/>
          </a:xfrm>
        </p:grpSpPr>
        <p:sp>
          <p:nvSpPr>
            <p:cNvPr id="1555" name=""/>
            <p:cNvSpPr/>
            <p:nvPr/>
          </p:nvSpPr>
          <p:spPr>
            <a:xfrm>
              <a:off x="339876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4624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4249800" y="2870280"/>
            <a:ext cx="127080" cy="127080"/>
            <a:chOff x="4249800" y="2870280"/>
            <a:chExt cx="127080" cy="127080"/>
          </a:xfrm>
        </p:grpSpPr>
        <p:sp>
          <p:nvSpPr>
            <p:cNvPr id="1558" name=""/>
            <p:cNvSpPr/>
            <p:nvPr/>
          </p:nvSpPr>
          <p:spPr>
            <a:xfrm>
              <a:off x="424980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31316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099040" y="2870280"/>
            <a:ext cx="127080" cy="127080"/>
            <a:chOff x="5099040" y="2870280"/>
            <a:chExt cx="127080" cy="127080"/>
          </a:xfrm>
        </p:grpSpPr>
        <p:sp>
          <p:nvSpPr>
            <p:cNvPr id="1561" name=""/>
            <p:cNvSpPr/>
            <p:nvPr/>
          </p:nvSpPr>
          <p:spPr>
            <a:xfrm>
              <a:off x="509904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624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948280" y="2870280"/>
            <a:ext cx="127080" cy="127080"/>
            <a:chOff x="5948280" y="2870280"/>
            <a:chExt cx="127080" cy="127080"/>
          </a:xfrm>
        </p:grpSpPr>
        <p:sp>
          <p:nvSpPr>
            <p:cNvPr id="1564" name=""/>
            <p:cNvSpPr/>
            <p:nvPr/>
          </p:nvSpPr>
          <p:spPr>
            <a:xfrm>
              <a:off x="5948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120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-2549880" y="-9580320"/>
            <a:ext cx="1287540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-1460160" y="1192320"/>
            <a:ext cx="1069560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76364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6128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4624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31316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624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0120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176364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6128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34624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76364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6128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4624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3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773360" y="4205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709640" y="4141800"/>
            <a:ext cx="127080" cy="127080"/>
            <a:chOff x="1709640" y="4141800"/>
            <a:chExt cx="127080" cy="127080"/>
          </a:xfrm>
        </p:grpSpPr>
        <p:sp>
          <p:nvSpPr>
            <p:cNvPr id="1583" name=""/>
            <p:cNvSpPr/>
            <p:nvPr/>
          </p:nvSpPr>
          <p:spPr>
            <a:xfrm>
              <a:off x="170964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77300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558880" y="4141800"/>
            <a:ext cx="127080" cy="127080"/>
            <a:chOff x="2558880" y="4141800"/>
            <a:chExt cx="127080" cy="127080"/>
          </a:xfrm>
        </p:grpSpPr>
        <p:sp>
          <p:nvSpPr>
            <p:cNvPr id="1586" name=""/>
            <p:cNvSpPr/>
            <p:nvPr/>
          </p:nvSpPr>
          <p:spPr>
            <a:xfrm>
              <a:off x="255888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222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3408480" y="4141800"/>
            <a:ext cx="126720" cy="127080"/>
            <a:chOff x="3408480" y="4141800"/>
            <a:chExt cx="126720" cy="127080"/>
          </a:xfrm>
        </p:grpSpPr>
        <p:sp>
          <p:nvSpPr>
            <p:cNvPr id="1589" name=""/>
            <p:cNvSpPr/>
            <p:nvPr/>
          </p:nvSpPr>
          <p:spPr>
            <a:xfrm>
              <a:off x="340848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4718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259160" y="4141800"/>
            <a:ext cx="127080" cy="127080"/>
            <a:chOff x="4259160" y="4141800"/>
            <a:chExt cx="127080" cy="127080"/>
          </a:xfrm>
        </p:grpSpPr>
        <p:sp>
          <p:nvSpPr>
            <p:cNvPr id="1592" name=""/>
            <p:cNvSpPr/>
            <p:nvPr/>
          </p:nvSpPr>
          <p:spPr>
            <a:xfrm>
              <a:off x="425916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2252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5108400" y="4141800"/>
            <a:ext cx="127080" cy="127080"/>
            <a:chOff x="5108400" y="4141800"/>
            <a:chExt cx="127080" cy="127080"/>
          </a:xfrm>
        </p:grpSpPr>
        <p:sp>
          <p:nvSpPr>
            <p:cNvPr id="1595" name=""/>
            <p:cNvSpPr/>
            <p:nvPr/>
          </p:nvSpPr>
          <p:spPr>
            <a:xfrm>
              <a:off x="510840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1717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5958000" y="4141800"/>
            <a:ext cx="126720" cy="127080"/>
            <a:chOff x="5958000" y="4141800"/>
            <a:chExt cx="126720" cy="127080"/>
          </a:xfrm>
        </p:grpSpPr>
        <p:sp>
          <p:nvSpPr>
            <p:cNvPr id="1598" name=""/>
            <p:cNvSpPr/>
            <p:nvPr/>
          </p:nvSpPr>
          <p:spPr>
            <a:xfrm>
              <a:off x="595800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213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1773360" y="5510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709640" y="5446800"/>
            <a:ext cx="127080" cy="127080"/>
            <a:chOff x="1709640" y="5446800"/>
            <a:chExt cx="127080" cy="127080"/>
          </a:xfrm>
        </p:grpSpPr>
        <p:sp>
          <p:nvSpPr>
            <p:cNvPr id="1602" name=""/>
            <p:cNvSpPr/>
            <p:nvPr/>
          </p:nvSpPr>
          <p:spPr>
            <a:xfrm>
              <a:off x="170964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7300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2558880" y="5446800"/>
            <a:ext cx="127080" cy="127080"/>
            <a:chOff x="2558880" y="5446800"/>
            <a:chExt cx="127080" cy="127080"/>
          </a:xfrm>
        </p:grpSpPr>
        <p:sp>
          <p:nvSpPr>
            <p:cNvPr id="1605" name=""/>
            <p:cNvSpPr/>
            <p:nvPr/>
          </p:nvSpPr>
          <p:spPr>
            <a:xfrm>
              <a:off x="255888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6222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3408480" y="5446800"/>
            <a:ext cx="126720" cy="127080"/>
            <a:chOff x="3408480" y="5446800"/>
            <a:chExt cx="126720" cy="127080"/>
          </a:xfrm>
        </p:grpSpPr>
        <p:sp>
          <p:nvSpPr>
            <p:cNvPr id="1608" name=""/>
            <p:cNvSpPr/>
            <p:nvPr/>
          </p:nvSpPr>
          <p:spPr>
            <a:xfrm>
              <a:off x="340848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4718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4259160" y="5446800"/>
            <a:ext cx="127080" cy="127080"/>
            <a:chOff x="4259160" y="5446800"/>
            <a:chExt cx="127080" cy="127080"/>
          </a:xfrm>
        </p:grpSpPr>
        <p:sp>
          <p:nvSpPr>
            <p:cNvPr id="1611" name=""/>
            <p:cNvSpPr/>
            <p:nvPr/>
          </p:nvSpPr>
          <p:spPr>
            <a:xfrm>
              <a:off x="425916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2252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108400" y="5446800"/>
            <a:ext cx="127080" cy="127080"/>
            <a:chOff x="5108400" y="5446800"/>
            <a:chExt cx="127080" cy="127080"/>
          </a:xfrm>
        </p:grpSpPr>
        <p:sp>
          <p:nvSpPr>
            <p:cNvPr id="1614" name=""/>
            <p:cNvSpPr/>
            <p:nvPr/>
          </p:nvSpPr>
          <p:spPr>
            <a:xfrm>
              <a:off x="510840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717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5958000" y="5446800"/>
            <a:ext cx="126720" cy="127080"/>
            <a:chOff x="5958000" y="5446800"/>
            <a:chExt cx="126720" cy="127080"/>
          </a:xfrm>
        </p:grpSpPr>
        <p:sp>
          <p:nvSpPr>
            <p:cNvPr id="1617" name=""/>
            <p:cNvSpPr/>
            <p:nvPr/>
          </p:nvSpPr>
          <p:spPr>
            <a:xfrm>
              <a:off x="595800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3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-2539800" y="-7003800"/>
            <a:ext cx="1287432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-1450080" y="3768840"/>
            <a:ext cx="1069488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773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62260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47184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32288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17212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021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763640" y="2933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612880" y="2933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462480" y="2933640"/>
            <a:ext cx="85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313160" y="2933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62400" y="2933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763640" y="1628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12880" y="1628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62480" y="1628640"/>
            <a:ext cx="85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313160" y="1628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62400" y="1628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195280" y="2781360"/>
            <a:ext cx="287640" cy="288720"/>
            <a:chOff x="2195280" y="2781360"/>
            <a:chExt cx="287640" cy="288720"/>
          </a:xfrm>
        </p:grpSpPr>
        <p:sp>
          <p:nvSpPr>
            <p:cNvPr id="1638" name=""/>
            <p:cNvSpPr/>
            <p:nvPr/>
          </p:nvSpPr>
          <p:spPr>
            <a:xfrm>
              <a:off x="2195640" y="2781360"/>
              <a:ext cx="287280" cy="2887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195280" y="2781360"/>
              <a:ext cx="246600" cy="2887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 7. Let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W = {G*,G) | G* is FG(G)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Then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losed under </a:t>
            </a:r>
            <a:r>
              <a:rPr b="0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 rot="576600">
            <a:off x="2768400" y="3435480"/>
            <a:ext cx="586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rot="576600">
            <a:off x="2798280" y="3471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rot="576600">
            <a:off x="3180960" y="3504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rot="576600">
            <a:off x="3211200" y="3541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rot="576600">
            <a:off x="3596760" y="3574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rot="576600">
            <a:off x="3627000" y="3611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576600">
            <a:off x="4009680" y="36446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rot="576600">
            <a:off x="4039920" y="3681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rot="576600">
            <a:off x="4424040" y="3716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rot="576600">
            <a:off x="4454280" y="3753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rot="576600">
            <a:off x="4838400" y="3786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rot="576600">
            <a:off x="4868640" y="3822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798640" y="347184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212640" y="35416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627000" y="361152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039920" y="36831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454280" y="3753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rot="576600">
            <a:off x="-64800" y="338364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rot="576600">
            <a:off x="2671560" y="400680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rot="576600">
            <a:off x="2701440" y="404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rot="576600">
            <a:off x="3084120" y="4076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rot="576600">
            <a:off x="3114360" y="4113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rot="576600">
            <a:off x="3499920" y="4146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rot="576600">
            <a:off x="3530160" y="4183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rot="576600">
            <a:off x="3912840" y="4215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rot="576600">
            <a:off x="3943080" y="42530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576600">
            <a:off x="4327200" y="42879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rot="576600">
            <a:off x="4357440" y="4324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rot="576600">
            <a:off x="4741560" y="43578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576600">
            <a:off x="4771800" y="4394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01800" y="40435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115800" y="41133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530160" y="41832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943080" y="42544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340160" y="432144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576600">
            <a:off x="-161280" y="395532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576600">
            <a:off x="2574720" y="457992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rot="576600">
            <a:off x="2604600" y="4616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rot="576600">
            <a:off x="2987280" y="46494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rot="576600">
            <a:off x="3017520" y="4686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rot="576600">
            <a:off x="3403080" y="47192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576600">
            <a:off x="3433320" y="4756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rot="576600">
            <a:off x="3816000" y="47890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rot="576600">
            <a:off x="3846240" y="4826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rot="576600">
            <a:off x="4230360" y="4859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rot="576600">
            <a:off x="4260600" y="4896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rot="576600">
            <a:off x="4642920" y="4930560"/>
            <a:ext cx="604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rot="576600">
            <a:off x="4673160" y="4967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604960" y="46162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017520" y="46864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33320" y="475632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846240" y="48261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260600" y="489744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rot="576600">
            <a:off x="-258480" y="4528440"/>
            <a:ext cx="6536880" cy="796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rot="576600">
            <a:off x="2477880" y="514980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rot="576600">
            <a:off x="2507760" y="5186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rot="576600">
            <a:off x="2890440" y="5219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rot="576600">
            <a:off x="2920680" y="5256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576600">
            <a:off x="3306240" y="5289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rot="576600">
            <a:off x="3336480" y="5326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576600">
            <a:off x="3719160" y="5358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rot="576600">
            <a:off x="3749400" y="53960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rot="576600">
            <a:off x="4133520" y="54291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rot="576600">
            <a:off x="4163760" y="54658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rot="576600">
            <a:off x="4547880" y="54990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rot="576600">
            <a:off x="4578120" y="55357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508120" y="51865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922120" y="52563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336480" y="53262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749400" y="53960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163760" y="54658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rot="576600">
            <a:off x="-354960" y="509688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2507760" y="46137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2598120" y="4041360"/>
            <a:ext cx="102960" cy="6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701440" y="34707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rot="576600">
            <a:off x="2493360" y="2273400"/>
            <a:ext cx="3866760" cy="471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2912400" y="46789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008880" y="4107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105720" y="35344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rot="576600">
            <a:off x="2897640" y="2334960"/>
            <a:ext cx="386388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3344040" y="474732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3441240" y="417564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3537720" y="36028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rot="576600">
            <a:off x="3329640" y="24037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749040" y="48106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3845520" y="42393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3942360" y="366624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rot="576600">
            <a:off x="3734280" y="246708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4160160" y="48931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4256640" y="43218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4353840" y="37501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576600">
            <a:off x="4145760" y="2552400"/>
            <a:ext cx="3863880" cy="471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4577760" y="49615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4674240" y="43902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4771080" y="38170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rot="576600">
            <a:off x="4563000" y="26179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48920" y="2811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rot="576600">
            <a:off x="2768400" y="37296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rot="576600">
            <a:off x="2798280" y="409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576600">
            <a:off x="3180960" y="4424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rot="576600">
            <a:off x="3211200" y="479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576600">
            <a:off x="3596760" y="512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rot="576600">
            <a:off x="3627000" y="549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rot="576600">
            <a:off x="4009680" y="582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rot="576600">
            <a:off x="4039920" y="619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rot="576600">
            <a:off x="4424040" y="654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rot="576600">
            <a:off x="4454280" y="690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rot="576600">
            <a:off x="4838400" y="7239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rot="576600">
            <a:off x="4868640" y="760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798640" y="4096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212640" y="47952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627000" y="54936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039920" y="6206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454280" y="6904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rot="576600">
            <a:off x="-64800" y="32148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rot="576600">
            <a:off x="2671560" y="94464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576600">
            <a:off x="2701440" y="981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rot="576600">
            <a:off x="3084120" y="1014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rot="576600">
            <a:off x="3114360" y="1050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576600">
            <a:off x="3499920" y="1083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rot="576600">
            <a:off x="3530160" y="1120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rot="576600">
            <a:off x="3912840" y="1153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rot="576600">
            <a:off x="3943080" y="1190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rot="576600">
            <a:off x="4327200" y="122544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rot="576600">
            <a:off x="4357440" y="1262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rot="576600">
            <a:off x="4741560" y="1295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rot="576600">
            <a:off x="4771800" y="1332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701800" y="981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115800" y="10508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30160" y="1119240"/>
            <a:ext cx="391320" cy="6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927600" y="118908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40160" y="125892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rot="576600">
            <a:off x="-161280" y="89316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rot="576600">
            <a:off x="2574720" y="151776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rot="576600">
            <a:off x="2604600" y="15541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rot="576600">
            <a:off x="2987280" y="15872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rot="576600">
            <a:off x="3017520" y="16239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rot="576600">
            <a:off x="3403080" y="16570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rot="576600">
            <a:off x="3433320" y="16938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rot="576600">
            <a:off x="3816000" y="17269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rot="576600">
            <a:off x="3846240" y="17636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rot="576600">
            <a:off x="4230360" y="1797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rot="576600">
            <a:off x="4260600" y="1833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rot="576600">
            <a:off x="4642920" y="18680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rot="576600">
            <a:off x="4673160" y="19051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604960" y="15541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017520" y="16239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433320" y="16938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846240" y="17636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260600" y="18352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576600">
            <a:off x="-258480" y="1466280"/>
            <a:ext cx="6536880" cy="796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576600">
            <a:off x="2477880" y="208764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576600">
            <a:off x="2507760" y="2124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576600">
            <a:off x="2890440" y="2157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576600">
            <a:off x="2920680" y="2193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576600">
            <a:off x="3306240" y="2226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576600">
            <a:off x="3336480" y="2263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576600">
            <a:off x="3719160" y="2296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576600">
            <a:off x="3749400" y="233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576600">
            <a:off x="4133520" y="23670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576600">
            <a:off x="4163760" y="2403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576600">
            <a:off x="4547880" y="243684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576600">
            <a:off x="4578120" y="2473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508120" y="2124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922120" y="21938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336480" y="226368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749400" y="233352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163760" y="240336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576600">
            <a:off x="-355320" y="203436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2507400" y="1551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2604240" y="98028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2701080" y="408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rot="576600">
            <a:off x="2493360" y="-789120"/>
            <a:ext cx="3866760" cy="471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2912040" y="16167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3009240" y="10450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3105720" y="47232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rot="576600">
            <a:off x="2897640" y="-726840"/>
            <a:ext cx="386388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3344400" y="168480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3440880" y="111348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3537720" y="54036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rot="576600">
            <a:off x="3329280" y="-658800"/>
            <a:ext cx="3866760" cy="47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3748680" y="174852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3845880" y="117684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3942360" y="6040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rot="576600">
            <a:off x="3734280" y="-5947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4160160" y="18309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4256640" y="125964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4353840" y="6879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rot="576600">
            <a:off x="4145760" y="-509040"/>
            <a:ext cx="3863880" cy="471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4577400" y="18993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4674600" y="13276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4771080" y="75492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rot="576600">
            <a:off x="4563000" y="-44388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2508120" y="2123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604960" y="15541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2701800" y="980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798640" y="40968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2916360" y="216648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013200" y="159696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3110040" y="102348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206880" y="4525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3324240" y="226332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421080" y="169380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3517920" y="112032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614760" y="54936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3732120" y="23353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828960" y="17654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3925800" y="11923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022640" y="620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4140360" y="24066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237200" y="18367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4334040" y="12636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430880" y="69228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548240" y="24782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645080" y="190800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4741920" y="13352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838760" y="76356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2507760" y="119052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2921040" y="1268280"/>
            <a:ext cx="143496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333240" y="134604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2598840" y="620640"/>
            <a:ext cx="1434960" cy="39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011040" y="69840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424320" y="776160"/>
            <a:ext cx="143496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701800" y="981000"/>
            <a:ext cx="104796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092400" y="1052640"/>
            <a:ext cx="1047960" cy="44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524400" y="1123920"/>
            <a:ext cx="104760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771640" y="404640"/>
            <a:ext cx="104796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203640" y="476280"/>
            <a:ext cx="1047600" cy="44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5280" y="549360"/>
            <a:ext cx="1006560" cy="44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530160" y="2473200"/>
            <a:ext cx="104796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3131640" y="2421000"/>
            <a:ext cx="1047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2700360" y="2349360"/>
            <a:ext cx="1047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3602160" y="1897200"/>
            <a:ext cx="104760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3203640" y="1844640"/>
            <a:ext cx="104760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2771280" y="1773360"/>
            <a:ext cx="1047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433680" y="1693800"/>
            <a:ext cx="143532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987640" y="1628640"/>
            <a:ext cx="143496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631960" y="1563840"/>
            <a:ext cx="143532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86080" y="2236680"/>
            <a:ext cx="143532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840040" y="2171880"/>
            <a:ext cx="143496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484360" y="2106720"/>
            <a:ext cx="143532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rollary 8. Let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be faithful graph of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i=1,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 The graph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,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,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1-EFT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.  Furthermo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eft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2(|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)|-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|)(|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)-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|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314000" y="4745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ens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mma 10. Let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be a positive even integer for all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C*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optimal 1-EFT graph with respect to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C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 Furthermore,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eft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(C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)=(</a:t>
            </a:r>
            <a:r>
              <a:rPr b="0" i="1" lang="zh-TW" sz="3200" spc="-1" strike="noStrike">
                <a:solidFill>
                  <a:srgbClr val="ff7c80"/>
                </a:solidFill>
                <a:latin typeface="Symbol"/>
                <a:ea typeface="Symbol"/>
              </a:rPr>
              <a:t>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=1</a:t>
            </a:r>
            <a:r>
              <a:rPr b="0" i="1" lang="zh-TW" sz="3200" spc="-1" strike="noStrike" baseline="30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 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/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1187280" y="2276640"/>
                <a:ext cx="595332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jecture  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each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n odd integer with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bviously, 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k+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for any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reover,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optima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1-EFT(P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t is easy to check that the torus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C(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…, 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1-edge fault tolerant graph for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M(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…, 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1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i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n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958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79560" y="5894280"/>
            <a:ext cx="127080" cy="127080"/>
            <a:chOff x="979560" y="5894280"/>
            <a:chExt cx="127080" cy="127080"/>
          </a:xfrm>
        </p:grpSpPr>
        <p:sp>
          <p:nvSpPr>
            <p:cNvPr id="48" name=""/>
            <p:cNvSpPr/>
            <p:nvPr/>
          </p:nvSpPr>
          <p:spPr>
            <a:xfrm>
              <a:off x="97956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292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717560" y="5894280"/>
            <a:ext cx="127080" cy="127080"/>
            <a:chOff x="1717560" y="5894280"/>
            <a:chExt cx="127080" cy="127080"/>
          </a:xfrm>
        </p:grpSpPr>
        <p:sp>
          <p:nvSpPr>
            <p:cNvPr id="51" name=""/>
            <p:cNvSpPr/>
            <p:nvPr/>
          </p:nvSpPr>
          <p:spPr>
            <a:xfrm>
              <a:off x="171756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8128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455920" y="5894280"/>
            <a:ext cx="127080" cy="127080"/>
            <a:chOff x="2455920" y="5894280"/>
            <a:chExt cx="127080" cy="127080"/>
          </a:xfrm>
        </p:grpSpPr>
        <p:sp>
          <p:nvSpPr>
            <p:cNvPr id="54" name=""/>
            <p:cNvSpPr/>
            <p:nvPr/>
          </p:nvSpPr>
          <p:spPr>
            <a:xfrm>
              <a:off x="245592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1928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193920" y="5894280"/>
            <a:ext cx="127080" cy="127080"/>
            <a:chOff x="3193920" y="5894280"/>
            <a:chExt cx="127080" cy="127080"/>
          </a:xfrm>
        </p:grpSpPr>
        <p:sp>
          <p:nvSpPr>
            <p:cNvPr id="57" name=""/>
            <p:cNvSpPr/>
            <p:nvPr/>
          </p:nvSpPr>
          <p:spPr>
            <a:xfrm>
              <a:off x="319392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5764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32280" y="5894280"/>
            <a:ext cx="127080" cy="127080"/>
            <a:chOff x="3932280" y="5894280"/>
            <a:chExt cx="127080" cy="127080"/>
          </a:xfrm>
        </p:grpSpPr>
        <p:sp>
          <p:nvSpPr>
            <p:cNvPr id="60" name=""/>
            <p:cNvSpPr/>
            <p:nvPr/>
          </p:nvSpPr>
          <p:spPr>
            <a:xfrm>
              <a:off x="393228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70280" y="5894280"/>
            <a:ext cx="127080" cy="127080"/>
            <a:chOff x="4670280" y="5894280"/>
            <a:chExt cx="127080" cy="127080"/>
          </a:xfrm>
        </p:grpSpPr>
        <p:sp>
          <p:nvSpPr>
            <p:cNvPr id="63" name=""/>
            <p:cNvSpPr/>
            <p:nvPr/>
          </p:nvSpPr>
          <p:spPr>
            <a:xfrm>
              <a:off x="467028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3400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408640" y="5894280"/>
            <a:ext cx="127080" cy="127080"/>
            <a:chOff x="5408640" y="5894280"/>
            <a:chExt cx="127080" cy="127080"/>
          </a:xfrm>
        </p:grpSpPr>
        <p:sp>
          <p:nvSpPr>
            <p:cNvPr id="66" name=""/>
            <p:cNvSpPr/>
            <p:nvPr/>
          </p:nvSpPr>
          <p:spPr>
            <a:xfrm>
              <a:off x="540864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7200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6640" y="5894280"/>
            <a:ext cx="127080" cy="127080"/>
            <a:chOff x="6146640" y="5894280"/>
            <a:chExt cx="127080" cy="127080"/>
          </a:xfrm>
        </p:grpSpPr>
        <p:sp>
          <p:nvSpPr>
            <p:cNvPr id="69" name=""/>
            <p:cNvSpPr/>
            <p:nvPr/>
          </p:nvSpPr>
          <p:spPr>
            <a:xfrm>
              <a:off x="614664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1036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885000" y="5894280"/>
            <a:ext cx="127080" cy="127080"/>
            <a:chOff x="6885000" y="5894280"/>
            <a:chExt cx="127080" cy="127080"/>
          </a:xfrm>
        </p:grpSpPr>
        <p:sp>
          <p:nvSpPr>
            <p:cNvPr id="72" name=""/>
            <p:cNvSpPr/>
            <p:nvPr/>
          </p:nvSpPr>
          <p:spPr>
            <a:xfrm>
              <a:off x="688500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4836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-4916520" y="-11366640"/>
            <a:ext cx="17827920" cy="178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7" y="20990"/>
                </a:moveTo>
                <a:arcTo wR="10800" hR="10800" stAng="4239360" swAng="2321278"/>
                <a:lnTo>
                  <a:pt x="10800" y="10800"/>
                </a:lnTo>
                <a:close/>
              </a:path>
              <a:path fill="none" w="21600" h="21600">
                <a:moveTo>
                  <a:pt x="14377" y="20990"/>
                </a:moveTo>
                <a:arcTo wR="10800" hR="10800" stAng="4239360" swAng="2321278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*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optima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f it contains the least number of edges among al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eft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(G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o denote the difference between the number of edges in an optima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 and that in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2060640"/>
            <a:ext cx="2735280" cy="273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400000">
            <a:off x="1736640" y="21790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1052640" y="336564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7200000">
            <a:off x="1735920" y="45496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3600000">
            <a:off x="3102840" y="45496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336384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000000">
            <a:off x="3103560" y="217944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060640"/>
            <a:ext cx="2735280" cy="273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500000">
            <a:off x="5484960" y="239724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100000">
            <a:off x="5484600" y="43318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700000">
            <a:off x="7419600" y="43322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900000">
            <a:off x="7419600" y="2396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2243160"/>
            <a:ext cx="1366560" cy="2370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800360" y="2243160"/>
            <a:ext cx="1366560" cy="2370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16000" y="3427560"/>
            <a:ext cx="27352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8320" y="2460600"/>
            <a:ext cx="1935000" cy="1935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47960" y="2460600"/>
            <a:ext cx="1935000" cy="1935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5229360"/>
            <a:ext cx="96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24960" y="5229360"/>
            <a:ext cx="96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96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99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102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105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108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111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5572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4780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4168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376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2764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957760" y="118908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120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123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126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129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132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135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5572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780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168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376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764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2957760" y="220032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144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147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150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153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156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159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75572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4780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4168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3376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2764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957760" y="321156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168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171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174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177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180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183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75572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4780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168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376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2957760" y="422100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69880" y="-1036800"/>
            <a:ext cx="8219520" cy="8220240"/>
            <a:chOff x="1469880" y="-1036800"/>
            <a:chExt cx="8219520" cy="8220240"/>
          </a:xfrm>
        </p:grpSpPr>
        <p:sp>
          <p:nvSpPr>
            <p:cNvPr id="192" name=""/>
            <p:cNvSpPr/>
            <p:nvPr/>
          </p:nvSpPr>
          <p:spPr>
            <a:xfrm flipV="1">
              <a:off x="1755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55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55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9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340000" y="-1044360"/>
            <a:ext cx="8219520" cy="8219160"/>
            <a:chOff x="2340000" y="-1044360"/>
            <a:chExt cx="8219520" cy="8219160"/>
          </a:xfrm>
        </p:grpSpPr>
        <p:sp>
          <p:nvSpPr>
            <p:cNvPr id="197" name=""/>
            <p:cNvSpPr/>
            <p:nvPr/>
          </p:nvSpPr>
          <p:spPr>
            <a:xfrm flipV="1">
              <a:off x="262584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62584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62584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0000" y="-104436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0240" y="-1052280"/>
            <a:ext cx="8219520" cy="8219160"/>
            <a:chOff x="3270240" y="-1052280"/>
            <a:chExt cx="8219520" cy="8219160"/>
          </a:xfrm>
        </p:grpSpPr>
        <p:sp>
          <p:nvSpPr>
            <p:cNvPr id="202" name=""/>
            <p:cNvSpPr/>
            <p:nvPr/>
          </p:nvSpPr>
          <p:spPr>
            <a:xfrm flipV="1">
              <a:off x="3556080" y="35636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556080" y="25524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556080" y="15415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0240" y="-105228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40360" y="-1060200"/>
            <a:ext cx="8219160" cy="8219160"/>
            <a:chOff x="4140360" y="-1060200"/>
            <a:chExt cx="8219160" cy="8219160"/>
          </a:xfrm>
        </p:grpSpPr>
        <p:sp>
          <p:nvSpPr>
            <p:cNvPr id="207" name=""/>
            <p:cNvSpPr/>
            <p:nvPr/>
          </p:nvSpPr>
          <p:spPr>
            <a:xfrm flipV="1">
              <a:off x="4425840" y="355572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425840" y="254448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425840" y="15336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40360" y="-106020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33880" y="-1036800"/>
            <a:ext cx="8219520" cy="8220240"/>
            <a:chOff x="5033880" y="-1036800"/>
            <a:chExt cx="8219520" cy="8220240"/>
          </a:xfrm>
        </p:grpSpPr>
        <p:sp>
          <p:nvSpPr>
            <p:cNvPr id="212" name=""/>
            <p:cNvSpPr/>
            <p:nvPr/>
          </p:nvSpPr>
          <p:spPr>
            <a:xfrm flipV="1">
              <a:off x="5319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319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319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33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934240" y="-1044360"/>
            <a:ext cx="8219160" cy="8219160"/>
            <a:chOff x="5934240" y="-1044360"/>
            <a:chExt cx="8219160" cy="8219160"/>
          </a:xfrm>
        </p:grpSpPr>
        <p:sp>
          <p:nvSpPr>
            <p:cNvPr id="217" name=""/>
            <p:cNvSpPr/>
            <p:nvPr/>
          </p:nvSpPr>
          <p:spPr>
            <a:xfrm flipV="1">
              <a:off x="621972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21972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21972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34240" y="-104436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77600" y="5589720"/>
            <a:ext cx="90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223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226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229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232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235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238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241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244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247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250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253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256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259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262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265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268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271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274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277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280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283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286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289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292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685960" y="256536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64000" y="256212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763640" y="155736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685960" y="1552320"/>
            <a:ext cx="2678040" cy="20206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564000" y="154764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572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5516640"/>
            <a:ext cx="269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-E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-E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90160" y="60930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309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312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315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318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321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324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75572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4780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168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3376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2764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2957760" y="118908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333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336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339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342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345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348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75572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80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4168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3376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56860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2957760" y="220032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357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360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363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366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369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372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75572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4780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4168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3376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2764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2957760" y="321156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381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384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387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390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393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396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75572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4780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4168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3376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2764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2957760" y="422100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469880" y="-1036800"/>
            <a:ext cx="8219520" cy="8220240"/>
            <a:chOff x="1469880" y="-1036800"/>
            <a:chExt cx="8219520" cy="8220240"/>
          </a:xfrm>
        </p:grpSpPr>
        <p:sp>
          <p:nvSpPr>
            <p:cNvPr id="405" name=""/>
            <p:cNvSpPr/>
            <p:nvPr/>
          </p:nvSpPr>
          <p:spPr>
            <a:xfrm flipV="1">
              <a:off x="1755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755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755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69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340000" y="-1044360"/>
            <a:ext cx="8219520" cy="8219160"/>
            <a:chOff x="2340000" y="-1044360"/>
            <a:chExt cx="8219520" cy="8219160"/>
          </a:xfrm>
        </p:grpSpPr>
        <p:sp>
          <p:nvSpPr>
            <p:cNvPr id="410" name=""/>
            <p:cNvSpPr/>
            <p:nvPr/>
          </p:nvSpPr>
          <p:spPr>
            <a:xfrm flipV="1">
              <a:off x="262584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62584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2584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40000" y="-104436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70240" y="-1052280"/>
            <a:ext cx="8219520" cy="8219160"/>
            <a:chOff x="3270240" y="-1052280"/>
            <a:chExt cx="8219520" cy="8219160"/>
          </a:xfrm>
        </p:grpSpPr>
        <p:sp>
          <p:nvSpPr>
            <p:cNvPr id="415" name=""/>
            <p:cNvSpPr/>
            <p:nvPr/>
          </p:nvSpPr>
          <p:spPr>
            <a:xfrm flipV="1">
              <a:off x="3556080" y="35636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556080" y="25524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56080" y="15415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0240" y="-105228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140360" y="-1060200"/>
            <a:ext cx="8219160" cy="8219160"/>
            <a:chOff x="4140360" y="-1060200"/>
            <a:chExt cx="8219160" cy="8219160"/>
          </a:xfrm>
        </p:grpSpPr>
        <p:sp>
          <p:nvSpPr>
            <p:cNvPr id="420" name=""/>
            <p:cNvSpPr/>
            <p:nvPr/>
          </p:nvSpPr>
          <p:spPr>
            <a:xfrm flipV="1">
              <a:off x="4425840" y="355572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425840" y="254448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425840" y="15336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40360" y="-106020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033880" y="-1036800"/>
            <a:ext cx="8219520" cy="8220240"/>
            <a:chOff x="5033880" y="-1036800"/>
            <a:chExt cx="8219520" cy="8220240"/>
          </a:xfrm>
        </p:grpSpPr>
        <p:sp>
          <p:nvSpPr>
            <p:cNvPr id="425" name=""/>
            <p:cNvSpPr/>
            <p:nvPr/>
          </p:nvSpPr>
          <p:spPr>
            <a:xfrm flipV="1">
              <a:off x="5319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9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319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3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934240" y="-1044360"/>
            <a:ext cx="8219160" cy="8219160"/>
            <a:chOff x="5934240" y="-1044360"/>
            <a:chExt cx="8219160" cy="8219160"/>
          </a:xfrm>
        </p:grpSpPr>
        <p:sp>
          <p:nvSpPr>
            <p:cNvPr id="430" name=""/>
            <p:cNvSpPr/>
            <p:nvPr/>
          </p:nvSpPr>
          <p:spPr>
            <a:xfrm flipV="1">
              <a:off x="621972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21972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21972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34240" y="-104436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V="1"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175536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75572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75536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43120" y="5318280"/>
            <a:ext cx="340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5805360"/>
            <a:ext cx="561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1:02:27Z</dcterms:created>
  <dc:creator>lhhsu</dc:creator>
  <dc:description/>
  <dc:language>en-US</dc:language>
  <cp:lastModifiedBy>LHHSU</cp:lastModifiedBy>
  <dcterms:modified xsi:type="dcterms:W3CDTF">2004-11-25T07:26:52Z</dcterms:modified>
  <cp:revision>14</cp:revision>
  <dc:subject/>
  <dc:title>Faithful 1-edge fault tolerant graphs</dc:title>
</cp:coreProperties>
</file>