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412-CD01-4878-BD12-DE30D9C4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FB4-81F1-4D56-A085-804AC150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EFE-54F4-48A2-97F2-D3753C0F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9D7-0368-42E0-AFE3-1471C34C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E7B-91CE-4B58-BD75-652ACC52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110-D6A6-4469-8B82-C00D7B8A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F13-E731-4958-941C-68F2F078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8BD-B5BC-40DB-B0D5-141F301B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BBA-99CA-4290-9289-8B804243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CC0-7949-4A79-957B-82F56132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E4A-E5F3-4F3D-874D-A88C2518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D1A-8F40-4436-9C09-417EB5CB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8EAD-CB90-48EC-A343-A8754774BA3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thful 1-edge fault tolerant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hih-Yih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Lih-Hsing H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ing-Ti 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formation Processing Letters 61 (1997) 173-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757080" y="534960"/>
            <a:ext cx="82800" cy="82440"/>
            <a:chOff x="757080" y="534960"/>
            <a:chExt cx="82800" cy="82440"/>
          </a:xfrm>
        </p:grpSpPr>
        <p:sp>
          <p:nvSpPr>
            <p:cNvPr id="449" name=""/>
            <p:cNvSpPr/>
            <p:nvPr/>
          </p:nvSpPr>
          <p:spPr>
            <a:xfrm>
              <a:off x="757080" y="534960"/>
              <a:ext cx="8280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12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339920" y="534960"/>
            <a:ext cx="82440" cy="82440"/>
            <a:chOff x="1339920" y="534960"/>
            <a:chExt cx="82440" cy="82440"/>
          </a:xfrm>
        </p:grpSpPr>
        <p:sp>
          <p:nvSpPr>
            <p:cNvPr id="452" name=""/>
            <p:cNvSpPr/>
            <p:nvPr/>
          </p:nvSpPr>
          <p:spPr>
            <a:xfrm>
              <a:off x="1339920" y="5349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8132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24200" y="534960"/>
            <a:ext cx="82440" cy="82440"/>
            <a:chOff x="1924200" y="534960"/>
            <a:chExt cx="82440" cy="82440"/>
          </a:xfrm>
        </p:grpSpPr>
        <p:sp>
          <p:nvSpPr>
            <p:cNvPr id="455" name=""/>
            <p:cNvSpPr/>
            <p:nvPr/>
          </p:nvSpPr>
          <p:spPr>
            <a:xfrm>
              <a:off x="1924200" y="5349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6524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506680" y="534960"/>
            <a:ext cx="82440" cy="82440"/>
            <a:chOff x="2506680" y="534960"/>
            <a:chExt cx="82440" cy="82440"/>
          </a:xfrm>
        </p:grpSpPr>
        <p:sp>
          <p:nvSpPr>
            <p:cNvPr id="458" name=""/>
            <p:cNvSpPr/>
            <p:nvPr/>
          </p:nvSpPr>
          <p:spPr>
            <a:xfrm>
              <a:off x="2506680" y="5349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4808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090960" y="534960"/>
            <a:ext cx="82440" cy="82440"/>
            <a:chOff x="3090960" y="534960"/>
            <a:chExt cx="82440" cy="82440"/>
          </a:xfrm>
        </p:grpSpPr>
        <p:sp>
          <p:nvSpPr>
            <p:cNvPr id="461" name=""/>
            <p:cNvSpPr/>
            <p:nvPr/>
          </p:nvSpPr>
          <p:spPr>
            <a:xfrm>
              <a:off x="3090960" y="5349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3200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673440" y="534960"/>
            <a:ext cx="84240" cy="82440"/>
            <a:chOff x="3673440" y="534960"/>
            <a:chExt cx="84240" cy="82440"/>
          </a:xfrm>
        </p:grpSpPr>
        <p:sp>
          <p:nvSpPr>
            <p:cNvPr id="464" name=""/>
            <p:cNvSpPr/>
            <p:nvPr/>
          </p:nvSpPr>
          <p:spPr>
            <a:xfrm>
              <a:off x="3673440" y="534960"/>
              <a:ext cx="842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15560" y="576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798480" y="57636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80960" y="57636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65240" y="57636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48080" y="57636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32000" y="57636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-2283480" y="334800"/>
            <a:ext cx="9081720" cy="908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757080" y="1195560"/>
            <a:ext cx="82800" cy="82440"/>
            <a:chOff x="757080" y="1195560"/>
            <a:chExt cx="82800" cy="82440"/>
          </a:xfrm>
        </p:grpSpPr>
        <p:sp>
          <p:nvSpPr>
            <p:cNvPr id="473" name=""/>
            <p:cNvSpPr/>
            <p:nvPr/>
          </p:nvSpPr>
          <p:spPr>
            <a:xfrm>
              <a:off x="757080" y="1195560"/>
              <a:ext cx="8280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812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339920" y="1195560"/>
            <a:ext cx="82440" cy="82440"/>
            <a:chOff x="1339920" y="1195560"/>
            <a:chExt cx="82440" cy="82440"/>
          </a:xfrm>
        </p:grpSpPr>
        <p:sp>
          <p:nvSpPr>
            <p:cNvPr id="476" name=""/>
            <p:cNvSpPr/>
            <p:nvPr/>
          </p:nvSpPr>
          <p:spPr>
            <a:xfrm>
              <a:off x="1339920" y="11955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8132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24200" y="1195560"/>
            <a:ext cx="82440" cy="82440"/>
            <a:chOff x="1924200" y="1195560"/>
            <a:chExt cx="82440" cy="82440"/>
          </a:xfrm>
        </p:grpSpPr>
        <p:sp>
          <p:nvSpPr>
            <p:cNvPr id="479" name=""/>
            <p:cNvSpPr/>
            <p:nvPr/>
          </p:nvSpPr>
          <p:spPr>
            <a:xfrm>
              <a:off x="1924200" y="11955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6524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506680" y="1195560"/>
            <a:ext cx="82440" cy="82440"/>
            <a:chOff x="2506680" y="1195560"/>
            <a:chExt cx="82440" cy="82440"/>
          </a:xfrm>
        </p:grpSpPr>
        <p:sp>
          <p:nvSpPr>
            <p:cNvPr id="482" name=""/>
            <p:cNvSpPr/>
            <p:nvPr/>
          </p:nvSpPr>
          <p:spPr>
            <a:xfrm>
              <a:off x="2506680" y="11955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4808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090960" y="1195560"/>
            <a:ext cx="82440" cy="82440"/>
            <a:chOff x="3090960" y="1195560"/>
            <a:chExt cx="82440" cy="82440"/>
          </a:xfrm>
        </p:grpSpPr>
        <p:sp>
          <p:nvSpPr>
            <p:cNvPr id="485" name=""/>
            <p:cNvSpPr/>
            <p:nvPr/>
          </p:nvSpPr>
          <p:spPr>
            <a:xfrm>
              <a:off x="3090960" y="119556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3200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673440" y="1195560"/>
            <a:ext cx="84240" cy="82440"/>
            <a:chOff x="3673440" y="1195560"/>
            <a:chExt cx="84240" cy="82440"/>
          </a:xfrm>
        </p:grpSpPr>
        <p:sp>
          <p:nvSpPr>
            <p:cNvPr id="488" name=""/>
            <p:cNvSpPr/>
            <p:nvPr/>
          </p:nvSpPr>
          <p:spPr>
            <a:xfrm>
              <a:off x="3673440" y="1195560"/>
              <a:ext cx="842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15560" y="1236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98480" y="123660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0960" y="1236600"/>
            <a:ext cx="5842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65240" y="1236600"/>
            <a:ext cx="58284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48080" y="123660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10040" y="1236600"/>
            <a:ext cx="60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-2283480" y="995400"/>
            <a:ext cx="9081720" cy="908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57080" y="1855800"/>
            <a:ext cx="82800" cy="84240"/>
            <a:chOff x="757080" y="1855800"/>
            <a:chExt cx="82800" cy="84240"/>
          </a:xfrm>
        </p:grpSpPr>
        <p:sp>
          <p:nvSpPr>
            <p:cNvPr id="497" name=""/>
            <p:cNvSpPr/>
            <p:nvPr/>
          </p:nvSpPr>
          <p:spPr>
            <a:xfrm>
              <a:off x="757080" y="1855800"/>
              <a:ext cx="8280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812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339920" y="1855800"/>
            <a:ext cx="82440" cy="84240"/>
            <a:chOff x="1339920" y="1855800"/>
            <a:chExt cx="82440" cy="84240"/>
          </a:xfrm>
        </p:grpSpPr>
        <p:sp>
          <p:nvSpPr>
            <p:cNvPr id="500" name=""/>
            <p:cNvSpPr/>
            <p:nvPr/>
          </p:nvSpPr>
          <p:spPr>
            <a:xfrm>
              <a:off x="1339920" y="1855800"/>
              <a:ext cx="8244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8132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924200" y="1855800"/>
            <a:ext cx="82440" cy="84240"/>
            <a:chOff x="1924200" y="1855800"/>
            <a:chExt cx="82440" cy="84240"/>
          </a:xfrm>
        </p:grpSpPr>
        <p:sp>
          <p:nvSpPr>
            <p:cNvPr id="503" name=""/>
            <p:cNvSpPr/>
            <p:nvPr/>
          </p:nvSpPr>
          <p:spPr>
            <a:xfrm>
              <a:off x="1924200" y="1855800"/>
              <a:ext cx="8244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6524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506680" y="1855800"/>
            <a:ext cx="82440" cy="84240"/>
            <a:chOff x="2506680" y="1855800"/>
            <a:chExt cx="82440" cy="84240"/>
          </a:xfrm>
        </p:grpSpPr>
        <p:sp>
          <p:nvSpPr>
            <p:cNvPr id="506" name=""/>
            <p:cNvSpPr/>
            <p:nvPr/>
          </p:nvSpPr>
          <p:spPr>
            <a:xfrm>
              <a:off x="2506680" y="1855800"/>
              <a:ext cx="8244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4808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090960" y="1855800"/>
            <a:ext cx="82440" cy="84240"/>
            <a:chOff x="3090960" y="1855800"/>
            <a:chExt cx="82440" cy="84240"/>
          </a:xfrm>
        </p:grpSpPr>
        <p:sp>
          <p:nvSpPr>
            <p:cNvPr id="509" name=""/>
            <p:cNvSpPr/>
            <p:nvPr/>
          </p:nvSpPr>
          <p:spPr>
            <a:xfrm>
              <a:off x="3090960" y="1855800"/>
              <a:ext cx="8244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200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673440" y="1855800"/>
            <a:ext cx="84240" cy="84240"/>
            <a:chOff x="3673440" y="1855800"/>
            <a:chExt cx="84240" cy="84240"/>
          </a:xfrm>
        </p:grpSpPr>
        <p:sp>
          <p:nvSpPr>
            <p:cNvPr id="512" name=""/>
            <p:cNvSpPr/>
            <p:nvPr/>
          </p:nvSpPr>
          <p:spPr>
            <a:xfrm>
              <a:off x="3673440" y="1855800"/>
              <a:ext cx="84240" cy="8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15560" y="1897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98480" y="189720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0960" y="189720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65240" y="189720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548080" y="189720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32000" y="189720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2283480" y="1657440"/>
            <a:ext cx="9081720" cy="908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57080" y="2516040"/>
            <a:ext cx="82800" cy="82800"/>
            <a:chOff x="757080" y="2516040"/>
            <a:chExt cx="82800" cy="82800"/>
          </a:xfrm>
        </p:grpSpPr>
        <p:sp>
          <p:nvSpPr>
            <p:cNvPr id="521" name=""/>
            <p:cNvSpPr/>
            <p:nvPr/>
          </p:nvSpPr>
          <p:spPr>
            <a:xfrm>
              <a:off x="757080" y="2516040"/>
              <a:ext cx="8280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812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339920" y="2516040"/>
            <a:ext cx="82440" cy="82800"/>
            <a:chOff x="1339920" y="2516040"/>
            <a:chExt cx="82440" cy="82800"/>
          </a:xfrm>
        </p:grpSpPr>
        <p:sp>
          <p:nvSpPr>
            <p:cNvPr id="524" name=""/>
            <p:cNvSpPr/>
            <p:nvPr/>
          </p:nvSpPr>
          <p:spPr>
            <a:xfrm>
              <a:off x="1339920" y="2516040"/>
              <a:ext cx="824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8132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924200" y="2516040"/>
            <a:ext cx="82440" cy="82800"/>
            <a:chOff x="1924200" y="2516040"/>
            <a:chExt cx="82440" cy="82800"/>
          </a:xfrm>
        </p:grpSpPr>
        <p:sp>
          <p:nvSpPr>
            <p:cNvPr id="527" name=""/>
            <p:cNvSpPr/>
            <p:nvPr/>
          </p:nvSpPr>
          <p:spPr>
            <a:xfrm>
              <a:off x="1924200" y="2516040"/>
              <a:ext cx="824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96524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506680" y="2516040"/>
            <a:ext cx="82440" cy="82800"/>
            <a:chOff x="2506680" y="2516040"/>
            <a:chExt cx="82440" cy="82800"/>
          </a:xfrm>
        </p:grpSpPr>
        <p:sp>
          <p:nvSpPr>
            <p:cNvPr id="530" name=""/>
            <p:cNvSpPr/>
            <p:nvPr/>
          </p:nvSpPr>
          <p:spPr>
            <a:xfrm>
              <a:off x="2506680" y="2516040"/>
              <a:ext cx="824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4808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090960" y="2516040"/>
            <a:ext cx="82440" cy="82800"/>
            <a:chOff x="3090960" y="2516040"/>
            <a:chExt cx="82440" cy="82800"/>
          </a:xfrm>
        </p:grpSpPr>
        <p:sp>
          <p:nvSpPr>
            <p:cNvPr id="533" name=""/>
            <p:cNvSpPr/>
            <p:nvPr/>
          </p:nvSpPr>
          <p:spPr>
            <a:xfrm>
              <a:off x="3090960" y="2516040"/>
              <a:ext cx="824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3200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3673440" y="2516040"/>
            <a:ext cx="84240" cy="82800"/>
            <a:chOff x="3673440" y="2516040"/>
            <a:chExt cx="84240" cy="82800"/>
          </a:xfrm>
        </p:grpSpPr>
        <p:sp>
          <p:nvSpPr>
            <p:cNvPr id="536" name=""/>
            <p:cNvSpPr/>
            <p:nvPr/>
          </p:nvSpPr>
          <p:spPr>
            <a:xfrm>
              <a:off x="3673440" y="2516040"/>
              <a:ext cx="842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15560" y="25574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798480" y="255744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380960" y="255744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65240" y="255744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48080" y="2557440"/>
            <a:ext cx="58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32000" y="2557440"/>
            <a:ext cx="5842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-2283480" y="2317680"/>
            <a:ext cx="9081720" cy="908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11280" y="-1118160"/>
            <a:ext cx="5371560" cy="5370120"/>
            <a:chOff x="611280" y="-1118160"/>
            <a:chExt cx="5371560" cy="5370120"/>
          </a:xfrm>
        </p:grpSpPr>
        <p:sp>
          <p:nvSpPr>
            <p:cNvPr id="545" name=""/>
            <p:cNvSpPr/>
            <p:nvPr/>
          </p:nvSpPr>
          <p:spPr>
            <a:xfrm flipV="1">
              <a:off x="797760" y="1897560"/>
              <a:ext cx="0" cy="6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97760" y="123660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97760" y="57600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280" y="-1118160"/>
              <a:ext cx="5371560" cy="537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179360" y="-1126440"/>
            <a:ext cx="5372280" cy="5375160"/>
            <a:chOff x="1179360" y="-1126440"/>
            <a:chExt cx="5372280" cy="5375160"/>
          </a:xfrm>
        </p:grpSpPr>
        <p:sp>
          <p:nvSpPr>
            <p:cNvPr id="550" name=""/>
            <p:cNvSpPr/>
            <p:nvPr/>
          </p:nvSpPr>
          <p:spPr>
            <a:xfrm flipV="1">
              <a:off x="1365840" y="189216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365840" y="123084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365840" y="56988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79360" y="-1126440"/>
              <a:ext cx="5372280" cy="53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787400" y="-1131120"/>
            <a:ext cx="5372280" cy="5375160"/>
            <a:chOff x="1787400" y="-1131120"/>
            <a:chExt cx="5372280" cy="5375160"/>
          </a:xfrm>
        </p:grpSpPr>
        <p:sp>
          <p:nvSpPr>
            <p:cNvPr id="555" name=""/>
            <p:cNvSpPr/>
            <p:nvPr/>
          </p:nvSpPr>
          <p:spPr>
            <a:xfrm flipV="1">
              <a:off x="1973880" y="188748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1973880" y="122616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1973880" y="56520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87400" y="-1131120"/>
              <a:ext cx="5372280" cy="53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2355840" y="-1134000"/>
            <a:ext cx="5371560" cy="5370120"/>
            <a:chOff x="2355840" y="-1134000"/>
            <a:chExt cx="5371560" cy="5370120"/>
          </a:xfrm>
        </p:grpSpPr>
        <p:sp>
          <p:nvSpPr>
            <p:cNvPr id="560" name=""/>
            <p:cNvSpPr/>
            <p:nvPr/>
          </p:nvSpPr>
          <p:spPr>
            <a:xfrm flipV="1">
              <a:off x="2542320" y="1881720"/>
              <a:ext cx="0" cy="6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542320" y="122076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542320" y="56016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55840" y="-1134000"/>
              <a:ext cx="5371560" cy="537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2940120" y="-1118160"/>
            <a:ext cx="5371560" cy="5370120"/>
            <a:chOff x="2940120" y="-1118160"/>
            <a:chExt cx="5371560" cy="5370120"/>
          </a:xfrm>
        </p:grpSpPr>
        <p:sp>
          <p:nvSpPr>
            <p:cNvPr id="565" name=""/>
            <p:cNvSpPr/>
            <p:nvPr/>
          </p:nvSpPr>
          <p:spPr>
            <a:xfrm flipV="1">
              <a:off x="3126600" y="1897560"/>
              <a:ext cx="0" cy="6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26600" y="123660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126600" y="576000"/>
              <a:ext cx="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40120" y="-1118160"/>
              <a:ext cx="5371560" cy="537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29080" y="-1126440"/>
            <a:ext cx="5371560" cy="5375160"/>
            <a:chOff x="3529080" y="-1126440"/>
            <a:chExt cx="5371560" cy="5375160"/>
          </a:xfrm>
        </p:grpSpPr>
        <p:sp>
          <p:nvSpPr>
            <p:cNvPr id="570" name=""/>
            <p:cNvSpPr/>
            <p:nvPr/>
          </p:nvSpPr>
          <p:spPr>
            <a:xfrm flipV="1">
              <a:off x="3715560" y="189216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715560" y="123084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715560" y="569880"/>
              <a:ext cx="0" cy="6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080" y="-1126440"/>
              <a:ext cx="5371560" cy="53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 flipV="1">
            <a:off x="798480" y="1236240"/>
            <a:ext cx="1749600" cy="13208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380960" y="123624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965240" y="123624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798480" y="1236240"/>
            <a:ext cx="174960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80960" y="1236600"/>
            <a:ext cx="1751040" cy="13208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965240" y="123660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98480" y="576000"/>
            <a:ext cx="174960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1380960" y="57600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65240" y="57600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798480" y="576000"/>
            <a:ext cx="174960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380960" y="57636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965240" y="576360"/>
            <a:ext cx="1751040" cy="1320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389960" y="303840"/>
            <a:ext cx="11184120" cy="12531600"/>
            <a:chOff x="1389960" y="303840"/>
            <a:chExt cx="11184120" cy="12531600"/>
          </a:xfrm>
        </p:grpSpPr>
        <p:grpSp>
          <p:nvGrpSpPr>
            <p:cNvPr id="587" name=""/>
            <p:cNvGrpSpPr/>
            <p:nvPr/>
          </p:nvGrpSpPr>
          <p:grpSpPr>
            <a:xfrm>
              <a:off x="4430880" y="1973160"/>
              <a:ext cx="82440" cy="82080"/>
              <a:chOff x="4430880" y="1973160"/>
              <a:chExt cx="82440" cy="82080"/>
            </a:xfrm>
          </p:grpSpPr>
          <p:sp>
            <p:nvSpPr>
              <p:cNvPr id="588" name=""/>
              <p:cNvSpPr/>
              <p:nvPr/>
            </p:nvSpPr>
            <p:spPr>
              <a:xfrm>
                <a:off x="4430880" y="197316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47192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5013360" y="1973160"/>
              <a:ext cx="82440" cy="82080"/>
              <a:chOff x="5013360" y="1973160"/>
              <a:chExt cx="82440" cy="82080"/>
            </a:xfrm>
          </p:grpSpPr>
          <p:sp>
            <p:nvSpPr>
              <p:cNvPr id="591" name=""/>
              <p:cNvSpPr/>
              <p:nvPr/>
            </p:nvSpPr>
            <p:spPr>
              <a:xfrm>
                <a:off x="5013360" y="197316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05476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5597640" y="1973160"/>
              <a:ext cx="82440" cy="82080"/>
              <a:chOff x="5597640" y="1973160"/>
              <a:chExt cx="82440" cy="82080"/>
            </a:xfrm>
          </p:grpSpPr>
          <p:sp>
            <p:nvSpPr>
              <p:cNvPr id="594" name=""/>
              <p:cNvSpPr/>
              <p:nvPr/>
            </p:nvSpPr>
            <p:spPr>
              <a:xfrm>
                <a:off x="5597640" y="197316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63868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6180120" y="1973160"/>
              <a:ext cx="82440" cy="82080"/>
              <a:chOff x="6180120" y="1973160"/>
              <a:chExt cx="82440" cy="82080"/>
            </a:xfrm>
          </p:grpSpPr>
          <p:sp>
            <p:nvSpPr>
              <p:cNvPr id="597" name=""/>
              <p:cNvSpPr/>
              <p:nvPr/>
            </p:nvSpPr>
            <p:spPr>
              <a:xfrm>
                <a:off x="6180120" y="197316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2152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764400" y="1973160"/>
              <a:ext cx="82440" cy="82080"/>
              <a:chOff x="6764400" y="1973160"/>
              <a:chExt cx="82440" cy="82080"/>
            </a:xfrm>
          </p:grpSpPr>
          <p:sp>
            <p:nvSpPr>
              <p:cNvPr id="600" name=""/>
              <p:cNvSpPr/>
              <p:nvPr/>
            </p:nvSpPr>
            <p:spPr>
              <a:xfrm>
                <a:off x="6764400" y="197316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80544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7346880" y="1973160"/>
              <a:ext cx="84240" cy="82080"/>
              <a:chOff x="7346880" y="1973160"/>
              <a:chExt cx="84240" cy="82080"/>
            </a:xfrm>
          </p:grpSpPr>
          <p:sp>
            <p:nvSpPr>
              <p:cNvPr id="603" name=""/>
              <p:cNvSpPr/>
              <p:nvPr/>
            </p:nvSpPr>
            <p:spPr>
              <a:xfrm>
                <a:off x="7346880" y="1973160"/>
                <a:ext cx="842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389000" y="20142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4471920" y="201420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54760" y="20142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38680" y="201420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21520" y="20142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05440" y="201420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89960" y="1773360"/>
              <a:ext cx="9081720" cy="907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0" y="573"/>
                  </a:moveTo>
                  <a:arcTo wR="10800" hR="10800" stAng="-6524385" swAng="22487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0" y="573"/>
                  </a:moveTo>
                  <a:arcTo wR="10800" hR="10800" stAng="-6524385" swAng="22487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4430880" y="2633400"/>
              <a:ext cx="82440" cy="82440"/>
              <a:chOff x="4430880" y="2633400"/>
              <a:chExt cx="82440" cy="82440"/>
            </a:xfrm>
          </p:grpSpPr>
          <p:sp>
            <p:nvSpPr>
              <p:cNvPr id="612" name=""/>
              <p:cNvSpPr/>
              <p:nvPr/>
            </p:nvSpPr>
            <p:spPr>
              <a:xfrm>
                <a:off x="4430880" y="2633400"/>
                <a:ext cx="824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7192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013360" y="2633400"/>
              <a:ext cx="82440" cy="82440"/>
              <a:chOff x="5013360" y="2633400"/>
              <a:chExt cx="82440" cy="82440"/>
            </a:xfrm>
          </p:grpSpPr>
          <p:sp>
            <p:nvSpPr>
              <p:cNvPr id="615" name=""/>
              <p:cNvSpPr/>
              <p:nvPr/>
            </p:nvSpPr>
            <p:spPr>
              <a:xfrm>
                <a:off x="5013360" y="2633400"/>
                <a:ext cx="824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05476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5597640" y="2633400"/>
              <a:ext cx="82440" cy="82440"/>
              <a:chOff x="5597640" y="2633400"/>
              <a:chExt cx="82440" cy="82440"/>
            </a:xfrm>
          </p:grpSpPr>
          <p:sp>
            <p:nvSpPr>
              <p:cNvPr id="618" name=""/>
              <p:cNvSpPr/>
              <p:nvPr/>
            </p:nvSpPr>
            <p:spPr>
              <a:xfrm>
                <a:off x="5597640" y="2633400"/>
                <a:ext cx="824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63868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180120" y="2633400"/>
              <a:ext cx="82440" cy="82440"/>
              <a:chOff x="6180120" y="2633400"/>
              <a:chExt cx="82440" cy="82440"/>
            </a:xfrm>
          </p:grpSpPr>
          <p:sp>
            <p:nvSpPr>
              <p:cNvPr id="621" name=""/>
              <p:cNvSpPr/>
              <p:nvPr/>
            </p:nvSpPr>
            <p:spPr>
              <a:xfrm>
                <a:off x="6180120" y="2633400"/>
                <a:ext cx="824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2152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764400" y="2633400"/>
              <a:ext cx="82440" cy="82440"/>
              <a:chOff x="6764400" y="2633400"/>
              <a:chExt cx="82440" cy="82440"/>
            </a:xfrm>
          </p:grpSpPr>
          <p:sp>
            <p:nvSpPr>
              <p:cNvPr id="624" name=""/>
              <p:cNvSpPr/>
              <p:nvPr/>
            </p:nvSpPr>
            <p:spPr>
              <a:xfrm>
                <a:off x="6764400" y="2633400"/>
                <a:ext cx="824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0544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7346880" y="2633400"/>
              <a:ext cx="84240" cy="82440"/>
              <a:chOff x="7346880" y="2633400"/>
              <a:chExt cx="84240" cy="82440"/>
            </a:xfrm>
          </p:grpSpPr>
          <p:sp>
            <p:nvSpPr>
              <p:cNvPr id="627" name=""/>
              <p:cNvSpPr/>
              <p:nvPr/>
            </p:nvSpPr>
            <p:spPr>
              <a:xfrm>
                <a:off x="7346880" y="2633400"/>
                <a:ext cx="84240" cy="8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89000" y="26744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4471920" y="267480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54760" y="26748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638680" y="267480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21520" y="267480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83480" y="2674800"/>
              <a:ext cx="60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89960" y="2433600"/>
              <a:ext cx="9081720" cy="90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0" y="573"/>
                  </a:moveTo>
                  <a:arcTo wR="10800" hR="10800" stAng="-6524385" swAng="22487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0" y="573"/>
                  </a:moveTo>
                  <a:arcTo wR="10800" hR="10800" stAng="-6524385" swAng="22487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430880" y="3294000"/>
              <a:ext cx="82440" cy="83520"/>
              <a:chOff x="4430880" y="3294000"/>
              <a:chExt cx="82440" cy="83520"/>
            </a:xfrm>
          </p:grpSpPr>
          <p:sp>
            <p:nvSpPr>
              <p:cNvPr id="636" name=""/>
              <p:cNvSpPr/>
              <p:nvPr/>
            </p:nvSpPr>
            <p:spPr>
              <a:xfrm>
                <a:off x="4430880" y="3294000"/>
                <a:ext cx="824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7192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5013360" y="3294000"/>
              <a:ext cx="82440" cy="83520"/>
              <a:chOff x="5013360" y="3294000"/>
              <a:chExt cx="82440" cy="83520"/>
            </a:xfrm>
          </p:grpSpPr>
          <p:sp>
            <p:nvSpPr>
              <p:cNvPr id="639" name=""/>
              <p:cNvSpPr/>
              <p:nvPr/>
            </p:nvSpPr>
            <p:spPr>
              <a:xfrm>
                <a:off x="5013360" y="3294000"/>
                <a:ext cx="824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05476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597640" y="3294000"/>
              <a:ext cx="82440" cy="83520"/>
              <a:chOff x="5597640" y="3294000"/>
              <a:chExt cx="82440" cy="83520"/>
            </a:xfrm>
          </p:grpSpPr>
          <p:sp>
            <p:nvSpPr>
              <p:cNvPr id="642" name=""/>
              <p:cNvSpPr/>
              <p:nvPr/>
            </p:nvSpPr>
            <p:spPr>
              <a:xfrm>
                <a:off x="5597640" y="3294000"/>
                <a:ext cx="824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63868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6180120" y="3294000"/>
              <a:ext cx="82440" cy="83520"/>
              <a:chOff x="6180120" y="3294000"/>
              <a:chExt cx="82440" cy="83520"/>
            </a:xfrm>
          </p:grpSpPr>
          <p:sp>
            <p:nvSpPr>
              <p:cNvPr id="645" name=""/>
              <p:cNvSpPr/>
              <p:nvPr/>
            </p:nvSpPr>
            <p:spPr>
              <a:xfrm>
                <a:off x="6180120" y="3294000"/>
                <a:ext cx="824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2152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6764400" y="3294000"/>
              <a:ext cx="82440" cy="83520"/>
              <a:chOff x="6764400" y="3294000"/>
              <a:chExt cx="82440" cy="83520"/>
            </a:xfrm>
          </p:grpSpPr>
          <p:sp>
            <p:nvSpPr>
              <p:cNvPr id="648" name=""/>
              <p:cNvSpPr/>
              <p:nvPr/>
            </p:nvSpPr>
            <p:spPr>
              <a:xfrm>
                <a:off x="6764400" y="3294000"/>
                <a:ext cx="824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0544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7346880" y="3294000"/>
              <a:ext cx="84240" cy="83520"/>
              <a:chOff x="7346880" y="3294000"/>
              <a:chExt cx="84240" cy="83520"/>
            </a:xfrm>
          </p:grpSpPr>
          <p:sp>
            <p:nvSpPr>
              <p:cNvPr id="651" name=""/>
              <p:cNvSpPr/>
              <p:nvPr/>
            </p:nvSpPr>
            <p:spPr>
              <a:xfrm>
                <a:off x="7346880" y="3294000"/>
                <a:ext cx="84240" cy="8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89000" y="33357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4471920" y="333504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54760" y="333504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38680" y="3335040"/>
              <a:ext cx="58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21520" y="3335040"/>
              <a:ext cx="58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05440" y="333504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89960" y="3095280"/>
              <a:ext cx="9081720" cy="907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0" y="573"/>
                  </a:moveTo>
                  <a:arcTo wR="10800" hR="10800" stAng="-6524385" swAng="22487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0" y="573"/>
                  </a:moveTo>
                  <a:arcTo wR="10800" hR="10800" stAng="-6524385" swAng="22487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4430880" y="3954240"/>
              <a:ext cx="82440" cy="82080"/>
              <a:chOff x="4430880" y="3954240"/>
              <a:chExt cx="82440" cy="82080"/>
            </a:xfrm>
          </p:grpSpPr>
          <p:sp>
            <p:nvSpPr>
              <p:cNvPr id="660" name=""/>
              <p:cNvSpPr/>
              <p:nvPr/>
            </p:nvSpPr>
            <p:spPr>
              <a:xfrm>
                <a:off x="4430880" y="395424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7192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5013360" y="3954240"/>
              <a:ext cx="82440" cy="82080"/>
              <a:chOff x="5013360" y="3954240"/>
              <a:chExt cx="82440" cy="82080"/>
            </a:xfrm>
          </p:grpSpPr>
          <p:sp>
            <p:nvSpPr>
              <p:cNvPr id="663" name=""/>
              <p:cNvSpPr/>
              <p:nvPr/>
            </p:nvSpPr>
            <p:spPr>
              <a:xfrm>
                <a:off x="5013360" y="395424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05476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5597640" y="3954240"/>
              <a:ext cx="82440" cy="82080"/>
              <a:chOff x="5597640" y="3954240"/>
              <a:chExt cx="82440" cy="82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597640" y="395424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63868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6180120" y="3954240"/>
              <a:ext cx="82440" cy="82080"/>
              <a:chOff x="6180120" y="3954240"/>
              <a:chExt cx="82440" cy="82080"/>
            </a:xfrm>
          </p:grpSpPr>
          <p:sp>
            <p:nvSpPr>
              <p:cNvPr id="669" name=""/>
              <p:cNvSpPr/>
              <p:nvPr/>
            </p:nvSpPr>
            <p:spPr>
              <a:xfrm>
                <a:off x="6180120" y="395424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2152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764400" y="3954240"/>
              <a:ext cx="82440" cy="82080"/>
              <a:chOff x="6764400" y="3954240"/>
              <a:chExt cx="82440" cy="82080"/>
            </a:xfrm>
          </p:grpSpPr>
          <p:sp>
            <p:nvSpPr>
              <p:cNvPr id="672" name=""/>
              <p:cNvSpPr/>
              <p:nvPr/>
            </p:nvSpPr>
            <p:spPr>
              <a:xfrm>
                <a:off x="6764400" y="3954240"/>
                <a:ext cx="824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0544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346880" y="3954240"/>
              <a:ext cx="84240" cy="82080"/>
              <a:chOff x="7346880" y="3954240"/>
              <a:chExt cx="84240" cy="82080"/>
            </a:xfrm>
          </p:grpSpPr>
          <p:sp>
            <p:nvSpPr>
              <p:cNvPr id="675" name=""/>
              <p:cNvSpPr/>
              <p:nvPr/>
            </p:nvSpPr>
            <p:spPr>
              <a:xfrm>
                <a:off x="7346880" y="3954240"/>
                <a:ext cx="84240" cy="8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389000" y="399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471920" y="3995640"/>
              <a:ext cx="58284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54760" y="3995640"/>
              <a:ext cx="58392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38680" y="3995640"/>
              <a:ext cx="58284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21520" y="3995640"/>
              <a:ext cx="58392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05440" y="3995640"/>
              <a:ext cx="57492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89960" y="3755880"/>
              <a:ext cx="9081720" cy="907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0" y="573"/>
                  </a:moveTo>
                  <a:arcTo wR="10800" hR="10800" stAng="-6524385" swAng="22487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0" y="573"/>
                  </a:moveTo>
                  <a:arcTo wR="10800" hR="10800" stAng="-6524385" swAng="2248770"/>
                </a:path>
              </a:pathLst>
            </a:custGeom>
            <a:noFill/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4284720" y="319680"/>
              <a:ext cx="5371560" cy="5370120"/>
              <a:chOff x="4284720" y="319680"/>
              <a:chExt cx="5371560" cy="5370120"/>
            </a:xfrm>
          </p:grpSpPr>
          <p:sp>
            <p:nvSpPr>
              <p:cNvPr id="684" name=""/>
              <p:cNvSpPr/>
              <p:nvPr/>
            </p:nvSpPr>
            <p:spPr>
              <a:xfrm flipV="1">
                <a:off x="4471200" y="3335400"/>
                <a:ext cx="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4471200" y="267444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4471200" y="201384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284720" y="319680"/>
                <a:ext cx="5371560" cy="537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4853160" y="312120"/>
              <a:ext cx="5371560" cy="5374080"/>
              <a:chOff x="4853160" y="312120"/>
              <a:chExt cx="5371560" cy="537408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5039640" y="3330360"/>
                <a:ext cx="0" cy="66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5039640" y="266904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5039640" y="200808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53160" y="312120"/>
                <a:ext cx="5371560" cy="537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460840" y="307800"/>
              <a:ext cx="5372280" cy="5373360"/>
              <a:chOff x="5460840" y="307800"/>
              <a:chExt cx="5372280" cy="5373360"/>
            </a:xfrm>
          </p:grpSpPr>
          <p:sp>
            <p:nvSpPr>
              <p:cNvPr id="694" name=""/>
              <p:cNvSpPr/>
              <p:nvPr/>
            </p:nvSpPr>
            <p:spPr>
              <a:xfrm flipV="1">
                <a:off x="5647320" y="33249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5647320" y="266436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5647320" y="200340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60840" y="307800"/>
                <a:ext cx="5372280" cy="537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6029280" y="303840"/>
              <a:ext cx="5371560" cy="5370120"/>
              <a:chOff x="6029280" y="303840"/>
              <a:chExt cx="5371560" cy="5370120"/>
            </a:xfrm>
          </p:grpSpPr>
          <p:sp>
            <p:nvSpPr>
              <p:cNvPr id="699" name=""/>
              <p:cNvSpPr/>
              <p:nvPr/>
            </p:nvSpPr>
            <p:spPr>
              <a:xfrm flipV="1">
                <a:off x="6215760" y="3319560"/>
                <a:ext cx="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6215760" y="265860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215760" y="199800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29280" y="303840"/>
                <a:ext cx="5371560" cy="537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613560" y="319680"/>
              <a:ext cx="5371560" cy="5370120"/>
              <a:chOff x="6613560" y="319680"/>
              <a:chExt cx="5371560" cy="537012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6800040" y="3335400"/>
                <a:ext cx="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800040" y="267444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800040" y="2013840"/>
                <a:ext cx="0" cy="6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3560" y="319680"/>
                <a:ext cx="5371560" cy="537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7202520" y="312120"/>
              <a:ext cx="5371560" cy="5374080"/>
              <a:chOff x="7202520" y="312120"/>
              <a:chExt cx="5371560" cy="537408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7389000" y="3330360"/>
                <a:ext cx="0" cy="66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7389000" y="266904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389000" y="2008080"/>
                <a:ext cx="0" cy="6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02520" y="312120"/>
                <a:ext cx="5371560" cy="537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2" y="14784"/>
                    </a:moveTo>
                    <a:arcTo wR="10800" hR="10800" stAng="9501283" swAng="2597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2" y="14784"/>
                    </a:moveTo>
                    <a:arcTo wR="10800" hR="10800" stAng="9501283" swAng="25974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1042920" y="2492280"/>
            <a:ext cx="216000" cy="142920"/>
            <a:chOff x="1042920" y="2492280"/>
            <a:chExt cx="216000" cy="142920"/>
          </a:xfrm>
        </p:grpSpPr>
        <p:sp>
          <p:nvSpPr>
            <p:cNvPr id="714" name=""/>
            <p:cNvSpPr/>
            <p:nvPr/>
          </p:nvSpPr>
          <p:spPr>
            <a:xfrm>
              <a:off x="1042920" y="2492280"/>
              <a:ext cx="216000" cy="14292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042920" y="2492280"/>
              <a:ext cx="216000" cy="14292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2053080" y="5445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eoretic appro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ative and Assoc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00000" y="1773360"/>
            <a:ext cx="7559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m 1. 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971640" y="3789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.  Cartesian product and tensor product are commutative and associ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900000" y="5445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Basic mathematical observ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Recursively def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Recursively def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orollary 2.  For any permutation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on the set {1,2,…,n}, we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n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n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 (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n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*,G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zh-TW" sz="2400" spc="-1" strike="noStrike" baseline="-25000">
                <a:solidFill>
                  <a:srgbClr val="000000"/>
                </a:solidFill>
                <a:latin typeface="Arial"/>
              </a:rPr>
              <a:t>(n)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 i 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 n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, we define the 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808080"/>
                </a:solidFill>
                <a:latin typeface="Arial"/>
              </a:rPr>
              <a:t>th projection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…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as th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p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i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: 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…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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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given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p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i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((x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,x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,…,x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))=x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j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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V</a:t>
            </a:r>
            <a:r>
              <a:rPr b="0" i="1" lang="zh-TW" sz="3200" spc="-1" strike="noStrike" baseline="-25000">
                <a:solidFill>
                  <a:srgbClr val="99cc00"/>
                </a:solidFill>
                <a:latin typeface="Arial"/>
              </a:rPr>
              <a:t>j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 j </a:t>
            </a:r>
            <a:r>
              <a:rPr b="0" i="1" lang="zh-TW" sz="3200" spc="-1" strike="noStrike">
                <a:solidFill>
                  <a:srgbClr val="99cc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99cc00"/>
                </a:solidFill>
                <a:latin typeface="Arial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042920" y="5084640"/>
            <a:ext cx="99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7c8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= </a:t>
            </a:r>
            <a:r>
              <a:rPr b="0" lang="en-US" sz="1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ful edge fault tolerant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492200" y="1996920"/>
            <a:ext cx="127080" cy="127080"/>
            <a:chOff x="1492200" y="1996920"/>
            <a:chExt cx="127080" cy="127080"/>
          </a:xfrm>
        </p:grpSpPr>
        <p:sp>
          <p:nvSpPr>
            <p:cNvPr id="729" name=""/>
            <p:cNvSpPr/>
            <p:nvPr/>
          </p:nvSpPr>
          <p:spPr>
            <a:xfrm>
              <a:off x="149220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5592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029040" y="1996920"/>
            <a:ext cx="127080" cy="127080"/>
            <a:chOff x="3029040" y="1996920"/>
            <a:chExt cx="127080" cy="127080"/>
          </a:xfrm>
        </p:grpSpPr>
        <p:sp>
          <p:nvSpPr>
            <p:cNvPr id="732" name=""/>
            <p:cNvSpPr/>
            <p:nvPr/>
          </p:nvSpPr>
          <p:spPr>
            <a:xfrm>
              <a:off x="302904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9240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4564080" y="1996920"/>
            <a:ext cx="127080" cy="127080"/>
            <a:chOff x="4564080" y="1996920"/>
            <a:chExt cx="127080" cy="127080"/>
          </a:xfrm>
        </p:grpSpPr>
        <p:sp>
          <p:nvSpPr>
            <p:cNvPr id="735" name=""/>
            <p:cNvSpPr/>
            <p:nvPr/>
          </p:nvSpPr>
          <p:spPr>
            <a:xfrm>
              <a:off x="456408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2780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6100920" y="1996920"/>
            <a:ext cx="126720" cy="127080"/>
            <a:chOff x="6100920" y="1996920"/>
            <a:chExt cx="126720" cy="127080"/>
          </a:xfrm>
        </p:grpSpPr>
        <p:sp>
          <p:nvSpPr>
            <p:cNvPr id="738" name=""/>
            <p:cNvSpPr/>
            <p:nvPr/>
          </p:nvSpPr>
          <p:spPr>
            <a:xfrm>
              <a:off x="6100920" y="19969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6392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389680" y="-666720"/>
            <a:ext cx="2943720" cy="29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31" y="20016"/>
                </a:moveTo>
                <a:arcTo wR="10800" hR="10800" stAng="3514556" swAng="3770888"/>
                <a:lnTo>
                  <a:pt x="10800" y="10800"/>
                </a:lnTo>
                <a:close/>
              </a:path>
              <a:path fill="none" w="21600" h="21600">
                <a:moveTo>
                  <a:pt x="16431" y="20016"/>
                </a:moveTo>
                <a:arcTo wR="10800" hR="10800" stAng="3514556" swAng="3770888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-515160" y="1405080"/>
            <a:ext cx="8753040" cy="87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4" y="1618"/>
                </a:moveTo>
                <a:arcTo wR="10800" hR="10800" stAng="-7305948" swAng="3811896"/>
                <a:lnTo>
                  <a:pt x="10800" y="10800"/>
                </a:lnTo>
                <a:close/>
              </a:path>
              <a:path fill="none" w="21600" h="21600">
                <a:moveTo>
                  <a:pt x="5114" y="1618"/>
                </a:moveTo>
                <a:arcTo wR="10800" hR="10800" stAng="-7305948" swAng="3811896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555920" y="206064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092400" y="206064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627440" y="206064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492200" y="4829040"/>
            <a:ext cx="127080" cy="127080"/>
            <a:chOff x="1492200" y="4829040"/>
            <a:chExt cx="127080" cy="127080"/>
          </a:xfrm>
        </p:grpSpPr>
        <p:sp>
          <p:nvSpPr>
            <p:cNvPr id="746" name=""/>
            <p:cNvSpPr/>
            <p:nvPr/>
          </p:nvSpPr>
          <p:spPr>
            <a:xfrm>
              <a:off x="149220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592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3029040" y="4829040"/>
            <a:ext cx="127080" cy="127080"/>
            <a:chOff x="3029040" y="4829040"/>
            <a:chExt cx="127080" cy="127080"/>
          </a:xfrm>
        </p:grpSpPr>
        <p:sp>
          <p:nvSpPr>
            <p:cNvPr id="749" name=""/>
            <p:cNvSpPr/>
            <p:nvPr/>
          </p:nvSpPr>
          <p:spPr>
            <a:xfrm>
              <a:off x="302904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9240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4564080" y="4829040"/>
            <a:ext cx="127080" cy="127080"/>
            <a:chOff x="4564080" y="4829040"/>
            <a:chExt cx="127080" cy="127080"/>
          </a:xfrm>
        </p:grpSpPr>
        <p:sp>
          <p:nvSpPr>
            <p:cNvPr id="752" name=""/>
            <p:cNvSpPr/>
            <p:nvPr/>
          </p:nvSpPr>
          <p:spPr>
            <a:xfrm>
              <a:off x="456408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2780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100920" y="4829040"/>
            <a:ext cx="126720" cy="127080"/>
            <a:chOff x="6100920" y="4829040"/>
            <a:chExt cx="126720" cy="127080"/>
          </a:xfrm>
        </p:grpSpPr>
        <p:sp>
          <p:nvSpPr>
            <p:cNvPr id="755" name=""/>
            <p:cNvSpPr/>
            <p:nvPr/>
          </p:nvSpPr>
          <p:spPr>
            <a:xfrm>
              <a:off x="6100920" y="482904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6392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555920" y="489276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092400" y="489276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27440" y="489276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492200" y="3500280"/>
            <a:ext cx="127080" cy="127080"/>
            <a:chOff x="1492200" y="3500280"/>
            <a:chExt cx="127080" cy="127080"/>
          </a:xfrm>
        </p:grpSpPr>
        <p:sp>
          <p:nvSpPr>
            <p:cNvPr id="761" name=""/>
            <p:cNvSpPr/>
            <p:nvPr/>
          </p:nvSpPr>
          <p:spPr>
            <a:xfrm>
              <a:off x="149220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5592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3029040" y="3500280"/>
            <a:ext cx="127080" cy="127080"/>
            <a:chOff x="3029040" y="3500280"/>
            <a:chExt cx="127080" cy="127080"/>
          </a:xfrm>
        </p:grpSpPr>
        <p:sp>
          <p:nvSpPr>
            <p:cNvPr id="764" name=""/>
            <p:cNvSpPr/>
            <p:nvPr/>
          </p:nvSpPr>
          <p:spPr>
            <a:xfrm>
              <a:off x="302904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9240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564080" y="3500280"/>
            <a:ext cx="127080" cy="127080"/>
            <a:chOff x="4564080" y="3500280"/>
            <a:chExt cx="127080" cy="127080"/>
          </a:xfrm>
        </p:grpSpPr>
        <p:sp>
          <p:nvSpPr>
            <p:cNvPr id="767" name=""/>
            <p:cNvSpPr/>
            <p:nvPr/>
          </p:nvSpPr>
          <p:spPr>
            <a:xfrm>
              <a:off x="456408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2780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6100920" y="3500280"/>
            <a:ext cx="126720" cy="127080"/>
            <a:chOff x="6100920" y="3500280"/>
            <a:chExt cx="126720" cy="127080"/>
          </a:xfrm>
        </p:grpSpPr>
        <p:sp>
          <p:nvSpPr>
            <p:cNvPr id="770" name=""/>
            <p:cNvSpPr/>
            <p:nvPr/>
          </p:nvSpPr>
          <p:spPr>
            <a:xfrm>
              <a:off x="6100920" y="350028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6392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555920" y="356400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092400" y="356400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627440" y="356400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555920" y="356364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55920" y="3564000"/>
            <a:ext cx="460836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6164280" y="356364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555560" y="3564000"/>
            <a:ext cx="460836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092400" y="35640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3092400" y="356364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627440" y="35640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3092400" y="356364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45320" y="155736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98520" y="12682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Mor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753600" y="3995640"/>
            <a:ext cx="195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341440" y="587700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ge set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65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ful edge fault tolerant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492200" y="1996920"/>
            <a:ext cx="127080" cy="127080"/>
            <a:chOff x="1492200" y="1996920"/>
            <a:chExt cx="127080" cy="127080"/>
          </a:xfrm>
        </p:grpSpPr>
        <p:sp>
          <p:nvSpPr>
            <p:cNvPr id="789" name=""/>
            <p:cNvSpPr/>
            <p:nvPr/>
          </p:nvSpPr>
          <p:spPr>
            <a:xfrm>
              <a:off x="149220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5592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029040" y="1996920"/>
            <a:ext cx="127080" cy="127080"/>
            <a:chOff x="3029040" y="1996920"/>
            <a:chExt cx="127080" cy="127080"/>
          </a:xfrm>
        </p:grpSpPr>
        <p:sp>
          <p:nvSpPr>
            <p:cNvPr id="792" name=""/>
            <p:cNvSpPr/>
            <p:nvPr/>
          </p:nvSpPr>
          <p:spPr>
            <a:xfrm>
              <a:off x="302904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9240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4564080" y="1996920"/>
            <a:ext cx="127080" cy="127080"/>
            <a:chOff x="4564080" y="1996920"/>
            <a:chExt cx="127080" cy="127080"/>
          </a:xfrm>
        </p:grpSpPr>
        <p:sp>
          <p:nvSpPr>
            <p:cNvPr id="795" name=""/>
            <p:cNvSpPr/>
            <p:nvPr/>
          </p:nvSpPr>
          <p:spPr>
            <a:xfrm>
              <a:off x="4564080" y="199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2780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6100920" y="1996920"/>
            <a:ext cx="126720" cy="127080"/>
            <a:chOff x="6100920" y="1996920"/>
            <a:chExt cx="126720" cy="127080"/>
          </a:xfrm>
        </p:grpSpPr>
        <p:sp>
          <p:nvSpPr>
            <p:cNvPr id="798" name=""/>
            <p:cNvSpPr/>
            <p:nvPr/>
          </p:nvSpPr>
          <p:spPr>
            <a:xfrm>
              <a:off x="6100920" y="19969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63920" y="206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389680" y="-666720"/>
            <a:ext cx="2943720" cy="29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31" y="20016"/>
                </a:moveTo>
                <a:arcTo wR="10800" hR="10800" stAng="3514556" swAng="3770888"/>
                <a:lnTo>
                  <a:pt x="10800" y="10800"/>
                </a:lnTo>
                <a:close/>
              </a:path>
              <a:path fill="none" w="21600" h="21600">
                <a:moveTo>
                  <a:pt x="16431" y="20016"/>
                </a:moveTo>
                <a:arcTo wR="10800" hR="10800" stAng="3514556" swAng="3770888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-515160" y="1405080"/>
            <a:ext cx="8753040" cy="87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4" y="1618"/>
                </a:moveTo>
                <a:arcTo wR="10800" hR="10800" stAng="-7305948" swAng="3811896"/>
                <a:lnTo>
                  <a:pt x="10800" y="10800"/>
                </a:lnTo>
                <a:close/>
              </a:path>
              <a:path fill="none" w="21600" h="21600">
                <a:moveTo>
                  <a:pt x="5114" y="1618"/>
                </a:moveTo>
                <a:arcTo wR="10800" hR="10800" stAng="-7305948" swAng="3811896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555920" y="206064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092400" y="206064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27440" y="206064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1492200" y="4829040"/>
            <a:ext cx="127080" cy="127080"/>
            <a:chOff x="1492200" y="4829040"/>
            <a:chExt cx="127080" cy="127080"/>
          </a:xfrm>
        </p:grpSpPr>
        <p:sp>
          <p:nvSpPr>
            <p:cNvPr id="806" name=""/>
            <p:cNvSpPr/>
            <p:nvPr/>
          </p:nvSpPr>
          <p:spPr>
            <a:xfrm>
              <a:off x="149220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5592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29040" y="4829040"/>
            <a:ext cx="127080" cy="127080"/>
            <a:chOff x="3029040" y="4829040"/>
            <a:chExt cx="127080" cy="127080"/>
          </a:xfrm>
        </p:grpSpPr>
        <p:sp>
          <p:nvSpPr>
            <p:cNvPr id="809" name=""/>
            <p:cNvSpPr/>
            <p:nvPr/>
          </p:nvSpPr>
          <p:spPr>
            <a:xfrm>
              <a:off x="302904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9240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564080" y="4829040"/>
            <a:ext cx="127080" cy="127080"/>
            <a:chOff x="4564080" y="4829040"/>
            <a:chExt cx="127080" cy="127080"/>
          </a:xfrm>
        </p:grpSpPr>
        <p:sp>
          <p:nvSpPr>
            <p:cNvPr id="812" name=""/>
            <p:cNvSpPr/>
            <p:nvPr/>
          </p:nvSpPr>
          <p:spPr>
            <a:xfrm>
              <a:off x="4564080" y="4829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2780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100920" y="4829040"/>
            <a:ext cx="126720" cy="127080"/>
            <a:chOff x="6100920" y="4829040"/>
            <a:chExt cx="126720" cy="127080"/>
          </a:xfrm>
        </p:grpSpPr>
        <p:sp>
          <p:nvSpPr>
            <p:cNvPr id="815" name=""/>
            <p:cNvSpPr/>
            <p:nvPr/>
          </p:nvSpPr>
          <p:spPr>
            <a:xfrm>
              <a:off x="6100920" y="482904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63920" y="4892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1555920" y="489276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092400" y="489276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627440" y="489276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492200" y="3500280"/>
            <a:ext cx="127080" cy="127080"/>
            <a:chOff x="1492200" y="3500280"/>
            <a:chExt cx="127080" cy="127080"/>
          </a:xfrm>
        </p:grpSpPr>
        <p:sp>
          <p:nvSpPr>
            <p:cNvPr id="821" name=""/>
            <p:cNvSpPr/>
            <p:nvPr/>
          </p:nvSpPr>
          <p:spPr>
            <a:xfrm>
              <a:off x="149220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5592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3029040" y="3500280"/>
            <a:ext cx="127080" cy="127080"/>
            <a:chOff x="3029040" y="3500280"/>
            <a:chExt cx="127080" cy="127080"/>
          </a:xfrm>
        </p:grpSpPr>
        <p:sp>
          <p:nvSpPr>
            <p:cNvPr id="824" name=""/>
            <p:cNvSpPr/>
            <p:nvPr/>
          </p:nvSpPr>
          <p:spPr>
            <a:xfrm>
              <a:off x="302904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9240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564080" y="3500280"/>
            <a:ext cx="127080" cy="127080"/>
            <a:chOff x="4564080" y="3500280"/>
            <a:chExt cx="127080" cy="127080"/>
          </a:xfrm>
        </p:grpSpPr>
        <p:sp>
          <p:nvSpPr>
            <p:cNvPr id="827" name=""/>
            <p:cNvSpPr/>
            <p:nvPr/>
          </p:nvSpPr>
          <p:spPr>
            <a:xfrm>
              <a:off x="4564080" y="350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2780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100920" y="3500280"/>
            <a:ext cx="126720" cy="127080"/>
            <a:chOff x="6100920" y="3500280"/>
            <a:chExt cx="126720" cy="127080"/>
          </a:xfrm>
        </p:grpSpPr>
        <p:sp>
          <p:nvSpPr>
            <p:cNvPr id="830" name=""/>
            <p:cNvSpPr/>
            <p:nvPr/>
          </p:nvSpPr>
          <p:spPr>
            <a:xfrm>
              <a:off x="6100920" y="350028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63920" y="3564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1555920" y="356400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092400" y="356400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627440" y="356400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555920" y="356364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55920" y="3564000"/>
            <a:ext cx="460836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6164280" y="356364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555560" y="3564000"/>
            <a:ext cx="460836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92400" y="35640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092400" y="356364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27440" y="35640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3092400" y="356364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2240" y="5300640"/>
            <a:ext cx="2564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ge set</a:t>
            </a: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 Y</a:t>
            </a:r>
            <a:r>
              <a:rPr b="0" lang="en-US" sz="36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341800" y="22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86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 graph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G*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is said to be </a:t>
            </a:r>
            <a:r>
              <a:rPr b="0" lang="zh-TW" sz="2400" spc="-1" strike="noStrike">
                <a:solidFill>
                  <a:srgbClr val="333399"/>
                </a:solidFill>
                <a:latin typeface="Arial"/>
              </a:rPr>
              <a:t>faithful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lang="zh-TW" sz="2400" spc="-1" strike="noStrike">
                <a:solidFill>
                  <a:srgbClr val="333399"/>
                </a:solidFill>
                <a:latin typeface="Arial"/>
              </a:rPr>
              <a:t>faithful graph with respect to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, denoted by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FG(G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, if it satisfies the following two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1) There exists a function 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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: V(G)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V(G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such that the function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h:V(G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 h:V(G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given by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h(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=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h(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=(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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 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induces an isomorphism from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G 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to a subgraph of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(G*,G)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C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-X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1692360" y="2924280"/>
            <a:ext cx="4735440" cy="1455480"/>
            <a:chOff x="1692360" y="2924280"/>
            <a:chExt cx="4735440" cy="1455480"/>
          </a:xfrm>
        </p:grpSpPr>
        <p:grpSp>
          <p:nvGrpSpPr>
            <p:cNvPr id="848" name=""/>
            <p:cNvGrpSpPr/>
            <p:nvPr/>
          </p:nvGrpSpPr>
          <p:grpSpPr>
            <a:xfrm>
              <a:off x="1692360" y="4253040"/>
              <a:ext cx="127080" cy="126720"/>
              <a:chOff x="1692360" y="4253040"/>
              <a:chExt cx="127080" cy="126720"/>
            </a:xfrm>
          </p:grpSpPr>
          <p:sp>
            <p:nvSpPr>
              <p:cNvPr id="849" name=""/>
              <p:cNvSpPr/>
              <p:nvPr/>
            </p:nvSpPr>
            <p:spPr>
              <a:xfrm>
                <a:off x="1692360" y="42530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756080" y="43164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3228840" y="4253040"/>
              <a:ext cx="127080" cy="126720"/>
              <a:chOff x="3228840" y="4253040"/>
              <a:chExt cx="127080" cy="126720"/>
            </a:xfrm>
          </p:grpSpPr>
          <p:sp>
            <p:nvSpPr>
              <p:cNvPr id="852" name=""/>
              <p:cNvSpPr/>
              <p:nvPr/>
            </p:nvSpPr>
            <p:spPr>
              <a:xfrm>
                <a:off x="3228840" y="42530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92200" y="43164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4764240" y="4253040"/>
              <a:ext cx="126720" cy="126720"/>
              <a:chOff x="4764240" y="4253040"/>
              <a:chExt cx="126720" cy="126720"/>
            </a:xfrm>
          </p:grpSpPr>
          <p:sp>
            <p:nvSpPr>
              <p:cNvPr id="855" name=""/>
              <p:cNvSpPr/>
              <p:nvPr/>
            </p:nvSpPr>
            <p:spPr>
              <a:xfrm>
                <a:off x="4764240" y="4253040"/>
                <a:ext cx="12672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27600" y="43164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6300720" y="4253040"/>
              <a:ext cx="127080" cy="126720"/>
              <a:chOff x="6300720" y="4253040"/>
              <a:chExt cx="127080" cy="126720"/>
            </a:xfrm>
          </p:grpSpPr>
          <p:sp>
            <p:nvSpPr>
              <p:cNvPr id="858" name=""/>
              <p:cNvSpPr/>
              <p:nvPr/>
            </p:nvSpPr>
            <p:spPr>
              <a:xfrm>
                <a:off x="6300720" y="42530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364080" y="43164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1755720" y="43164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92560" y="431640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27600" y="43164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1692360" y="2924280"/>
              <a:ext cx="127080" cy="126720"/>
              <a:chOff x="1692360" y="2924280"/>
              <a:chExt cx="127080" cy="126720"/>
            </a:xfrm>
          </p:grpSpPr>
          <p:sp>
            <p:nvSpPr>
              <p:cNvPr id="864" name=""/>
              <p:cNvSpPr/>
              <p:nvPr/>
            </p:nvSpPr>
            <p:spPr>
              <a:xfrm>
                <a:off x="1692360" y="292428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756080" y="29876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3228840" y="2924280"/>
              <a:ext cx="127080" cy="126720"/>
              <a:chOff x="3228840" y="2924280"/>
              <a:chExt cx="127080" cy="126720"/>
            </a:xfrm>
          </p:grpSpPr>
          <p:sp>
            <p:nvSpPr>
              <p:cNvPr id="867" name=""/>
              <p:cNvSpPr/>
              <p:nvPr/>
            </p:nvSpPr>
            <p:spPr>
              <a:xfrm>
                <a:off x="3228840" y="292428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292200" y="29876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4764240" y="2924280"/>
              <a:ext cx="126720" cy="126720"/>
              <a:chOff x="4764240" y="2924280"/>
              <a:chExt cx="126720" cy="126720"/>
            </a:xfrm>
          </p:grpSpPr>
          <p:sp>
            <p:nvSpPr>
              <p:cNvPr id="870" name=""/>
              <p:cNvSpPr/>
              <p:nvPr/>
            </p:nvSpPr>
            <p:spPr>
              <a:xfrm>
                <a:off x="4764240" y="2924280"/>
                <a:ext cx="12672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827600" y="29876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6300720" y="2924280"/>
              <a:ext cx="127080" cy="126720"/>
              <a:chOff x="6300720" y="2924280"/>
              <a:chExt cx="127080" cy="126720"/>
            </a:xfrm>
          </p:grpSpPr>
          <p:sp>
            <p:nvSpPr>
              <p:cNvPr id="873" name=""/>
              <p:cNvSpPr/>
              <p:nvPr/>
            </p:nvSpPr>
            <p:spPr>
              <a:xfrm>
                <a:off x="6300720" y="292428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364080" y="298764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1755720" y="298764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92560" y="298764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27600" y="298764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755720" y="2987640"/>
              <a:ext cx="4608720" cy="1328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1755720" y="2987640"/>
              <a:ext cx="4608720" cy="1328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3292560" y="2987280"/>
              <a:ext cx="1535040" cy="1328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3292560" y="2987280"/>
              <a:ext cx="1535040" cy="13287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708200" y="1235160"/>
            <a:ext cx="4735440" cy="127080"/>
            <a:chOff x="1708200" y="1235160"/>
            <a:chExt cx="4735440" cy="127080"/>
          </a:xfrm>
        </p:grpSpPr>
        <p:grpSp>
          <p:nvGrpSpPr>
            <p:cNvPr id="883" name=""/>
            <p:cNvGrpSpPr/>
            <p:nvPr/>
          </p:nvGrpSpPr>
          <p:grpSpPr>
            <a:xfrm>
              <a:off x="1708200" y="1235160"/>
              <a:ext cx="127080" cy="127080"/>
              <a:chOff x="1708200" y="1235160"/>
              <a:chExt cx="127080" cy="127080"/>
            </a:xfrm>
          </p:grpSpPr>
          <p:sp>
            <p:nvSpPr>
              <p:cNvPr id="884" name=""/>
              <p:cNvSpPr/>
              <p:nvPr/>
            </p:nvSpPr>
            <p:spPr>
              <a:xfrm>
                <a:off x="1708200" y="12351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71920" y="12988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3244680" y="1235160"/>
              <a:ext cx="127080" cy="127080"/>
              <a:chOff x="3244680" y="1235160"/>
              <a:chExt cx="127080" cy="127080"/>
            </a:xfrm>
          </p:grpSpPr>
          <p:sp>
            <p:nvSpPr>
              <p:cNvPr id="887" name=""/>
              <p:cNvSpPr/>
              <p:nvPr/>
            </p:nvSpPr>
            <p:spPr>
              <a:xfrm>
                <a:off x="3244680" y="12351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308040" y="12988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4780080" y="1235160"/>
              <a:ext cx="126720" cy="127080"/>
              <a:chOff x="4780080" y="1235160"/>
              <a:chExt cx="126720" cy="127080"/>
            </a:xfrm>
          </p:grpSpPr>
          <p:sp>
            <p:nvSpPr>
              <p:cNvPr id="890" name=""/>
              <p:cNvSpPr/>
              <p:nvPr/>
            </p:nvSpPr>
            <p:spPr>
              <a:xfrm>
                <a:off x="4780080" y="1235160"/>
                <a:ext cx="12672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843440" y="12988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6316560" y="1235160"/>
              <a:ext cx="127080" cy="127080"/>
              <a:chOff x="6316560" y="1235160"/>
              <a:chExt cx="127080" cy="127080"/>
            </a:xfrm>
          </p:grpSpPr>
          <p:sp>
            <p:nvSpPr>
              <p:cNvPr id="893" name=""/>
              <p:cNvSpPr/>
              <p:nvPr/>
            </p:nvSpPr>
            <p:spPr>
              <a:xfrm>
                <a:off x="6316560" y="12351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379920" y="12988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1771560" y="129852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08400" y="129852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43440" y="129852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1708200" y="2165400"/>
            <a:ext cx="4735440" cy="127080"/>
            <a:chOff x="1708200" y="2165400"/>
            <a:chExt cx="4735440" cy="127080"/>
          </a:xfrm>
        </p:grpSpPr>
        <p:sp>
          <p:nvSpPr>
            <p:cNvPr id="899" name=""/>
            <p:cNvSpPr/>
            <p:nvPr/>
          </p:nvSpPr>
          <p:spPr>
            <a:xfrm>
              <a:off x="1708200" y="21654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71560" y="2228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44680" y="21654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08400" y="2228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780080" y="21654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843440" y="2228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16560" y="21654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380280" y="2228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71560" y="222876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08400" y="222876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43440" y="222876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1908000" y="1413000"/>
            <a:ext cx="5243400" cy="647640"/>
            <a:chOff x="1908000" y="1413000"/>
            <a:chExt cx="5243400" cy="647640"/>
          </a:xfrm>
        </p:grpSpPr>
        <p:sp>
          <p:nvSpPr>
            <p:cNvPr id="911" name=""/>
            <p:cNvSpPr/>
            <p:nvPr/>
          </p:nvSpPr>
          <p:spPr>
            <a:xfrm>
              <a:off x="1908000" y="1484280"/>
              <a:ext cx="4104000" cy="5763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348000" y="1413000"/>
              <a:ext cx="1440000" cy="576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348000" y="1413000"/>
              <a:ext cx="1511280" cy="64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1908000" y="1484280"/>
              <a:ext cx="4392720" cy="5763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86360" y="1498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1692360" y="4853160"/>
            <a:ext cx="4735440" cy="1455480"/>
            <a:chOff x="1692360" y="4853160"/>
            <a:chExt cx="4735440" cy="1455480"/>
          </a:xfrm>
        </p:grpSpPr>
        <p:grpSp>
          <p:nvGrpSpPr>
            <p:cNvPr id="917" name=""/>
            <p:cNvGrpSpPr/>
            <p:nvPr/>
          </p:nvGrpSpPr>
          <p:grpSpPr>
            <a:xfrm>
              <a:off x="1692360" y="6181560"/>
              <a:ext cx="127080" cy="127080"/>
              <a:chOff x="1692360" y="6181560"/>
              <a:chExt cx="127080" cy="127080"/>
            </a:xfrm>
          </p:grpSpPr>
          <p:sp>
            <p:nvSpPr>
              <p:cNvPr id="918" name=""/>
              <p:cNvSpPr/>
              <p:nvPr/>
            </p:nvSpPr>
            <p:spPr>
              <a:xfrm>
                <a:off x="1692360" y="61815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756080" y="624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3228840" y="6181560"/>
              <a:ext cx="127080" cy="127080"/>
              <a:chOff x="3228840" y="6181560"/>
              <a:chExt cx="127080" cy="127080"/>
            </a:xfrm>
          </p:grpSpPr>
          <p:sp>
            <p:nvSpPr>
              <p:cNvPr id="921" name=""/>
              <p:cNvSpPr/>
              <p:nvPr/>
            </p:nvSpPr>
            <p:spPr>
              <a:xfrm>
                <a:off x="3228840" y="61815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292200" y="624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4764240" y="6181560"/>
              <a:ext cx="126720" cy="127080"/>
              <a:chOff x="4764240" y="6181560"/>
              <a:chExt cx="126720" cy="127080"/>
            </a:xfrm>
          </p:grpSpPr>
          <p:sp>
            <p:nvSpPr>
              <p:cNvPr id="924" name=""/>
              <p:cNvSpPr/>
              <p:nvPr/>
            </p:nvSpPr>
            <p:spPr>
              <a:xfrm>
                <a:off x="4764240" y="6181560"/>
                <a:ext cx="12672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827600" y="624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6300720" y="6181560"/>
              <a:ext cx="127080" cy="127080"/>
              <a:chOff x="6300720" y="6181560"/>
              <a:chExt cx="127080" cy="127080"/>
            </a:xfrm>
          </p:grpSpPr>
          <p:sp>
            <p:nvSpPr>
              <p:cNvPr id="927" name=""/>
              <p:cNvSpPr/>
              <p:nvPr/>
            </p:nvSpPr>
            <p:spPr>
              <a:xfrm>
                <a:off x="6300720" y="6181560"/>
                <a:ext cx="127080" cy="127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364080" y="624528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1755720" y="624528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92560" y="624528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827600" y="624528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1692360" y="4853160"/>
              <a:ext cx="127080" cy="126720"/>
              <a:chOff x="1692360" y="4853160"/>
              <a:chExt cx="127080" cy="126720"/>
            </a:xfrm>
          </p:grpSpPr>
          <p:sp>
            <p:nvSpPr>
              <p:cNvPr id="933" name=""/>
              <p:cNvSpPr/>
              <p:nvPr/>
            </p:nvSpPr>
            <p:spPr>
              <a:xfrm>
                <a:off x="1692360" y="485316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56080" y="491652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3228840" y="4853160"/>
              <a:ext cx="127080" cy="126720"/>
              <a:chOff x="3228840" y="4853160"/>
              <a:chExt cx="127080" cy="126720"/>
            </a:xfrm>
          </p:grpSpPr>
          <p:sp>
            <p:nvSpPr>
              <p:cNvPr id="936" name=""/>
              <p:cNvSpPr/>
              <p:nvPr/>
            </p:nvSpPr>
            <p:spPr>
              <a:xfrm>
                <a:off x="3228840" y="485316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292200" y="491652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764240" y="4853160"/>
              <a:ext cx="126720" cy="126720"/>
              <a:chOff x="4764240" y="4853160"/>
              <a:chExt cx="126720" cy="126720"/>
            </a:xfrm>
          </p:grpSpPr>
          <p:sp>
            <p:nvSpPr>
              <p:cNvPr id="939" name=""/>
              <p:cNvSpPr/>
              <p:nvPr/>
            </p:nvSpPr>
            <p:spPr>
              <a:xfrm>
                <a:off x="4764240" y="4853160"/>
                <a:ext cx="12672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27600" y="491652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6300720" y="4853160"/>
              <a:ext cx="127080" cy="126720"/>
              <a:chOff x="6300720" y="4853160"/>
              <a:chExt cx="127080" cy="126720"/>
            </a:xfrm>
          </p:grpSpPr>
          <p:sp>
            <p:nvSpPr>
              <p:cNvPr id="942" name=""/>
              <p:cNvSpPr/>
              <p:nvPr/>
            </p:nvSpPr>
            <p:spPr>
              <a:xfrm>
                <a:off x="6300720" y="485316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364080" y="491652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1755720" y="491652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92560" y="491652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27600" y="491652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755720" y="491616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6364440" y="491616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92560" y="491652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27600" y="491652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9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. Harary and J. P. Hayes, Edge fault tolerance in graphs, Networks 23 (1993) 135-1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2) For any edge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e=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j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, there exists an isomorphism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f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into a subgraph of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(G*,G)</a:t>
            </a:r>
            <a:r>
              <a:rPr b="0" i="1" lang="zh-TW" sz="2400" spc="-1" strike="noStrike">
                <a:solidFill>
                  <a:srgbClr val="ff7c80"/>
                </a:solidFill>
                <a:latin typeface="Symbol"/>
                <a:ea typeface="Symbol"/>
              </a:rPr>
              <a:t>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C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K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-Y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p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f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 = p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f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((x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,z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)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zh-TW" sz="2400" spc="-1" strike="noStrike">
                <a:solidFill>
                  <a:srgbClr val="ff7c80"/>
                </a:solidFill>
                <a:latin typeface="Arial"/>
              </a:rPr>
              <a:t>p</a:t>
            </a:r>
            <a:r>
              <a:rPr b="0" i="1" lang="zh-TW" sz="2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is the 1st proj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708200" y="1444680"/>
            <a:ext cx="127080" cy="127080"/>
            <a:chOff x="1708200" y="1444680"/>
            <a:chExt cx="127080" cy="127080"/>
          </a:xfrm>
        </p:grpSpPr>
        <p:sp>
          <p:nvSpPr>
            <p:cNvPr id="953" name=""/>
            <p:cNvSpPr/>
            <p:nvPr/>
          </p:nvSpPr>
          <p:spPr>
            <a:xfrm>
              <a:off x="1708200" y="14446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771920" y="15084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3244680" y="1444680"/>
            <a:ext cx="127080" cy="127080"/>
            <a:chOff x="3244680" y="1444680"/>
            <a:chExt cx="127080" cy="127080"/>
          </a:xfrm>
        </p:grpSpPr>
        <p:sp>
          <p:nvSpPr>
            <p:cNvPr id="956" name=""/>
            <p:cNvSpPr/>
            <p:nvPr/>
          </p:nvSpPr>
          <p:spPr>
            <a:xfrm>
              <a:off x="3244680" y="14446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08040" y="15084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4780080" y="1444680"/>
            <a:ext cx="126720" cy="127080"/>
            <a:chOff x="4780080" y="1444680"/>
            <a:chExt cx="126720" cy="127080"/>
          </a:xfrm>
        </p:grpSpPr>
        <p:sp>
          <p:nvSpPr>
            <p:cNvPr id="959" name=""/>
            <p:cNvSpPr/>
            <p:nvPr/>
          </p:nvSpPr>
          <p:spPr>
            <a:xfrm>
              <a:off x="4780080" y="144468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43440" y="15084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316560" y="1444680"/>
            <a:ext cx="127080" cy="127080"/>
            <a:chOff x="6316560" y="1444680"/>
            <a:chExt cx="127080" cy="127080"/>
          </a:xfrm>
        </p:grpSpPr>
        <p:sp>
          <p:nvSpPr>
            <p:cNvPr id="962" name=""/>
            <p:cNvSpPr/>
            <p:nvPr/>
          </p:nvSpPr>
          <p:spPr>
            <a:xfrm>
              <a:off x="6316560" y="14446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379920" y="15084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2605320" y="-1218960"/>
            <a:ext cx="2943720" cy="29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31" y="20016"/>
                </a:moveTo>
                <a:arcTo wR="10800" hR="10800" stAng="3514556" swAng="3770888"/>
                <a:lnTo>
                  <a:pt x="10800" y="10800"/>
                </a:lnTo>
                <a:close/>
              </a:path>
              <a:path fill="none" w="21600" h="21600">
                <a:moveTo>
                  <a:pt x="16431" y="20016"/>
                </a:moveTo>
                <a:arcTo wR="10800" hR="10800" stAng="3514556" swAng="3770888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-299160" y="852480"/>
            <a:ext cx="8753040" cy="875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4" y="1618"/>
                </a:moveTo>
                <a:arcTo wR="10800" hR="10800" stAng="-7305948" swAng="3811896"/>
                <a:lnTo>
                  <a:pt x="10800" y="10800"/>
                </a:lnTo>
                <a:close/>
              </a:path>
              <a:path fill="none" w="21600" h="21600">
                <a:moveTo>
                  <a:pt x="5114" y="1618"/>
                </a:moveTo>
                <a:arcTo wR="10800" hR="10800" stAng="-7305948" swAng="3811896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71560" y="150804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08400" y="150804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843440" y="150804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708200" y="3844800"/>
            <a:ext cx="127080" cy="127080"/>
            <a:chOff x="1708200" y="3844800"/>
            <a:chExt cx="127080" cy="127080"/>
          </a:xfrm>
        </p:grpSpPr>
        <p:sp>
          <p:nvSpPr>
            <p:cNvPr id="970" name=""/>
            <p:cNvSpPr/>
            <p:nvPr/>
          </p:nvSpPr>
          <p:spPr>
            <a:xfrm>
              <a:off x="1708200" y="3844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71920" y="3908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244680" y="3844800"/>
            <a:ext cx="127080" cy="127080"/>
            <a:chOff x="3244680" y="3844800"/>
            <a:chExt cx="127080" cy="127080"/>
          </a:xfrm>
        </p:grpSpPr>
        <p:sp>
          <p:nvSpPr>
            <p:cNvPr id="973" name=""/>
            <p:cNvSpPr/>
            <p:nvPr/>
          </p:nvSpPr>
          <p:spPr>
            <a:xfrm>
              <a:off x="3244680" y="3844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308040" y="3908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4780080" y="3844800"/>
            <a:ext cx="126720" cy="127080"/>
            <a:chOff x="4780080" y="3844800"/>
            <a:chExt cx="126720" cy="127080"/>
          </a:xfrm>
        </p:grpSpPr>
        <p:sp>
          <p:nvSpPr>
            <p:cNvPr id="976" name=""/>
            <p:cNvSpPr/>
            <p:nvPr/>
          </p:nvSpPr>
          <p:spPr>
            <a:xfrm>
              <a:off x="4780080" y="3844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43440" y="3908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6316560" y="3844800"/>
            <a:ext cx="127080" cy="127080"/>
            <a:chOff x="6316560" y="3844800"/>
            <a:chExt cx="127080" cy="127080"/>
          </a:xfrm>
        </p:grpSpPr>
        <p:sp>
          <p:nvSpPr>
            <p:cNvPr id="979" name=""/>
            <p:cNvSpPr/>
            <p:nvPr/>
          </p:nvSpPr>
          <p:spPr>
            <a:xfrm>
              <a:off x="6316560" y="3844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79920" y="3908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771560" y="390852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308400" y="390852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843440" y="390852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1708200" y="2516040"/>
            <a:ext cx="127080" cy="127080"/>
            <a:chOff x="1708200" y="2516040"/>
            <a:chExt cx="127080" cy="127080"/>
          </a:xfrm>
        </p:grpSpPr>
        <p:sp>
          <p:nvSpPr>
            <p:cNvPr id="985" name=""/>
            <p:cNvSpPr/>
            <p:nvPr/>
          </p:nvSpPr>
          <p:spPr>
            <a:xfrm>
              <a:off x="1708200" y="2516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71920" y="2579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244680" y="2516040"/>
            <a:ext cx="127080" cy="127080"/>
            <a:chOff x="3244680" y="2516040"/>
            <a:chExt cx="127080" cy="127080"/>
          </a:xfrm>
        </p:grpSpPr>
        <p:sp>
          <p:nvSpPr>
            <p:cNvPr id="988" name=""/>
            <p:cNvSpPr/>
            <p:nvPr/>
          </p:nvSpPr>
          <p:spPr>
            <a:xfrm>
              <a:off x="3244680" y="2516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08040" y="2579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4780080" y="2516040"/>
            <a:ext cx="126720" cy="127080"/>
            <a:chOff x="4780080" y="2516040"/>
            <a:chExt cx="126720" cy="127080"/>
          </a:xfrm>
        </p:grpSpPr>
        <p:sp>
          <p:nvSpPr>
            <p:cNvPr id="991" name=""/>
            <p:cNvSpPr/>
            <p:nvPr/>
          </p:nvSpPr>
          <p:spPr>
            <a:xfrm>
              <a:off x="4780080" y="251604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843440" y="2579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316560" y="2516040"/>
            <a:ext cx="127080" cy="127080"/>
            <a:chOff x="6316560" y="2516040"/>
            <a:chExt cx="127080" cy="127080"/>
          </a:xfrm>
        </p:grpSpPr>
        <p:sp>
          <p:nvSpPr>
            <p:cNvPr id="994" name=""/>
            <p:cNvSpPr/>
            <p:nvPr/>
          </p:nvSpPr>
          <p:spPr>
            <a:xfrm>
              <a:off x="6316560" y="25160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79920" y="25797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1771560" y="257976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308400" y="257976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843440" y="257976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1771560" y="25794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71560" y="2579760"/>
            <a:ext cx="460872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380280" y="257940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771560" y="2579760"/>
            <a:ext cx="460872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308400" y="257976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3308400" y="257940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843440" y="2579760"/>
            <a:ext cx="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 flipV="1">
            <a:off x="3308400" y="2579400"/>
            <a:ext cx="1535040" cy="1328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557800" y="172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692360" y="4710240"/>
            <a:ext cx="4735440" cy="1455480"/>
            <a:chOff x="1692360" y="4710240"/>
            <a:chExt cx="4735440" cy="1455480"/>
          </a:xfrm>
        </p:grpSpPr>
        <p:grpSp>
          <p:nvGrpSpPr>
            <p:cNvPr id="1009" name=""/>
            <p:cNvGrpSpPr/>
            <p:nvPr/>
          </p:nvGrpSpPr>
          <p:grpSpPr>
            <a:xfrm>
              <a:off x="1692360" y="6039000"/>
              <a:ext cx="127080" cy="126720"/>
              <a:chOff x="1692360" y="6039000"/>
              <a:chExt cx="127080" cy="126720"/>
            </a:xfrm>
          </p:grpSpPr>
          <p:sp>
            <p:nvSpPr>
              <p:cNvPr id="1010" name=""/>
              <p:cNvSpPr/>
              <p:nvPr/>
            </p:nvSpPr>
            <p:spPr>
              <a:xfrm>
                <a:off x="1692360" y="603900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56080" y="61023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3228840" y="6039000"/>
              <a:ext cx="127080" cy="126720"/>
              <a:chOff x="3228840" y="6039000"/>
              <a:chExt cx="127080" cy="126720"/>
            </a:xfrm>
          </p:grpSpPr>
          <p:sp>
            <p:nvSpPr>
              <p:cNvPr id="1013" name=""/>
              <p:cNvSpPr/>
              <p:nvPr/>
            </p:nvSpPr>
            <p:spPr>
              <a:xfrm>
                <a:off x="3228840" y="603900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292200" y="61023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4764240" y="6039000"/>
              <a:ext cx="126720" cy="126720"/>
              <a:chOff x="4764240" y="6039000"/>
              <a:chExt cx="126720" cy="126720"/>
            </a:xfrm>
          </p:grpSpPr>
          <p:sp>
            <p:nvSpPr>
              <p:cNvPr id="1016" name=""/>
              <p:cNvSpPr/>
              <p:nvPr/>
            </p:nvSpPr>
            <p:spPr>
              <a:xfrm>
                <a:off x="4764240" y="6039000"/>
                <a:ext cx="12672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827600" y="61023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300720" y="6039000"/>
              <a:ext cx="127080" cy="126720"/>
              <a:chOff x="6300720" y="6039000"/>
              <a:chExt cx="127080" cy="126720"/>
            </a:xfrm>
          </p:grpSpPr>
          <p:sp>
            <p:nvSpPr>
              <p:cNvPr id="1019" name=""/>
              <p:cNvSpPr/>
              <p:nvPr/>
            </p:nvSpPr>
            <p:spPr>
              <a:xfrm>
                <a:off x="6300720" y="603900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364080" y="610236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1" name=""/>
            <p:cNvSpPr/>
            <p:nvPr/>
          </p:nvSpPr>
          <p:spPr>
            <a:xfrm>
              <a:off x="1755720" y="610236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92560" y="610236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27600" y="610236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1692360" y="4710240"/>
              <a:ext cx="127080" cy="126720"/>
              <a:chOff x="1692360" y="4710240"/>
              <a:chExt cx="127080" cy="126720"/>
            </a:xfrm>
          </p:grpSpPr>
          <p:sp>
            <p:nvSpPr>
              <p:cNvPr id="1025" name=""/>
              <p:cNvSpPr/>
              <p:nvPr/>
            </p:nvSpPr>
            <p:spPr>
              <a:xfrm>
                <a:off x="1692360" y="47102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756080" y="47736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3228840" y="4710240"/>
              <a:ext cx="127080" cy="126720"/>
              <a:chOff x="3228840" y="4710240"/>
              <a:chExt cx="127080" cy="126720"/>
            </a:xfrm>
          </p:grpSpPr>
          <p:sp>
            <p:nvSpPr>
              <p:cNvPr id="1028" name=""/>
              <p:cNvSpPr/>
              <p:nvPr/>
            </p:nvSpPr>
            <p:spPr>
              <a:xfrm>
                <a:off x="3228840" y="47102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92200" y="47736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4764240" y="4710240"/>
              <a:ext cx="126720" cy="126720"/>
              <a:chOff x="4764240" y="4710240"/>
              <a:chExt cx="126720" cy="126720"/>
            </a:xfrm>
          </p:grpSpPr>
          <p:sp>
            <p:nvSpPr>
              <p:cNvPr id="1031" name=""/>
              <p:cNvSpPr/>
              <p:nvPr/>
            </p:nvSpPr>
            <p:spPr>
              <a:xfrm>
                <a:off x="4764240" y="4710240"/>
                <a:ext cx="12672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827600" y="47736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6300720" y="4710240"/>
              <a:ext cx="127080" cy="126720"/>
              <a:chOff x="6300720" y="4710240"/>
              <a:chExt cx="127080" cy="126720"/>
            </a:xfrm>
          </p:grpSpPr>
          <p:sp>
            <p:nvSpPr>
              <p:cNvPr id="1034" name=""/>
              <p:cNvSpPr/>
              <p:nvPr/>
            </p:nvSpPr>
            <p:spPr>
              <a:xfrm>
                <a:off x="6300720" y="4710240"/>
                <a:ext cx="127080" cy="126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364080" y="4773600"/>
                <a:ext cx="360" cy="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1755720" y="47736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92560" y="477360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827600" y="4773600"/>
              <a:ext cx="15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1755720" y="477324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6364440" y="477324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92560" y="477360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27600" y="4773600"/>
              <a:ext cx="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10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2000" fill="hold"/>
                                        <p:tgtEl>
                                          <p:spTgt spid="10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1924200" y="1450800"/>
            <a:ext cx="126720" cy="127080"/>
            <a:chOff x="1924200" y="1450800"/>
            <a:chExt cx="126720" cy="127080"/>
          </a:xfrm>
        </p:grpSpPr>
        <p:sp>
          <p:nvSpPr>
            <p:cNvPr id="1044" name=""/>
            <p:cNvSpPr/>
            <p:nvPr/>
          </p:nvSpPr>
          <p:spPr>
            <a:xfrm>
              <a:off x="1924200" y="1450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987560" y="1514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3460680" y="1450800"/>
            <a:ext cx="127080" cy="127080"/>
            <a:chOff x="3460680" y="1450800"/>
            <a:chExt cx="127080" cy="127080"/>
          </a:xfrm>
        </p:grpSpPr>
        <p:sp>
          <p:nvSpPr>
            <p:cNvPr id="1047" name=""/>
            <p:cNvSpPr/>
            <p:nvPr/>
          </p:nvSpPr>
          <p:spPr>
            <a:xfrm>
              <a:off x="3460680" y="1450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524040" y="1514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995720" y="1450800"/>
            <a:ext cx="127080" cy="127080"/>
            <a:chOff x="4995720" y="1450800"/>
            <a:chExt cx="127080" cy="127080"/>
          </a:xfrm>
        </p:grpSpPr>
        <p:sp>
          <p:nvSpPr>
            <p:cNvPr id="1050" name=""/>
            <p:cNvSpPr/>
            <p:nvPr/>
          </p:nvSpPr>
          <p:spPr>
            <a:xfrm>
              <a:off x="4995720" y="1450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59440" y="1514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6532560" y="1450800"/>
            <a:ext cx="127080" cy="127080"/>
            <a:chOff x="6532560" y="1450800"/>
            <a:chExt cx="127080" cy="127080"/>
          </a:xfrm>
        </p:grpSpPr>
        <p:sp>
          <p:nvSpPr>
            <p:cNvPr id="1053" name=""/>
            <p:cNvSpPr/>
            <p:nvPr/>
          </p:nvSpPr>
          <p:spPr>
            <a:xfrm>
              <a:off x="6532560" y="1450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95920" y="1514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2821320" y="-1212840"/>
            <a:ext cx="2943720" cy="29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31" y="20016"/>
                </a:moveTo>
                <a:arcTo wR="10800" hR="10800" stAng="3514556" swAng="3770888"/>
                <a:lnTo>
                  <a:pt x="10800" y="10800"/>
                </a:lnTo>
                <a:close/>
              </a:path>
              <a:path fill="none" w="21600" h="21600">
                <a:moveTo>
                  <a:pt x="16431" y="20016"/>
                </a:moveTo>
                <a:arcTo wR="10800" hR="10800" stAng="3514556" swAng="3770888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-83520" y="858960"/>
            <a:ext cx="8753760" cy="87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4" y="1618"/>
                </a:moveTo>
                <a:arcTo wR="10800" hR="10800" stAng="-7305948" swAng="3811896"/>
                <a:lnTo>
                  <a:pt x="10800" y="10800"/>
                </a:lnTo>
                <a:close/>
              </a:path>
              <a:path fill="none" w="21600" h="21600">
                <a:moveTo>
                  <a:pt x="5114" y="1618"/>
                </a:moveTo>
                <a:arcTo wR="10800" hR="10800" stAng="-7305948" swAng="3811896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987560" y="1514520"/>
            <a:ext cx="15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524400" y="151452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59440" y="1514520"/>
            <a:ext cx="153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979640" y="256536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916280" y="250200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979640" y="2565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086280" y="250200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149640" y="2565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425920" y="25020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489640" y="2565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595920" y="25020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659640" y="2565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140360" y="2060640"/>
            <a:ext cx="36036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255920" y="25020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319640" y="2565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278080" y="-1149480"/>
            <a:ext cx="4082760" cy="408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89" y="19651"/>
                </a:moveTo>
                <a:arcTo wR="10800" hR="10800" stAng="3302131" swAng="4195738"/>
                <a:lnTo>
                  <a:pt x="10800" y="10800"/>
                </a:lnTo>
                <a:close/>
              </a:path>
              <a:path fill="none" w="21600" h="21600">
                <a:moveTo>
                  <a:pt x="16989" y="19651"/>
                </a:moveTo>
                <a:arcTo wR="10800" hR="10800" stAng="3302131" swAng="4195738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35080" y="-4866840"/>
            <a:ext cx="8168760" cy="816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87" y="19652"/>
                </a:moveTo>
                <a:arcTo wR="10800" hR="10800" stAng="3302933" swAng="4194134"/>
                <a:lnTo>
                  <a:pt x="10800" y="10800"/>
                </a:lnTo>
                <a:close/>
              </a:path>
              <a:path fill="none" w="21600" h="21600">
                <a:moveTo>
                  <a:pt x="16987" y="19652"/>
                </a:moveTo>
                <a:arcTo wR="10800" hR="10800" stAng="3302933" swAng="4194134"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643400" y="4214880"/>
            <a:ext cx="5072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Lemma 3. 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P</a:t>
            </a:r>
            <a:r>
              <a:rPr b="0" i="1" lang="zh-TW" sz="36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*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FG(P</a:t>
            </a:r>
            <a:r>
              <a:rPr b="0" i="1" lang="zh-TW" sz="36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-52200" y="-6019200"/>
            <a:ext cx="8168760" cy="8168400"/>
            <a:chOff x="-52200" y="-6019200"/>
            <a:chExt cx="8168760" cy="8168400"/>
          </a:xfrm>
        </p:grpSpPr>
        <p:sp>
          <p:nvSpPr>
            <p:cNvPr id="1076" name=""/>
            <p:cNvSpPr/>
            <p:nvPr/>
          </p:nvSpPr>
          <p:spPr>
            <a:xfrm>
              <a:off x="1692360" y="1413000"/>
              <a:ext cx="46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628640" y="1349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92360" y="1413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798640" y="1349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62360" y="1413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138640" y="1349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02360" y="1413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8640" y="1349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72360" y="1413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52720" y="907920"/>
              <a:ext cx="360360" cy="50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968640" y="1349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32360" y="1413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90800" y="-2301840"/>
              <a:ext cx="4082760" cy="40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89" y="19651"/>
                  </a:moveTo>
                  <a:arcTo wR="10800" hR="10800" stAng="3302131" swAng="41957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89" y="19651"/>
                  </a:moveTo>
                  <a:arcTo wR="10800" hR="10800" stAng="3302131" swAng="4195738"/>
                </a:path>
              </a:pathLst>
            </a:cu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-52200" y="-6019200"/>
              <a:ext cx="8168760" cy="816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87" y="19652"/>
                  </a:moveTo>
                  <a:arcTo wR="10800" hR="10800" stAng="3302933" swAng="4194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87" y="19652"/>
                  </a:moveTo>
                  <a:arcTo wR="10800" hR="10800" stAng="3302933" swAng="4194134"/>
                </a:path>
              </a:pathLst>
            </a:cu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1692360" y="52135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628640" y="51498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92360" y="521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798640" y="51498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862360" y="521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138640" y="51498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202360" y="521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308640" y="51498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372360" y="521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968640" y="51498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32360" y="521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92360" y="360828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628640" y="35449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692360" y="3608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798640" y="35449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862360" y="3608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138640" y="35449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202360" y="3608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08640" y="35449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2360" y="3608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68640" y="35449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032360" y="3608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692360" y="3608280"/>
            <a:ext cx="0" cy="16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862360" y="3608280"/>
            <a:ext cx="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032360" y="3608280"/>
            <a:ext cx="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202360" y="3608280"/>
            <a:ext cx="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372360" y="3608280"/>
            <a:ext cx="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692360" y="3608280"/>
            <a:ext cx="468000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1692360" y="3608280"/>
            <a:ext cx="468000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862360" y="3608280"/>
            <a:ext cx="234000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2862360" y="3608280"/>
            <a:ext cx="2340000" cy="16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443320" y="3413160"/>
            <a:ext cx="1993320" cy="199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215" y="2112"/>
                </a:moveTo>
                <a:arcTo wR="10800" hR="10800" stAng="-3213401" swAng="6426803"/>
                <a:lnTo>
                  <a:pt x="10800" y="10800"/>
                </a:lnTo>
                <a:close/>
              </a:path>
              <a:path fill="none" w="21600" h="21600">
                <a:moveTo>
                  <a:pt x="17215" y="2112"/>
                </a:moveTo>
                <a:arcTo wR="10800" hR="10800" stAng="-3213401" swAng="642680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411200" y="8841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70828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14792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22756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37992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272960" y="314172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54040" y="306864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593880" y="31161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730400" y="306864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897160" y="31161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345680" y="53481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426760" y="527544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666600" y="53229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03480" y="527544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970240" y="53229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"/>
          <p:cNvGrpSpPr/>
          <p:nvPr/>
        </p:nvGrpSpPr>
        <p:grpSpPr>
          <a:xfrm>
            <a:off x="1272960" y="692280"/>
            <a:ext cx="5590080" cy="2789640"/>
            <a:chOff x="1272960" y="692280"/>
            <a:chExt cx="5590080" cy="2789640"/>
          </a:xfrm>
        </p:grpSpPr>
        <p:sp>
          <p:nvSpPr>
            <p:cNvPr id="1138" name=""/>
            <p:cNvSpPr/>
            <p:nvPr/>
          </p:nvSpPr>
          <p:spPr>
            <a:xfrm>
              <a:off x="1692360" y="2836800"/>
              <a:ext cx="468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628640" y="27734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692360" y="28368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798640" y="27734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62360" y="28368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38640" y="27734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02360" y="28368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308640" y="27734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372360" y="28368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68640" y="277344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032360" y="28368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92360" y="1231920"/>
              <a:ext cx="468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628640" y="11685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692360" y="1231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98640" y="11685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62360" y="1231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38640" y="11685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02360" y="1231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308640" y="11685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72360" y="1231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968640" y="11685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32360" y="12319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692360" y="1231920"/>
              <a:ext cx="0" cy="162072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862360" y="1231920"/>
              <a:ext cx="0" cy="160488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32360" y="1231920"/>
              <a:ext cx="0" cy="160488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02360" y="1231920"/>
              <a:ext cx="0" cy="160488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2360" y="1231920"/>
              <a:ext cx="0" cy="160488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92360" y="1231920"/>
              <a:ext cx="468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1692360" y="1231920"/>
              <a:ext cx="468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62360" y="1231920"/>
              <a:ext cx="234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862360" y="1231920"/>
              <a:ext cx="234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443320" y="1036800"/>
              <a:ext cx="1993320" cy="199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15" y="2112"/>
                  </a:moveTo>
                  <a:arcTo wR="10800" hR="10800" stAng="-3213401" swAng="64268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15" y="2112"/>
                  </a:moveTo>
                  <a:arcTo wR="10800" hR="10800" stAng="-3213401" swAng="6426803"/>
                </a:path>
              </a:pathLst>
            </a:cu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272960" y="7650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354040" y="69228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93880" y="7398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730400" y="69228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897160" y="7398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45680" y="29718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426760" y="28987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666600" y="29462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03480" y="28987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70240" y="29462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1201320" y="3835440"/>
            <a:ext cx="5588640" cy="2840400"/>
            <a:chOff x="1201320" y="3835440"/>
            <a:chExt cx="5588640" cy="2840400"/>
          </a:xfrm>
        </p:grpSpPr>
        <p:sp>
          <p:nvSpPr>
            <p:cNvPr id="1181" name=""/>
            <p:cNvSpPr/>
            <p:nvPr/>
          </p:nvSpPr>
          <p:spPr>
            <a:xfrm>
              <a:off x="1557360" y="59421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20720" y="6005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27360" y="59421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90720" y="6005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67360" y="59421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30720" y="6005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237360" y="59421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00720" y="6005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97360" y="594216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960720" y="600552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557360" y="433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620720" y="440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727360" y="433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90720" y="440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67360" y="433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130720" y="440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237360" y="433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00720" y="440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897360" y="4336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960720" y="4400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620720" y="4400640"/>
              <a:ext cx="0" cy="1620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790720" y="4400640"/>
              <a:ext cx="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960720" y="4365720"/>
              <a:ext cx="0" cy="1639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130720" y="4400640"/>
              <a:ext cx="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300720" y="4400640"/>
              <a:ext cx="0" cy="15494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20720" y="4400640"/>
              <a:ext cx="468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620720" y="4400640"/>
              <a:ext cx="4680000" cy="1604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790720" y="4400640"/>
              <a:ext cx="2340000" cy="16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2790720" y="4400640"/>
              <a:ext cx="2340000" cy="16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371320" y="4205520"/>
              <a:ext cx="1994040" cy="199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15" y="2112"/>
                  </a:moveTo>
                  <a:arcTo wR="10800" hR="10800" stAng="-3213401" swAng="64268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15" y="2112"/>
                  </a:moveTo>
                  <a:arcTo wR="10800" hR="10800" stAng="-3213401" swAng="642680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01320" y="39085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82400" y="38354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6400" y="38354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658760" y="38354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97160" y="383544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201320" y="61657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82400" y="60930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2240" y="61405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58760" y="609300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25880" y="6140520"/>
              <a:ext cx="89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790720" y="6005520"/>
              <a:ext cx="1170000" cy="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60720" y="6005520"/>
              <a:ext cx="234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960720" y="4400640"/>
              <a:ext cx="234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620720" y="4400640"/>
              <a:ext cx="117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20720" y="6005520"/>
              <a:ext cx="117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90720" y="4400640"/>
              <a:ext cx="1170000" cy="0"/>
            </a:xfrm>
            <a:prstGeom prst="line">
              <a:avLst/>
            </a:prstGeom>
            <a:ln cap="rnd" w="9360">
              <a:solidFill>
                <a:srgbClr val="ff7c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mma 4. Any faithful graph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G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respect to G is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1-EFT(G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over,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|E(G*) – E(G)| </a:t>
            </a:r>
            <a:r>
              <a:rPr b="0" i="1" lang="en-US" sz="3200" spc="-1" strike="noStrike">
                <a:solidFill>
                  <a:srgbClr val="ff7c8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7c80"/>
                </a:solidFill>
                <a:latin typeface="Symbol"/>
                <a:ea typeface="Symbol"/>
              </a:rPr>
              <a:t>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|V(G)/2</a:t>
            </a:r>
            <a:r>
              <a:rPr b="0" i="1" lang="en-US" sz="3200" spc="-1" strike="noStrike">
                <a:solidFill>
                  <a:srgbClr val="ff7c8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or any faithful graph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G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568960" y="4149720"/>
            <a:ext cx="45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7c80"/>
                </a:solidFill>
                <a:latin typeface="Arial"/>
              </a:rPr>
              <a:t>f</a:t>
            </a:r>
            <a:r>
              <a:rPr b="0" lang="zh-TW" sz="3600" spc="-1" strike="noStrike" baseline="-25000">
                <a:solidFill>
                  <a:srgbClr val="ff7c8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485800" y="5229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2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Lemma 5. Any graph has a faithful super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1258920" y="3500280"/>
                <a:ext cx="4038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Harary and Hayes: 1-EFT(C</a:t>
            </a:r>
            <a:r>
              <a:rPr b="0" lang="zh-TW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20221800">
            <a:off x="1187280" y="2060640"/>
            <a:ext cx="2953080" cy="295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rot="13501800">
            <a:off x="1547280" y="24361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rot="10801800">
            <a:off x="1123560" y="34837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rot="8101800">
            <a:off x="1563840" y="4524120"/>
            <a:ext cx="12672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rot="5401800">
            <a:off x="2610720" y="494784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rot="2701800">
            <a:off x="3650760" y="450828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rot="21541800">
            <a:off x="4074840" y="34603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rot="18901800">
            <a:off x="3635280" y="242064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rot="16141800">
            <a:off x="2587320" y="199656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651040" y="2060640"/>
            <a:ext cx="23760" cy="29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1611360" y="2484360"/>
            <a:ext cx="208764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1187280" y="3524400"/>
            <a:ext cx="295128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1627200" y="4572000"/>
            <a:ext cx="208764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rot="20221800">
            <a:off x="5291280" y="1916280"/>
            <a:ext cx="2952720" cy="295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rot="13825800">
            <a:off x="5754240" y="219528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rot="11425800">
            <a:off x="5241240" y="306684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rot="9025800">
            <a:off x="5409360" y="40618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rot="6625800">
            <a:off x="6178320" y="4718160"/>
            <a:ext cx="12672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rot="4225800">
            <a:off x="7189560" y="472428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1825800">
            <a:off x="7967160" y="40813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rot="21025800">
            <a:off x="8150040" y="308772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rot="18625800">
            <a:off x="7651800" y="22093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rot="16225800">
            <a:off x="6705360" y="185688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6242040" y="1920960"/>
            <a:ext cx="527040" cy="28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769080" y="1920960"/>
            <a:ext cx="484200" cy="28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818320" y="2259000"/>
            <a:ext cx="18968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305320" y="3130560"/>
            <a:ext cx="290844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473800" y="4125960"/>
            <a:ext cx="255744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888560" y="567540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Arial"/>
              </a:rPr>
              <a:t>Not faith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187280" y="1268280"/>
            <a:ext cx="60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1123920" y="1204920"/>
            <a:ext cx="127080" cy="127080"/>
            <a:chOff x="1123920" y="1204920"/>
            <a:chExt cx="127080" cy="127080"/>
          </a:xfrm>
        </p:grpSpPr>
        <p:sp>
          <p:nvSpPr>
            <p:cNvPr id="1264" name=""/>
            <p:cNvSpPr/>
            <p:nvPr/>
          </p:nvSpPr>
          <p:spPr>
            <a:xfrm>
              <a:off x="1123920" y="1204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18728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2333520" y="1204920"/>
            <a:ext cx="127080" cy="127080"/>
            <a:chOff x="2333520" y="1204920"/>
            <a:chExt cx="127080" cy="127080"/>
          </a:xfrm>
        </p:grpSpPr>
        <p:sp>
          <p:nvSpPr>
            <p:cNvPr id="1267" name=""/>
            <p:cNvSpPr/>
            <p:nvPr/>
          </p:nvSpPr>
          <p:spPr>
            <a:xfrm>
              <a:off x="2333520" y="1204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39724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3543480" y="1204920"/>
            <a:ext cx="126720" cy="127080"/>
            <a:chOff x="3543480" y="1204920"/>
            <a:chExt cx="126720" cy="127080"/>
          </a:xfrm>
        </p:grpSpPr>
        <p:sp>
          <p:nvSpPr>
            <p:cNvPr id="1270" name=""/>
            <p:cNvSpPr/>
            <p:nvPr/>
          </p:nvSpPr>
          <p:spPr>
            <a:xfrm>
              <a:off x="3543480" y="12049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60684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4753080" y="1204920"/>
            <a:ext cx="126720" cy="127080"/>
            <a:chOff x="4753080" y="1204920"/>
            <a:chExt cx="126720" cy="127080"/>
          </a:xfrm>
        </p:grpSpPr>
        <p:sp>
          <p:nvSpPr>
            <p:cNvPr id="1273" name=""/>
            <p:cNvSpPr/>
            <p:nvPr/>
          </p:nvSpPr>
          <p:spPr>
            <a:xfrm>
              <a:off x="4753080" y="12049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1644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5962680" y="1204920"/>
            <a:ext cx="127080" cy="127080"/>
            <a:chOff x="5962680" y="1204920"/>
            <a:chExt cx="127080" cy="127080"/>
          </a:xfrm>
        </p:grpSpPr>
        <p:sp>
          <p:nvSpPr>
            <p:cNvPr id="1276" name=""/>
            <p:cNvSpPr/>
            <p:nvPr/>
          </p:nvSpPr>
          <p:spPr>
            <a:xfrm>
              <a:off x="5962680" y="1204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02604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7172280" y="1204920"/>
            <a:ext cx="127080" cy="127080"/>
            <a:chOff x="7172280" y="1204920"/>
            <a:chExt cx="127080" cy="127080"/>
          </a:xfrm>
        </p:grpSpPr>
        <p:sp>
          <p:nvSpPr>
            <p:cNvPr id="1279" name=""/>
            <p:cNvSpPr/>
            <p:nvPr/>
          </p:nvSpPr>
          <p:spPr>
            <a:xfrm>
              <a:off x="7172280" y="1204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236000" y="1268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1187280" y="2428920"/>
            <a:ext cx="60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1123920" y="2365200"/>
            <a:ext cx="127080" cy="127080"/>
            <a:chOff x="1123920" y="2365200"/>
            <a:chExt cx="127080" cy="127080"/>
          </a:xfrm>
        </p:grpSpPr>
        <p:sp>
          <p:nvSpPr>
            <p:cNvPr id="1283" name=""/>
            <p:cNvSpPr/>
            <p:nvPr/>
          </p:nvSpPr>
          <p:spPr>
            <a:xfrm>
              <a:off x="1123920" y="23652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18728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2333520" y="2365200"/>
            <a:ext cx="127080" cy="127080"/>
            <a:chOff x="2333520" y="2365200"/>
            <a:chExt cx="127080" cy="127080"/>
          </a:xfrm>
        </p:grpSpPr>
        <p:sp>
          <p:nvSpPr>
            <p:cNvPr id="1286" name=""/>
            <p:cNvSpPr/>
            <p:nvPr/>
          </p:nvSpPr>
          <p:spPr>
            <a:xfrm>
              <a:off x="2333520" y="23652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39724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3543480" y="2365200"/>
            <a:ext cx="126720" cy="127080"/>
            <a:chOff x="3543480" y="2365200"/>
            <a:chExt cx="126720" cy="127080"/>
          </a:xfrm>
        </p:grpSpPr>
        <p:sp>
          <p:nvSpPr>
            <p:cNvPr id="1289" name=""/>
            <p:cNvSpPr/>
            <p:nvPr/>
          </p:nvSpPr>
          <p:spPr>
            <a:xfrm>
              <a:off x="3543480" y="23652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60684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753080" y="2365200"/>
            <a:ext cx="126720" cy="127080"/>
            <a:chOff x="4753080" y="2365200"/>
            <a:chExt cx="126720" cy="127080"/>
          </a:xfrm>
        </p:grpSpPr>
        <p:sp>
          <p:nvSpPr>
            <p:cNvPr id="1292" name=""/>
            <p:cNvSpPr/>
            <p:nvPr/>
          </p:nvSpPr>
          <p:spPr>
            <a:xfrm>
              <a:off x="4753080" y="23652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1644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5962680" y="2365200"/>
            <a:ext cx="127080" cy="127080"/>
            <a:chOff x="5962680" y="2365200"/>
            <a:chExt cx="127080" cy="127080"/>
          </a:xfrm>
        </p:grpSpPr>
        <p:sp>
          <p:nvSpPr>
            <p:cNvPr id="1295" name=""/>
            <p:cNvSpPr/>
            <p:nvPr/>
          </p:nvSpPr>
          <p:spPr>
            <a:xfrm>
              <a:off x="5962680" y="23652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2604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7172280" y="2365200"/>
            <a:ext cx="127080" cy="127080"/>
            <a:chOff x="7172280" y="2365200"/>
            <a:chExt cx="127080" cy="127080"/>
          </a:xfrm>
        </p:grpSpPr>
        <p:sp>
          <p:nvSpPr>
            <p:cNvPr id="1298" name=""/>
            <p:cNvSpPr/>
            <p:nvPr/>
          </p:nvSpPr>
          <p:spPr>
            <a:xfrm>
              <a:off x="7172280" y="23652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236000" y="24285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118728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39724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60684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81644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02604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7236000" y="126828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1186920" y="1268280"/>
            <a:ext cx="6049080" cy="1160640"/>
            <a:chOff x="1186920" y="1268280"/>
            <a:chExt cx="6049080" cy="1160640"/>
          </a:xfrm>
        </p:grpSpPr>
        <p:sp>
          <p:nvSpPr>
            <p:cNvPr id="1307" name=""/>
            <p:cNvSpPr/>
            <p:nvPr/>
          </p:nvSpPr>
          <p:spPr>
            <a:xfrm flipH="1" flipV="1">
              <a:off x="1186920" y="1268280"/>
              <a:ext cx="362916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1186920" y="1268280"/>
              <a:ext cx="362916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397240" y="1268280"/>
              <a:ext cx="483876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2396880" y="1268280"/>
              <a:ext cx="483876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3606840" y="1268280"/>
              <a:ext cx="241920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606840" y="1268280"/>
              <a:ext cx="2419200" cy="11606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3" name=""/>
          <p:cNvSpPr/>
          <p:nvPr/>
        </p:nvSpPr>
        <p:spPr>
          <a:xfrm>
            <a:off x="-8381520" y="900000"/>
            <a:ext cx="25189560" cy="2519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07" y="316"/>
                </a:moveTo>
                <a:arcTo wR="10800" hR="10800" stAng="-6233580" swAng="1667161"/>
                <a:lnTo>
                  <a:pt x="10800" y="10800"/>
                </a:lnTo>
                <a:close/>
              </a:path>
              <a:path fill="none" w="21600" h="21600">
                <a:moveTo>
                  <a:pt x="8207" y="316"/>
                </a:moveTo>
                <a:arcTo wR="10800" hR="10800" stAng="-6233580" swAng="166716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-6590520" y="-18741600"/>
            <a:ext cx="21603960" cy="216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24" y="21168"/>
                </a:moveTo>
                <a:arcTo wR="10800" hR="10800" stAng="4424484" swAng="1951032"/>
                <a:lnTo>
                  <a:pt x="10800" y="10800"/>
                </a:lnTo>
                <a:close/>
              </a:path>
              <a:path fill="none" w="21600" h="21600">
                <a:moveTo>
                  <a:pt x="13824" y="21168"/>
                </a:moveTo>
                <a:arcTo wR="10800" hR="10800" stAng="4424484" swAng="19510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84" dur="2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90" dur="2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93" dur="2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2484360" y="1413000"/>
            <a:ext cx="2448000" cy="24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rot="15300000">
            <a:off x="3327480" y="139032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rot="13500000">
            <a:off x="2779200" y="17074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rot="11700000">
            <a:off x="2461320" y="22554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rot="9900000">
            <a:off x="2461680" y="28900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rot="8100000">
            <a:off x="2778840" y="343800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rot="6300000">
            <a:off x="3327120" y="37558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rot="4500000">
            <a:off x="3962160" y="375588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2700000">
            <a:off x="4509720" y="343836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rot="900000">
            <a:off x="4827600" y="289044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rot="20700000">
            <a:off x="4827240" y="225576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rot="18900000">
            <a:off x="4510080" y="170784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rot="17100000">
            <a:off x="3962160" y="139032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3390840" y="1453680"/>
            <a:ext cx="635040" cy="236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2843280" y="1771560"/>
            <a:ext cx="1730160" cy="17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2525760" y="2319480"/>
            <a:ext cx="236520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2525760" y="2319120"/>
            <a:ext cx="236520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2843280" y="1771200"/>
            <a:ext cx="1730160" cy="17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3390840" y="1453680"/>
            <a:ext cx="635040" cy="236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92200" y="4738680"/>
            <a:ext cx="79563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Lemma 6.  Let 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n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be a positive integ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C</a:t>
            </a:r>
            <a:r>
              <a:rPr b="0" i="1" lang="zh-TW" sz="36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*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FG(C</a:t>
            </a:r>
            <a:r>
              <a:rPr b="0" i="1" lang="zh-TW" sz="36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if and only if 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n </a:t>
            </a:r>
            <a:r>
              <a:rPr b="0" i="1" lang="zh-TW" sz="3600" spc="-1" strike="noStrike">
                <a:solidFill>
                  <a:srgbClr val="ff7c80"/>
                </a:solidFill>
                <a:latin typeface="Symbol"/>
                <a:ea typeface="Symbol"/>
              </a:rPr>
              <a:t></a:t>
            </a:r>
            <a:r>
              <a:rPr b="0" i="1" lang="zh-TW" sz="3600" spc="-1" strike="noStrike">
                <a:solidFill>
                  <a:srgbClr val="ff7c80"/>
                </a:solidFill>
                <a:latin typeface="Arial"/>
              </a:rPr>
              <a:t> 4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graph of order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positive integer. An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ertex graph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aid to be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k-edge fault toler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k-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ith respect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f every graph obtained by removing any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dges from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revity, we refer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G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k-EFT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5" name=""/>
          <p:cNvGrpSpPr/>
          <p:nvPr/>
        </p:nvGrpSpPr>
        <p:grpSpPr>
          <a:xfrm>
            <a:off x="1708200" y="2293920"/>
            <a:ext cx="127080" cy="127080"/>
            <a:chOff x="1708200" y="2293920"/>
            <a:chExt cx="127080" cy="127080"/>
          </a:xfrm>
        </p:grpSpPr>
        <p:sp>
          <p:nvSpPr>
            <p:cNvPr id="1336" name=""/>
            <p:cNvSpPr/>
            <p:nvPr/>
          </p:nvSpPr>
          <p:spPr>
            <a:xfrm>
              <a:off x="1708200" y="2293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771920" y="2357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3244680" y="2293920"/>
            <a:ext cx="127080" cy="127080"/>
            <a:chOff x="3244680" y="2293920"/>
            <a:chExt cx="127080" cy="127080"/>
          </a:xfrm>
        </p:grpSpPr>
        <p:sp>
          <p:nvSpPr>
            <p:cNvPr id="1339" name=""/>
            <p:cNvSpPr/>
            <p:nvPr/>
          </p:nvSpPr>
          <p:spPr>
            <a:xfrm>
              <a:off x="3244680" y="2293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308040" y="2357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4780080" y="2293920"/>
            <a:ext cx="126720" cy="127080"/>
            <a:chOff x="4780080" y="2293920"/>
            <a:chExt cx="126720" cy="127080"/>
          </a:xfrm>
        </p:grpSpPr>
        <p:sp>
          <p:nvSpPr>
            <p:cNvPr id="1342" name=""/>
            <p:cNvSpPr/>
            <p:nvPr/>
          </p:nvSpPr>
          <p:spPr>
            <a:xfrm>
              <a:off x="4780080" y="22939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43440" y="2357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6316560" y="2293920"/>
            <a:ext cx="127080" cy="127080"/>
            <a:chOff x="6316560" y="2293920"/>
            <a:chExt cx="127080" cy="127080"/>
          </a:xfrm>
        </p:grpSpPr>
        <p:sp>
          <p:nvSpPr>
            <p:cNvPr id="1345" name=""/>
            <p:cNvSpPr/>
            <p:nvPr/>
          </p:nvSpPr>
          <p:spPr>
            <a:xfrm>
              <a:off x="6316560" y="22939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9920" y="2357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1771560" y="23572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308400" y="2357280"/>
            <a:ext cx="1535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843440" y="23572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708200" y="965160"/>
            <a:ext cx="127080" cy="127080"/>
            <a:chOff x="1708200" y="965160"/>
            <a:chExt cx="127080" cy="127080"/>
          </a:xfrm>
        </p:grpSpPr>
        <p:sp>
          <p:nvSpPr>
            <p:cNvPr id="1351" name=""/>
            <p:cNvSpPr/>
            <p:nvPr/>
          </p:nvSpPr>
          <p:spPr>
            <a:xfrm>
              <a:off x="1708200" y="96516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71920" y="10288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3244680" y="965160"/>
            <a:ext cx="127080" cy="127080"/>
            <a:chOff x="3244680" y="965160"/>
            <a:chExt cx="127080" cy="127080"/>
          </a:xfrm>
        </p:grpSpPr>
        <p:sp>
          <p:nvSpPr>
            <p:cNvPr id="1354" name=""/>
            <p:cNvSpPr/>
            <p:nvPr/>
          </p:nvSpPr>
          <p:spPr>
            <a:xfrm>
              <a:off x="3244680" y="96516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308040" y="10288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4780080" y="965160"/>
            <a:ext cx="126720" cy="127080"/>
            <a:chOff x="4780080" y="965160"/>
            <a:chExt cx="126720" cy="127080"/>
          </a:xfrm>
        </p:grpSpPr>
        <p:sp>
          <p:nvSpPr>
            <p:cNvPr id="1357" name=""/>
            <p:cNvSpPr/>
            <p:nvPr/>
          </p:nvSpPr>
          <p:spPr>
            <a:xfrm>
              <a:off x="4780080" y="96516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43440" y="10288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6316560" y="965160"/>
            <a:ext cx="127080" cy="127080"/>
            <a:chOff x="6316560" y="965160"/>
            <a:chExt cx="127080" cy="127080"/>
          </a:xfrm>
        </p:grpSpPr>
        <p:sp>
          <p:nvSpPr>
            <p:cNvPr id="1360" name=""/>
            <p:cNvSpPr/>
            <p:nvPr/>
          </p:nvSpPr>
          <p:spPr>
            <a:xfrm>
              <a:off x="6316560" y="96516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79920" y="10288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1771560" y="10288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308400" y="1028880"/>
            <a:ext cx="1535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843440" y="10288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1771560" y="1028880"/>
            <a:ext cx="0" cy="1328400"/>
          </a:xfrm>
          <a:prstGeom prst="line">
            <a:avLst/>
          </a:prstGeom>
          <a:ln cap="rnd" w="936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6380280" y="1028880"/>
            <a:ext cx="0" cy="1328400"/>
          </a:xfrm>
          <a:prstGeom prst="line">
            <a:avLst/>
          </a:prstGeom>
          <a:ln cap="rnd" w="936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308400" y="1028880"/>
            <a:ext cx="0" cy="1328400"/>
          </a:xfrm>
          <a:prstGeom prst="line">
            <a:avLst/>
          </a:prstGeom>
          <a:ln cap="rnd" w="936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43440" y="1028880"/>
            <a:ext cx="0" cy="1328400"/>
          </a:xfrm>
          <a:prstGeom prst="line">
            <a:avLst/>
          </a:prstGeom>
          <a:ln cap="rnd" w="936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-1787400" y="557280"/>
            <a:ext cx="11728440" cy="117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8" y="868"/>
                </a:moveTo>
                <a:arcTo wR="10800" hR="10800" stAng="-6787670" swAng="2775341"/>
                <a:lnTo>
                  <a:pt x="10800" y="10800"/>
                </a:lnTo>
                <a:close/>
              </a:path>
              <a:path fill="none" w="21600" h="21600">
                <a:moveTo>
                  <a:pt x="6558" y="868"/>
                </a:moveTo>
                <a:arcTo wR="10800" hR="10800" stAng="-6787670" swAng="2775341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-2284560" y="-9937800"/>
            <a:ext cx="12722760" cy="127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11" y="20867"/>
                </a:moveTo>
                <a:arcTo wR="10800" hR="10800" stAng="4126304" swAng="2547393"/>
                <a:lnTo>
                  <a:pt x="10800" y="10800"/>
                </a:lnTo>
                <a:close/>
              </a:path>
              <a:path fill="none" w="21600" h="21600">
                <a:moveTo>
                  <a:pt x="14711" y="20867"/>
                </a:moveTo>
                <a:arcTo wR="10800" hR="10800" stAng="4126304" swAng="254739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771560" y="1028880"/>
            <a:ext cx="3071880" cy="132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308400" y="1028880"/>
            <a:ext cx="3071880" cy="132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1771200" y="1028880"/>
            <a:ext cx="3071880" cy="132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308040" y="1028880"/>
            <a:ext cx="3071880" cy="1328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801680" y="981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386040" y="981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840960" y="981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425320" y="981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840960" y="1989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425320" y="191628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817520" y="184464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386040" y="1989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866960" y="5276880"/>
            <a:ext cx="127080" cy="127080"/>
            <a:chOff x="1866960" y="5276880"/>
            <a:chExt cx="127080" cy="127080"/>
          </a:xfrm>
        </p:grpSpPr>
        <p:sp>
          <p:nvSpPr>
            <p:cNvPr id="1384" name=""/>
            <p:cNvSpPr/>
            <p:nvPr/>
          </p:nvSpPr>
          <p:spPr>
            <a:xfrm>
              <a:off x="1866960" y="52768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930680" y="5340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403440" y="5276880"/>
            <a:ext cx="127080" cy="127080"/>
            <a:chOff x="3403440" y="5276880"/>
            <a:chExt cx="127080" cy="127080"/>
          </a:xfrm>
        </p:grpSpPr>
        <p:sp>
          <p:nvSpPr>
            <p:cNvPr id="1387" name=""/>
            <p:cNvSpPr/>
            <p:nvPr/>
          </p:nvSpPr>
          <p:spPr>
            <a:xfrm>
              <a:off x="3403440" y="52768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466800" y="5340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4938840" y="5276880"/>
            <a:ext cx="126720" cy="127080"/>
            <a:chOff x="4938840" y="5276880"/>
            <a:chExt cx="126720" cy="127080"/>
          </a:xfrm>
        </p:grpSpPr>
        <p:sp>
          <p:nvSpPr>
            <p:cNvPr id="1390" name=""/>
            <p:cNvSpPr/>
            <p:nvPr/>
          </p:nvSpPr>
          <p:spPr>
            <a:xfrm>
              <a:off x="4938840" y="527688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002200" y="5340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475320" y="5276880"/>
            <a:ext cx="127080" cy="127080"/>
            <a:chOff x="6475320" y="5276880"/>
            <a:chExt cx="127080" cy="127080"/>
          </a:xfrm>
        </p:grpSpPr>
        <p:sp>
          <p:nvSpPr>
            <p:cNvPr id="1393" name=""/>
            <p:cNvSpPr/>
            <p:nvPr/>
          </p:nvSpPr>
          <p:spPr>
            <a:xfrm>
              <a:off x="6475320" y="52768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538680" y="5340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1930320" y="534024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467160" y="5340240"/>
            <a:ext cx="1535040" cy="0"/>
          </a:xfrm>
          <a:prstGeom prst="line">
            <a:avLst/>
          </a:prstGeom>
          <a:ln cap="rnd" w="5724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002200" y="534024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866960" y="3948120"/>
            <a:ext cx="127080" cy="127080"/>
            <a:chOff x="1866960" y="3948120"/>
            <a:chExt cx="127080" cy="127080"/>
          </a:xfrm>
        </p:grpSpPr>
        <p:sp>
          <p:nvSpPr>
            <p:cNvPr id="1399" name=""/>
            <p:cNvSpPr/>
            <p:nvPr/>
          </p:nvSpPr>
          <p:spPr>
            <a:xfrm>
              <a:off x="1866960" y="39481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30680" y="4011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403440" y="3948120"/>
            <a:ext cx="127080" cy="127080"/>
            <a:chOff x="3403440" y="3948120"/>
            <a:chExt cx="127080" cy="127080"/>
          </a:xfrm>
        </p:grpSpPr>
        <p:sp>
          <p:nvSpPr>
            <p:cNvPr id="1402" name=""/>
            <p:cNvSpPr/>
            <p:nvPr/>
          </p:nvSpPr>
          <p:spPr>
            <a:xfrm>
              <a:off x="3403440" y="39481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6800" y="4011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4938840" y="3948120"/>
            <a:ext cx="126720" cy="127080"/>
            <a:chOff x="4938840" y="3948120"/>
            <a:chExt cx="126720" cy="127080"/>
          </a:xfrm>
        </p:grpSpPr>
        <p:sp>
          <p:nvSpPr>
            <p:cNvPr id="1405" name=""/>
            <p:cNvSpPr/>
            <p:nvPr/>
          </p:nvSpPr>
          <p:spPr>
            <a:xfrm>
              <a:off x="4938840" y="394812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02200" y="4011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6475320" y="3948120"/>
            <a:ext cx="127080" cy="127080"/>
            <a:chOff x="6475320" y="3948120"/>
            <a:chExt cx="127080" cy="127080"/>
          </a:xfrm>
        </p:grpSpPr>
        <p:sp>
          <p:nvSpPr>
            <p:cNvPr id="1408" name=""/>
            <p:cNvSpPr/>
            <p:nvPr/>
          </p:nvSpPr>
          <p:spPr>
            <a:xfrm>
              <a:off x="6475320" y="394812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538680" y="4011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1930320" y="40114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467160" y="4011480"/>
            <a:ext cx="1535040" cy="0"/>
          </a:xfrm>
          <a:prstGeom prst="line">
            <a:avLst/>
          </a:prstGeom>
          <a:ln cap="rnd" w="57240">
            <a:solidFill>
              <a:srgbClr val="ff7c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002200" y="4011480"/>
            <a:ext cx="1536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1930320" y="4011120"/>
            <a:ext cx="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539040" y="4011120"/>
            <a:ext cx="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467160" y="4011480"/>
            <a:ext cx="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002200" y="4011480"/>
            <a:ext cx="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-1628640" y="3540240"/>
            <a:ext cx="11728440" cy="117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8" y="868"/>
                </a:moveTo>
                <a:arcTo wR="10800" hR="10800" stAng="-6787670" swAng="2775341"/>
                <a:lnTo>
                  <a:pt x="10800" y="10800"/>
                </a:lnTo>
                <a:close/>
              </a:path>
              <a:path fill="none" w="21600" h="21600">
                <a:moveTo>
                  <a:pt x="6558" y="868"/>
                </a:moveTo>
                <a:arcTo wR="10800" hR="10800" stAng="-6787670" swAng="277534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-2125800" y="-6954840"/>
            <a:ext cx="12722760" cy="1272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11" y="20867"/>
                </a:moveTo>
                <a:arcTo wR="10800" hR="10800" stAng="4126304" swAng="2547393"/>
                <a:lnTo>
                  <a:pt x="10800" y="10800"/>
                </a:lnTo>
                <a:close/>
              </a:path>
              <a:path fill="none" w="21600" h="21600">
                <a:moveTo>
                  <a:pt x="14711" y="20867"/>
                </a:moveTo>
                <a:arcTo wR="10800" hR="10800" stAng="4126304" swAng="254739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930320" y="4011480"/>
            <a:ext cx="307188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467160" y="4011480"/>
            <a:ext cx="307188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1929960" y="4011480"/>
            <a:ext cx="307188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3466800" y="4011480"/>
            <a:ext cx="3071880" cy="1328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985320" y="35733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585520" y="39798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602040" y="494172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017680" y="4869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99720" y="49719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584080" y="486900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602040" y="40053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946400" y="4005360"/>
            <a:ext cx="8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5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588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591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594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2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597" dur="2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2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658" dur="2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2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661" dur="2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2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664" dur="2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667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1763640" y="162864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1700280" y="1565280"/>
            <a:ext cx="127080" cy="127080"/>
            <a:chOff x="1700280" y="1565280"/>
            <a:chExt cx="127080" cy="127080"/>
          </a:xfrm>
        </p:grpSpPr>
        <p:sp>
          <p:nvSpPr>
            <p:cNvPr id="1433" name=""/>
            <p:cNvSpPr/>
            <p:nvPr/>
          </p:nvSpPr>
          <p:spPr>
            <a:xfrm>
              <a:off x="170028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76364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2549520" y="1565280"/>
            <a:ext cx="127080" cy="127080"/>
            <a:chOff x="2549520" y="1565280"/>
            <a:chExt cx="127080" cy="127080"/>
          </a:xfrm>
        </p:grpSpPr>
        <p:sp>
          <p:nvSpPr>
            <p:cNvPr id="1436" name=""/>
            <p:cNvSpPr/>
            <p:nvPr/>
          </p:nvSpPr>
          <p:spPr>
            <a:xfrm>
              <a:off x="254952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61288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3398760" y="1565280"/>
            <a:ext cx="127080" cy="127080"/>
            <a:chOff x="3398760" y="1565280"/>
            <a:chExt cx="127080" cy="127080"/>
          </a:xfrm>
        </p:grpSpPr>
        <p:sp>
          <p:nvSpPr>
            <p:cNvPr id="1439" name=""/>
            <p:cNvSpPr/>
            <p:nvPr/>
          </p:nvSpPr>
          <p:spPr>
            <a:xfrm>
              <a:off x="339876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46248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4249800" y="1565280"/>
            <a:ext cx="127080" cy="127080"/>
            <a:chOff x="4249800" y="1565280"/>
            <a:chExt cx="127080" cy="127080"/>
          </a:xfrm>
        </p:grpSpPr>
        <p:sp>
          <p:nvSpPr>
            <p:cNvPr id="1442" name=""/>
            <p:cNvSpPr/>
            <p:nvPr/>
          </p:nvSpPr>
          <p:spPr>
            <a:xfrm>
              <a:off x="424980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1316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5099040" y="1565280"/>
            <a:ext cx="127080" cy="127080"/>
            <a:chOff x="5099040" y="1565280"/>
            <a:chExt cx="127080" cy="127080"/>
          </a:xfrm>
        </p:grpSpPr>
        <p:sp>
          <p:nvSpPr>
            <p:cNvPr id="1445" name=""/>
            <p:cNvSpPr/>
            <p:nvPr/>
          </p:nvSpPr>
          <p:spPr>
            <a:xfrm>
              <a:off x="509904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16240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5948280" y="1565280"/>
            <a:ext cx="127080" cy="127080"/>
            <a:chOff x="5948280" y="1565280"/>
            <a:chExt cx="127080" cy="127080"/>
          </a:xfrm>
        </p:grpSpPr>
        <p:sp>
          <p:nvSpPr>
            <p:cNvPr id="1448" name=""/>
            <p:cNvSpPr/>
            <p:nvPr/>
          </p:nvSpPr>
          <p:spPr>
            <a:xfrm>
              <a:off x="594828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01200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1763640" y="293364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1700280" y="2870280"/>
            <a:ext cx="127080" cy="127080"/>
            <a:chOff x="1700280" y="2870280"/>
            <a:chExt cx="127080" cy="127080"/>
          </a:xfrm>
        </p:grpSpPr>
        <p:sp>
          <p:nvSpPr>
            <p:cNvPr id="1452" name=""/>
            <p:cNvSpPr/>
            <p:nvPr/>
          </p:nvSpPr>
          <p:spPr>
            <a:xfrm>
              <a:off x="170028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76364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2549520" y="2870280"/>
            <a:ext cx="127080" cy="127080"/>
            <a:chOff x="2549520" y="2870280"/>
            <a:chExt cx="127080" cy="127080"/>
          </a:xfrm>
        </p:grpSpPr>
        <p:sp>
          <p:nvSpPr>
            <p:cNvPr id="1455" name=""/>
            <p:cNvSpPr/>
            <p:nvPr/>
          </p:nvSpPr>
          <p:spPr>
            <a:xfrm>
              <a:off x="254952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61288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398760" y="2870280"/>
            <a:ext cx="127080" cy="127080"/>
            <a:chOff x="3398760" y="2870280"/>
            <a:chExt cx="127080" cy="127080"/>
          </a:xfrm>
        </p:grpSpPr>
        <p:sp>
          <p:nvSpPr>
            <p:cNvPr id="1458" name=""/>
            <p:cNvSpPr/>
            <p:nvPr/>
          </p:nvSpPr>
          <p:spPr>
            <a:xfrm>
              <a:off x="339876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46248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4249800" y="2870280"/>
            <a:ext cx="127080" cy="127080"/>
            <a:chOff x="4249800" y="2870280"/>
            <a:chExt cx="127080" cy="127080"/>
          </a:xfrm>
        </p:grpSpPr>
        <p:sp>
          <p:nvSpPr>
            <p:cNvPr id="1461" name=""/>
            <p:cNvSpPr/>
            <p:nvPr/>
          </p:nvSpPr>
          <p:spPr>
            <a:xfrm>
              <a:off x="424980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31316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099040" y="2870280"/>
            <a:ext cx="127080" cy="127080"/>
            <a:chOff x="5099040" y="2870280"/>
            <a:chExt cx="127080" cy="127080"/>
          </a:xfrm>
        </p:grpSpPr>
        <p:sp>
          <p:nvSpPr>
            <p:cNvPr id="1464" name=""/>
            <p:cNvSpPr/>
            <p:nvPr/>
          </p:nvSpPr>
          <p:spPr>
            <a:xfrm>
              <a:off x="509904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16240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948280" y="2870280"/>
            <a:ext cx="127080" cy="127080"/>
            <a:chOff x="5948280" y="2870280"/>
            <a:chExt cx="127080" cy="127080"/>
          </a:xfrm>
        </p:grpSpPr>
        <p:sp>
          <p:nvSpPr>
            <p:cNvPr id="1467" name=""/>
            <p:cNvSpPr/>
            <p:nvPr/>
          </p:nvSpPr>
          <p:spPr>
            <a:xfrm>
              <a:off x="594828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01200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-2549880" y="-9580320"/>
            <a:ext cx="12875400" cy="1287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63" y="20995"/>
                </a:moveTo>
                <a:arcTo wR="10800" hR="10800" stAng="4244059" swAng="2311883"/>
                <a:lnTo>
                  <a:pt x="10800" y="10800"/>
                </a:lnTo>
                <a:close/>
              </a:path>
              <a:path fill="none" w="21600" h="21600">
                <a:moveTo>
                  <a:pt x="14363" y="20995"/>
                </a:moveTo>
                <a:arcTo wR="10800" hR="10800" stAng="4244059" swAng="23118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-1460160" y="1192320"/>
            <a:ext cx="10695600" cy="1069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0" y="888"/>
                </a:moveTo>
                <a:arcTo wR="10800" hR="10800" stAng="-6804137" swAng="2808274"/>
                <a:lnTo>
                  <a:pt x="10800" y="10800"/>
                </a:lnTo>
                <a:close/>
              </a:path>
              <a:path fill="none" w="21600" h="21600">
                <a:moveTo>
                  <a:pt x="6510" y="888"/>
                </a:moveTo>
                <a:arcTo wR="10800" hR="10800" stAng="-6804137" swAng="28082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76364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61288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46248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1316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16240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01200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76364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61288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346248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76364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61288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46248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31328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773360" y="42051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1709640" y="4141800"/>
            <a:ext cx="127080" cy="127080"/>
            <a:chOff x="1709640" y="4141800"/>
            <a:chExt cx="127080" cy="127080"/>
          </a:xfrm>
        </p:grpSpPr>
        <p:sp>
          <p:nvSpPr>
            <p:cNvPr id="1486" name=""/>
            <p:cNvSpPr/>
            <p:nvPr/>
          </p:nvSpPr>
          <p:spPr>
            <a:xfrm>
              <a:off x="170964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77300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2558880" y="4141800"/>
            <a:ext cx="127080" cy="127080"/>
            <a:chOff x="2558880" y="4141800"/>
            <a:chExt cx="127080" cy="127080"/>
          </a:xfrm>
        </p:grpSpPr>
        <p:sp>
          <p:nvSpPr>
            <p:cNvPr id="1489" name=""/>
            <p:cNvSpPr/>
            <p:nvPr/>
          </p:nvSpPr>
          <p:spPr>
            <a:xfrm>
              <a:off x="255888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62224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3408480" y="4141800"/>
            <a:ext cx="126720" cy="127080"/>
            <a:chOff x="3408480" y="4141800"/>
            <a:chExt cx="126720" cy="127080"/>
          </a:xfrm>
        </p:grpSpPr>
        <p:sp>
          <p:nvSpPr>
            <p:cNvPr id="1492" name=""/>
            <p:cNvSpPr/>
            <p:nvPr/>
          </p:nvSpPr>
          <p:spPr>
            <a:xfrm>
              <a:off x="3408480" y="4141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4259160" y="4141800"/>
            <a:ext cx="127080" cy="127080"/>
            <a:chOff x="4259160" y="4141800"/>
            <a:chExt cx="127080" cy="127080"/>
          </a:xfrm>
        </p:grpSpPr>
        <p:sp>
          <p:nvSpPr>
            <p:cNvPr id="1495" name=""/>
            <p:cNvSpPr/>
            <p:nvPr/>
          </p:nvSpPr>
          <p:spPr>
            <a:xfrm>
              <a:off x="425916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2252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108400" y="4141800"/>
            <a:ext cx="127080" cy="127080"/>
            <a:chOff x="5108400" y="4141800"/>
            <a:chExt cx="127080" cy="127080"/>
          </a:xfrm>
        </p:grpSpPr>
        <p:sp>
          <p:nvSpPr>
            <p:cNvPr id="1498" name=""/>
            <p:cNvSpPr/>
            <p:nvPr/>
          </p:nvSpPr>
          <p:spPr>
            <a:xfrm>
              <a:off x="510840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17176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5958000" y="4141800"/>
            <a:ext cx="126720" cy="127080"/>
            <a:chOff x="5958000" y="4141800"/>
            <a:chExt cx="126720" cy="127080"/>
          </a:xfrm>
        </p:grpSpPr>
        <p:sp>
          <p:nvSpPr>
            <p:cNvPr id="1501" name=""/>
            <p:cNvSpPr/>
            <p:nvPr/>
          </p:nvSpPr>
          <p:spPr>
            <a:xfrm>
              <a:off x="5958000" y="4141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136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"/>
          <p:cNvSpPr/>
          <p:nvPr/>
        </p:nvSpPr>
        <p:spPr>
          <a:xfrm>
            <a:off x="1773360" y="55101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1709640" y="5446800"/>
            <a:ext cx="127080" cy="127080"/>
            <a:chOff x="1709640" y="5446800"/>
            <a:chExt cx="127080" cy="127080"/>
          </a:xfrm>
        </p:grpSpPr>
        <p:sp>
          <p:nvSpPr>
            <p:cNvPr id="1505" name=""/>
            <p:cNvSpPr/>
            <p:nvPr/>
          </p:nvSpPr>
          <p:spPr>
            <a:xfrm>
              <a:off x="170964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77300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2558880" y="5446800"/>
            <a:ext cx="127080" cy="127080"/>
            <a:chOff x="2558880" y="5446800"/>
            <a:chExt cx="127080" cy="127080"/>
          </a:xfrm>
        </p:grpSpPr>
        <p:sp>
          <p:nvSpPr>
            <p:cNvPr id="1508" name=""/>
            <p:cNvSpPr/>
            <p:nvPr/>
          </p:nvSpPr>
          <p:spPr>
            <a:xfrm>
              <a:off x="255888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62224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3408480" y="5446800"/>
            <a:ext cx="126720" cy="127080"/>
            <a:chOff x="3408480" y="5446800"/>
            <a:chExt cx="126720" cy="127080"/>
          </a:xfrm>
        </p:grpSpPr>
        <p:sp>
          <p:nvSpPr>
            <p:cNvPr id="1511" name=""/>
            <p:cNvSpPr/>
            <p:nvPr/>
          </p:nvSpPr>
          <p:spPr>
            <a:xfrm>
              <a:off x="3408480" y="5446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47184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4259160" y="5446800"/>
            <a:ext cx="127080" cy="127080"/>
            <a:chOff x="4259160" y="5446800"/>
            <a:chExt cx="127080" cy="127080"/>
          </a:xfrm>
        </p:grpSpPr>
        <p:sp>
          <p:nvSpPr>
            <p:cNvPr id="1514" name=""/>
            <p:cNvSpPr/>
            <p:nvPr/>
          </p:nvSpPr>
          <p:spPr>
            <a:xfrm>
              <a:off x="425916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2252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5108400" y="5446800"/>
            <a:ext cx="127080" cy="127080"/>
            <a:chOff x="5108400" y="5446800"/>
            <a:chExt cx="127080" cy="127080"/>
          </a:xfrm>
        </p:grpSpPr>
        <p:sp>
          <p:nvSpPr>
            <p:cNvPr id="1517" name=""/>
            <p:cNvSpPr/>
            <p:nvPr/>
          </p:nvSpPr>
          <p:spPr>
            <a:xfrm>
              <a:off x="510840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17176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5958000" y="5446800"/>
            <a:ext cx="126720" cy="127080"/>
            <a:chOff x="5958000" y="5446800"/>
            <a:chExt cx="126720" cy="127080"/>
          </a:xfrm>
        </p:grpSpPr>
        <p:sp>
          <p:nvSpPr>
            <p:cNvPr id="1520" name=""/>
            <p:cNvSpPr/>
            <p:nvPr/>
          </p:nvSpPr>
          <p:spPr>
            <a:xfrm>
              <a:off x="5958000" y="5446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2136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-2539800" y="-7003800"/>
            <a:ext cx="12874320" cy="1287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63" y="20995"/>
                </a:moveTo>
                <a:arcTo wR="10800" hR="10800" stAng="4244059" swAng="2311883"/>
                <a:lnTo>
                  <a:pt x="10800" y="10800"/>
                </a:lnTo>
                <a:close/>
              </a:path>
              <a:path fill="none" w="21600" h="21600">
                <a:moveTo>
                  <a:pt x="14363" y="20995"/>
                </a:moveTo>
                <a:arcTo wR="10800" hR="10800" stAng="4244059" swAng="23118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-1450080" y="3768840"/>
            <a:ext cx="10694880" cy="1069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0" y="888"/>
                </a:moveTo>
                <a:arcTo wR="10800" hR="10800" stAng="-6804137" swAng="2808274"/>
                <a:lnTo>
                  <a:pt x="10800" y="10800"/>
                </a:lnTo>
                <a:close/>
              </a:path>
              <a:path fill="none" w="21600" h="21600">
                <a:moveTo>
                  <a:pt x="6510" y="888"/>
                </a:moveTo>
                <a:arcTo wR="10800" hR="10800" stAng="-6804137" swAng="28082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77336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62260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47184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432288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517212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02136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5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7" dur="2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9" dur="2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1" dur="2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3" dur="500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"/>
          <p:cNvGrpSpPr/>
          <p:nvPr/>
        </p:nvGrpSpPr>
        <p:grpSpPr>
          <a:xfrm>
            <a:off x="1700280" y="1565280"/>
            <a:ext cx="127080" cy="127080"/>
            <a:chOff x="1700280" y="1565280"/>
            <a:chExt cx="127080" cy="127080"/>
          </a:xfrm>
        </p:grpSpPr>
        <p:sp>
          <p:nvSpPr>
            <p:cNvPr id="1531" name=""/>
            <p:cNvSpPr/>
            <p:nvPr/>
          </p:nvSpPr>
          <p:spPr>
            <a:xfrm>
              <a:off x="170028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76364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549520" y="1565280"/>
            <a:ext cx="127080" cy="127080"/>
            <a:chOff x="2549520" y="1565280"/>
            <a:chExt cx="127080" cy="127080"/>
          </a:xfrm>
        </p:grpSpPr>
        <p:sp>
          <p:nvSpPr>
            <p:cNvPr id="1534" name=""/>
            <p:cNvSpPr/>
            <p:nvPr/>
          </p:nvSpPr>
          <p:spPr>
            <a:xfrm>
              <a:off x="254952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61288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3398760" y="1565280"/>
            <a:ext cx="127080" cy="127080"/>
            <a:chOff x="3398760" y="1565280"/>
            <a:chExt cx="127080" cy="127080"/>
          </a:xfrm>
        </p:grpSpPr>
        <p:sp>
          <p:nvSpPr>
            <p:cNvPr id="1537" name=""/>
            <p:cNvSpPr/>
            <p:nvPr/>
          </p:nvSpPr>
          <p:spPr>
            <a:xfrm>
              <a:off x="339876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6248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4249800" y="1565280"/>
            <a:ext cx="127080" cy="127080"/>
            <a:chOff x="4249800" y="1565280"/>
            <a:chExt cx="127080" cy="127080"/>
          </a:xfrm>
        </p:grpSpPr>
        <p:sp>
          <p:nvSpPr>
            <p:cNvPr id="1540" name=""/>
            <p:cNvSpPr/>
            <p:nvPr/>
          </p:nvSpPr>
          <p:spPr>
            <a:xfrm>
              <a:off x="424980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31316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5099040" y="1565280"/>
            <a:ext cx="127080" cy="127080"/>
            <a:chOff x="5099040" y="1565280"/>
            <a:chExt cx="127080" cy="127080"/>
          </a:xfrm>
        </p:grpSpPr>
        <p:sp>
          <p:nvSpPr>
            <p:cNvPr id="1543" name=""/>
            <p:cNvSpPr/>
            <p:nvPr/>
          </p:nvSpPr>
          <p:spPr>
            <a:xfrm>
              <a:off x="509904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16240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5948280" y="1565280"/>
            <a:ext cx="127080" cy="127080"/>
            <a:chOff x="5948280" y="1565280"/>
            <a:chExt cx="127080" cy="127080"/>
          </a:xfrm>
        </p:grpSpPr>
        <p:sp>
          <p:nvSpPr>
            <p:cNvPr id="1546" name=""/>
            <p:cNvSpPr/>
            <p:nvPr/>
          </p:nvSpPr>
          <p:spPr>
            <a:xfrm>
              <a:off x="5948280" y="1565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12000" y="1628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1700280" y="2870280"/>
            <a:ext cx="127080" cy="127080"/>
            <a:chOff x="1700280" y="2870280"/>
            <a:chExt cx="127080" cy="127080"/>
          </a:xfrm>
        </p:grpSpPr>
        <p:sp>
          <p:nvSpPr>
            <p:cNvPr id="1549" name=""/>
            <p:cNvSpPr/>
            <p:nvPr/>
          </p:nvSpPr>
          <p:spPr>
            <a:xfrm>
              <a:off x="170028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76364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2549520" y="2870280"/>
            <a:ext cx="127080" cy="127080"/>
            <a:chOff x="2549520" y="2870280"/>
            <a:chExt cx="127080" cy="127080"/>
          </a:xfrm>
        </p:grpSpPr>
        <p:sp>
          <p:nvSpPr>
            <p:cNvPr id="1552" name=""/>
            <p:cNvSpPr/>
            <p:nvPr/>
          </p:nvSpPr>
          <p:spPr>
            <a:xfrm>
              <a:off x="254952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61288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3398760" y="2870280"/>
            <a:ext cx="127080" cy="127080"/>
            <a:chOff x="3398760" y="2870280"/>
            <a:chExt cx="127080" cy="127080"/>
          </a:xfrm>
        </p:grpSpPr>
        <p:sp>
          <p:nvSpPr>
            <p:cNvPr id="1555" name=""/>
            <p:cNvSpPr/>
            <p:nvPr/>
          </p:nvSpPr>
          <p:spPr>
            <a:xfrm>
              <a:off x="339876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46248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4249800" y="2870280"/>
            <a:ext cx="127080" cy="127080"/>
            <a:chOff x="4249800" y="2870280"/>
            <a:chExt cx="127080" cy="127080"/>
          </a:xfrm>
        </p:grpSpPr>
        <p:sp>
          <p:nvSpPr>
            <p:cNvPr id="1558" name=""/>
            <p:cNvSpPr/>
            <p:nvPr/>
          </p:nvSpPr>
          <p:spPr>
            <a:xfrm>
              <a:off x="424980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31316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5099040" y="2870280"/>
            <a:ext cx="127080" cy="127080"/>
            <a:chOff x="5099040" y="2870280"/>
            <a:chExt cx="127080" cy="127080"/>
          </a:xfrm>
        </p:grpSpPr>
        <p:sp>
          <p:nvSpPr>
            <p:cNvPr id="1561" name=""/>
            <p:cNvSpPr/>
            <p:nvPr/>
          </p:nvSpPr>
          <p:spPr>
            <a:xfrm>
              <a:off x="509904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16240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948280" y="2870280"/>
            <a:ext cx="127080" cy="127080"/>
            <a:chOff x="5948280" y="2870280"/>
            <a:chExt cx="127080" cy="127080"/>
          </a:xfrm>
        </p:grpSpPr>
        <p:sp>
          <p:nvSpPr>
            <p:cNvPr id="1564" name=""/>
            <p:cNvSpPr/>
            <p:nvPr/>
          </p:nvSpPr>
          <p:spPr>
            <a:xfrm>
              <a:off x="5948280" y="2870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012000" y="29336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-2549880" y="-9580320"/>
            <a:ext cx="12875400" cy="1287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63" y="20995"/>
                </a:moveTo>
                <a:arcTo wR="10800" hR="10800" stAng="4244059" swAng="2311883"/>
                <a:lnTo>
                  <a:pt x="10800" y="10800"/>
                </a:lnTo>
                <a:close/>
              </a:path>
              <a:path fill="none" w="21600" h="21600">
                <a:moveTo>
                  <a:pt x="14363" y="20995"/>
                </a:moveTo>
                <a:arcTo wR="10800" hR="10800" stAng="4244059" swAng="23118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-1460160" y="1192320"/>
            <a:ext cx="10695600" cy="1069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0" y="888"/>
                </a:moveTo>
                <a:arcTo wR="10800" hR="10800" stAng="-6804137" swAng="2808274"/>
                <a:lnTo>
                  <a:pt x="10800" y="10800"/>
                </a:lnTo>
                <a:close/>
              </a:path>
              <a:path fill="none" w="21600" h="21600">
                <a:moveTo>
                  <a:pt x="6510" y="888"/>
                </a:moveTo>
                <a:arcTo wR="10800" hR="10800" stAng="-6804137" swAng="28082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76364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61288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46248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31316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16240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012000" y="162864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176364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261288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3462480" y="162828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76364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61288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462480" y="1628640"/>
            <a:ext cx="2549520" cy="130500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31328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773360" y="42051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1709640" y="4141800"/>
            <a:ext cx="127080" cy="127080"/>
            <a:chOff x="1709640" y="4141800"/>
            <a:chExt cx="127080" cy="127080"/>
          </a:xfrm>
        </p:grpSpPr>
        <p:sp>
          <p:nvSpPr>
            <p:cNvPr id="1583" name=""/>
            <p:cNvSpPr/>
            <p:nvPr/>
          </p:nvSpPr>
          <p:spPr>
            <a:xfrm>
              <a:off x="170964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77300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558880" y="4141800"/>
            <a:ext cx="127080" cy="127080"/>
            <a:chOff x="2558880" y="4141800"/>
            <a:chExt cx="127080" cy="127080"/>
          </a:xfrm>
        </p:grpSpPr>
        <p:sp>
          <p:nvSpPr>
            <p:cNvPr id="1586" name=""/>
            <p:cNvSpPr/>
            <p:nvPr/>
          </p:nvSpPr>
          <p:spPr>
            <a:xfrm>
              <a:off x="255888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2224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3408480" y="4141800"/>
            <a:ext cx="126720" cy="127080"/>
            <a:chOff x="3408480" y="4141800"/>
            <a:chExt cx="126720" cy="127080"/>
          </a:xfrm>
        </p:grpSpPr>
        <p:sp>
          <p:nvSpPr>
            <p:cNvPr id="1589" name=""/>
            <p:cNvSpPr/>
            <p:nvPr/>
          </p:nvSpPr>
          <p:spPr>
            <a:xfrm>
              <a:off x="3408480" y="4141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47184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4259160" y="4141800"/>
            <a:ext cx="127080" cy="127080"/>
            <a:chOff x="4259160" y="4141800"/>
            <a:chExt cx="127080" cy="127080"/>
          </a:xfrm>
        </p:grpSpPr>
        <p:sp>
          <p:nvSpPr>
            <p:cNvPr id="1592" name=""/>
            <p:cNvSpPr/>
            <p:nvPr/>
          </p:nvSpPr>
          <p:spPr>
            <a:xfrm>
              <a:off x="425916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32252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5108400" y="4141800"/>
            <a:ext cx="127080" cy="127080"/>
            <a:chOff x="5108400" y="4141800"/>
            <a:chExt cx="127080" cy="127080"/>
          </a:xfrm>
        </p:grpSpPr>
        <p:sp>
          <p:nvSpPr>
            <p:cNvPr id="1595" name=""/>
            <p:cNvSpPr/>
            <p:nvPr/>
          </p:nvSpPr>
          <p:spPr>
            <a:xfrm>
              <a:off x="5108400" y="4141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17176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5958000" y="4141800"/>
            <a:ext cx="126720" cy="127080"/>
            <a:chOff x="5958000" y="4141800"/>
            <a:chExt cx="126720" cy="127080"/>
          </a:xfrm>
        </p:grpSpPr>
        <p:sp>
          <p:nvSpPr>
            <p:cNvPr id="1598" name=""/>
            <p:cNvSpPr/>
            <p:nvPr/>
          </p:nvSpPr>
          <p:spPr>
            <a:xfrm>
              <a:off x="5958000" y="4141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21360" y="4205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0" name=""/>
          <p:cNvSpPr/>
          <p:nvPr/>
        </p:nvSpPr>
        <p:spPr>
          <a:xfrm>
            <a:off x="1773360" y="55101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709640" y="5446800"/>
            <a:ext cx="127080" cy="127080"/>
            <a:chOff x="1709640" y="5446800"/>
            <a:chExt cx="127080" cy="127080"/>
          </a:xfrm>
        </p:grpSpPr>
        <p:sp>
          <p:nvSpPr>
            <p:cNvPr id="1602" name=""/>
            <p:cNvSpPr/>
            <p:nvPr/>
          </p:nvSpPr>
          <p:spPr>
            <a:xfrm>
              <a:off x="170964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7300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2558880" y="5446800"/>
            <a:ext cx="127080" cy="127080"/>
            <a:chOff x="2558880" y="5446800"/>
            <a:chExt cx="127080" cy="127080"/>
          </a:xfrm>
        </p:grpSpPr>
        <p:sp>
          <p:nvSpPr>
            <p:cNvPr id="1605" name=""/>
            <p:cNvSpPr/>
            <p:nvPr/>
          </p:nvSpPr>
          <p:spPr>
            <a:xfrm>
              <a:off x="255888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62224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3408480" y="5446800"/>
            <a:ext cx="126720" cy="127080"/>
            <a:chOff x="3408480" y="5446800"/>
            <a:chExt cx="126720" cy="127080"/>
          </a:xfrm>
        </p:grpSpPr>
        <p:sp>
          <p:nvSpPr>
            <p:cNvPr id="1608" name=""/>
            <p:cNvSpPr/>
            <p:nvPr/>
          </p:nvSpPr>
          <p:spPr>
            <a:xfrm>
              <a:off x="3408480" y="5446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47184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4259160" y="5446800"/>
            <a:ext cx="127080" cy="127080"/>
            <a:chOff x="4259160" y="5446800"/>
            <a:chExt cx="127080" cy="127080"/>
          </a:xfrm>
        </p:grpSpPr>
        <p:sp>
          <p:nvSpPr>
            <p:cNvPr id="1611" name=""/>
            <p:cNvSpPr/>
            <p:nvPr/>
          </p:nvSpPr>
          <p:spPr>
            <a:xfrm>
              <a:off x="425916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2252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5108400" y="5446800"/>
            <a:ext cx="127080" cy="127080"/>
            <a:chOff x="5108400" y="5446800"/>
            <a:chExt cx="127080" cy="127080"/>
          </a:xfrm>
        </p:grpSpPr>
        <p:sp>
          <p:nvSpPr>
            <p:cNvPr id="1614" name=""/>
            <p:cNvSpPr/>
            <p:nvPr/>
          </p:nvSpPr>
          <p:spPr>
            <a:xfrm>
              <a:off x="5108400" y="544680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17176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5958000" y="5446800"/>
            <a:ext cx="126720" cy="127080"/>
            <a:chOff x="5958000" y="5446800"/>
            <a:chExt cx="126720" cy="127080"/>
          </a:xfrm>
        </p:grpSpPr>
        <p:sp>
          <p:nvSpPr>
            <p:cNvPr id="1617" name=""/>
            <p:cNvSpPr/>
            <p:nvPr/>
          </p:nvSpPr>
          <p:spPr>
            <a:xfrm>
              <a:off x="5958000" y="5446800"/>
              <a:ext cx="12672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360" y="55101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-2539800" y="-7003800"/>
            <a:ext cx="12874320" cy="1287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63" y="20995"/>
                </a:moveTo>
                <a:arcTo wR="10800" hR="10800" stAng="4244059" swAng="2311883"/>
                <a:lnTo>
                  <a:pt x="10800" y="10800"/>
                </a:lnTo>
                <a:close/>
              </a:path>
              <a:path fill="none" w="21600" h="21600">
                <a:moveTo>
                  <a:pt x="14363" y="20995"/>
                </a:moveTo>
                <a:arcTo wR="10800" hR="10800" stAng="4244059" swAng="23118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-1450080" y="3768840"/>
            <a:ext cx="10694880" cy="1069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0" y="888"/>
                </a:moveTo>
                <a:arcTo wR="10800" hR="10800" stAng="-6804137" swAng="2808274"/>
                <a:lnTo>
                  <a:pt x="10800" y="10800"/>
                </a:lnTo>
                <a:close/>
              </a:path>
              <a:path fill="none" w="21600" h="21600">
                <a:moveTo>
                  <a:pt x="6510" y="888"/>
                </a:moveTo>
                <a:arcTo wR="10800" hR="10800" stAng="-6804137" swAng="28082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77336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62260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47184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32288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17212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021360" y="4205160"/>
            <a:ext cx="0" cy="13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1763640" y="293364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612880" y="2933640"/>
            <a:ext cx="8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3462480" y="2933640"/>
            <a:ext cx="85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313160" y="293364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162400" y="2933640"/>
            <a:ext cx="8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1763640" y="162864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612880" y="1628640"/>
            <a:ext cx="8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62480" y="1628640"/>
            <a:ext cx="85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313160" y="162864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162400" y="1628640"/>
            <a:ext cx="8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2195280" y="2781360"/>
            <a:ext cx="287640" cy="288720"/>
            <a:chOff x="2195280" y="2781360"/>
            <a:chExt cx="287640" cy="288720"/>
          </a:xfrm>
        </p:grpSpPr>
        <p:sp>
          <p:nvSpPr>
            <p:cNvPr id="1638" name=""/>
            <p:cNvSpPr/>
            <p:nvPr/>
          </p:nvSpPr>
          <p:spPr>
            <a:xfrm>
              <a:off x="2195640" y="2781360"/>
              <a:ext cx="287280" cy="288720"/>
            </a:xfrm>
            <a:prstGeom prst="line">
              <a:avLst/>
            </a:prstGeom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195280" y="2781360"/>
              <a:ext cx="246600" cy="288720"/>
            </a:xfrm>
            <a:prstGeom prst="line">
              <a:avLst/>
            </a:prstGeom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m 7. Let </a:t>
            </a:r>
            <a:r>
              <a:rPr b="0" i="1" lang="en-US" sz="3200" spc="-1" strike="noStrike">
                <a:solidFill>
                  <a:srgbClr val="ff7c80"/>
                </a:solidFill>
                <a:latin typeface="Arial"/>
              </a:rPr>
              <a:t>W = {G*,G) | G* is FG(G)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Then 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losed under </a:t>
            </a:r>
            <a:r>
              <a:rPr b="0" lang="en-US" sz="3200" spc="-1" strike="noStrike">
                <a:solidFill>
                  <a:srgbClr val="ff7c80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 rot="576600">
            <a:off x="2768400" y="3435480"/>
            <a:ext cx="586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rot="576600">
            <a:off x="2798280" y="34718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rot="576600">
            <a:off x="3180960" y="350496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rot="576600">
            <a:off x="3211200" y="35416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rot="576600">
            <a:off x="3596760" y="357480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rot="576600">
            <a:off x="3627000" y="3611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rot="576600">
            <a:off x="4009680" y="364464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rot="576600">
            <a:off x="4039920" y="3681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rot="576600">
            <a:off x="4424040" y="371628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rot="576600">
            <a:off x="4454280" y="37530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rot="576600">
            <a:off x="4838400" y="378612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rot="576600">
            <a:off x="4868640" y="38228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798640" y="347184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212640" y="354168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3627000" y="361152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039920" y="368316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454280" y="375300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rot="576600">
            <a:off x="-64800" y="3383640"/>
            <a:ext cx="6536880" cy="796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rot="576600">
            <a:off x="2671560" y="400680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rot="576600">
            <a:off x="2701440" y="404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rot="576600">
            <a:off x="3084120" y="407628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rot="576600">
            <a:off x="3114360" y="4113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 rot="576600">
            <a:off x="3499920" y="41461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rot="576600">
            <a:off x="3530160" y="41832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rot="576600">
            <a:off x="3912840" y="421596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rot="576600">
            <a:off x="3943080" y="42530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rot="576600">
            <a:off x="4327200" y="428796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rot="576600">
            <a:off x="4357440" y="43243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 rot="576600">
            <a:off x="4741560" y="435780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rot="576600">
            <a:off x="4771800" y="43941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701800" y="404352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115800" y="411336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530160" y="418320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3943080" y="425448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340160" y="4321440"/>
            <a:ext cx="43020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rot="576600">
            <a:off x="-161280" y="3955320"/>
            <a:ext cx="6536880" cy="79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rot="576600">
            <a:off x="2574720" y="457992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rot="576600">
            <a:off x="2604600" y="4616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rot="576600">
            <a:off x="2987280" y="464940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rot="576600">
            <a:off x="3017520" y="46864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rot="576600">
            <a:off x="3403080" y="471924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rot="576600">
            <a:off x="3433320" y="47563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rot="576600">
            <a:off x="3816000" y="478908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rot="576600">
            <a:off x="3846240" y="48261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rot="576600">
            <a:off x="4230360" y="485928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 rot="576600">
            <a:off x="4260600" y="48960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rot="576600">
            <a:off x="4642920" y="4930560"/>
            <a:ext cx="604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rot="576600">
            <a:off x="4673160" y="49672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604960" y="461628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3017520" y="468648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433320" y="475632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846240" y="482616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4260600" y="489744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rot="576600">
            <a:off x="-258480" y="4528440"/>
            <a:ext cx="6536880" cy="796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rot="576600">
            <a:off x="2477880" y="514980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rot="576600">
            <a:off x="2507760" y="5186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rot="576600">
            <a:off x="2890440" y="521928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rot="576600">
            <a:off x="2920680" y="5256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rot="576600">
            <a:off x="3306240" y="52891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rot="576600">
            <a:off x="3336480" y="53262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rot="576600">
            <a:off x="3719160" y="535896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rot="576600">
            <a:off x="3749400" y="53960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rot="576600">
            <a:off x="4133520" y="542916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 rot="576600">
            <a:off x="4163760" y="54658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rot="576600">
            <a:off x="4547880" y="549900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rot="576600">
            <a:off x="4578120" y="55357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508120" y="518652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922120" y="525636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336480" y="532620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749400" y="539604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163760" y="546588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rot="576600">
            <a:off x="-354960" y="5096880"/>
            <a:ext cx="6536880" cy="79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2507760" y="461376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2598120" y="4041360"/>
            <a:ext cx="102960" cy="6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701440" y="347076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rot="576600">
            <a:off x="2493360" y="2273400"/>
            <a:ext cx="3866760" cy="471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2912400" y="467892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3008880" y="410760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3105720" y="353448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rot="576600">
            <a:off x="2897640" y="2334960"/>
            <a:ext cx="386388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3344040" y="474732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3441240" y="417564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3537720" y="360288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rot="576600">
            <a:off x="3329640" y="2403720"/>
            <a:ext cx="386676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3749040" y="481068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3845520" y="423936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3942360" y="366624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rot="576600">
            <a:off x="3734280" y="2467080"/>
            <a:ext cx="386676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4160160" y="489312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4256640" y="432180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4353840" y="375012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rot="576600">
            <a:off x="4145760" y="2552400"/>
            <a:ext cx="3863880" cy="471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4577760" y="496152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4674240" y="439020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4771080" y="381708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rot="576600">
            <a:off x="4563000" y="2617920"/>
            <a:ext cx="386676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448920" y="2811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h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rot="576600">
            <a:off x="2768400" y="37296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rot="576600">
            <a:off x="2798280" y="4096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rot="576600">
            <a:off x="3180960" y="44244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rot="576600">
            <a:off x="3211200" y="479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rot="576600">
            <a:off x="3596760" y="51228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rot="576600">
            <a:off x="3627000" y="549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rot="576600">
            <a:off x="4009680" y="5821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rot="576600">
            <a:off x="4039920" y="6192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rot="576600">
            <a:off x="4424040" y="65412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rot="576600">
            <a:off x="4454280" y="6904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rot="576600">
            <a:off x="4838400" y="72396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rot="576600">
            <a:off x="4868640" y="7603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798640" y="40968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212640" y="47952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627000" y="54936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039920" y="62064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454280" y="69048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rot="576600">
            <a:off x="-64800" y="321480"/>
            <a:ext cx="6536880" cy="796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rot="576600">
            <a:off x="2671560" y="94464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rot="576600">
            <a:off x="2701440" y="9810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rot="576600">
            <a:off x="3084120" y="10141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rot="576600">
            <a:off x="3114360" y="10508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rot="576600">
            <a:off x="3499920" y="108396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rot="576600">
            <a:off x="3530160" y="11206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rot="576600">
            <a:off x="3912840" y="115380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rot="576600">
            <a:off x="3943080" y="1190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rot="576600">
            <a:off x="4327200" y="122544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rot="576600">
            <a:off x="4357440" y="12621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rot="576600">
            <a:off x="4741560" y="129528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rot="576600">
            <a:off x="4771800" y="13320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701800" y="98100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115800" y="105084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30160" y="1119240"/>
            <a:ext cx="391320" cy="6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3927600" y="1189080"/>
            <a:ext cx="43020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340160" y="1258920"/>
            <a:ext cx="43020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rot="576600">
            <a:off x="-161280" y="893160"/>
            <a:ext cx="6536880" cy="79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rot="576600">
            <a:off x="2574720" y="151776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rot="576600">
            <a:off x="2604600" y="15541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rot="576600">
            <a:off x="2987280" y="158724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rot="576600">
            <a:off x="3017520" y="16239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rot="576600">
            <a:off x="3403080" y="165708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rot="576600">
            <a:off x="3433320" y="16938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rot="576600">
            <a:off x="3816000" y="17269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rot="576600">
            <a:off x="3846240" y="17636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 rot="576600">
            <a:off x="4230360" y="179712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 rot="576600">
            <a:off x="4260600" y="18334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 rot="576600">
            <a:off x="4642920" y="186804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 rot="576600">
            <a:off x="4673160" y="19051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604960" y="155412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017520" y="162396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433320" y="169380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846240" y="176364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260600" y="183528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576600">
            <a:off x="-258480" y="1466280"/>
            <a:ext cx="6536880" cy="796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576600">
            <a:off x="2477880" y="2087640"/>
            <a:ext cx="586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576600">
            <a:off x="2507760" y="21240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576600">
            <a:off x="2890440" y="215712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576600">
            <a:off x="2920680" y="219384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576600">
            <a:off x="3306240" y="222696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576600">
            <a:off x="3336480" y="226368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576600">
            <a:off x="3719160" y="2296800"/>
            <a:ext cx="604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576600">
            <a:off x="3749400" y="233352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576600">
            <a:off x="4133520" y="236700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576600">
            <a:off x="4163760" y="240336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576600">
            <a:off x="4547880" y="2436840"/>
            <a:ext cx="601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576600">
            <a:off x="4578120" y="2473200"/>
            <a:ext cx="360" cy="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2508120" y="212400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922120" y="219384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336480" y="2263680"/>
            <a:ext cx="413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3749400" y="2333520"/>
            <a:ext cx="415080" cy="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163760" y="2403360"/>
            <a:ext cx="4132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576600">
            <a:off x="-355320" y="2034360"/>
            <a:ext cx="6536880" cy="796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2507400" y="155160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2604240" y="98028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2701080" y="40860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rot="576600">
            <a:off x="2493360" y="-789120"/>
            <a:ext cx="3866760" cy="471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V="1">
            <a:off x="2912040" y="161676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 flipV="1">
            <a:off x="3009240" y="104508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3105720" y="47232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rot="576600">
            <a:off x="2897640" y="-726840"/>
            <a:ext cx="386388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3344400" y="168480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3440880" y="111348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3537720" y="54036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 rot="576600">
            <a:off x="3329280" y="-658800"/>
            <a:ext cx="3866760" cy="47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3748680" y="174852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3845880" y="117684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3942360" y="60408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 rot="576600">
            <a:off x="3734280" y="-594720"/>
            <a:ext cx="386676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4160160" y="183096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4256640" y="125964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4353840" y="68796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rot="576600">
            <a:off x="4145760" y="-509040"/>
            <a:ext cx="3863880" cy="471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4577400" y="1899360"/>
            <a:ext cx="972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4674600" y="1327680"/>
            <a:ext cx="968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4771080" y="754920"/>
            <a:ext cx="97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rot="576600">
            <a:off x="4563000" y="-443880"/>
            <a:ext cx="3866760" cy="471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2" y="14784"/>
                </a:moveTo>
                <a:arcTo wR="10800" hR="10800" stAng="9501283" swAng="2597433"/>
                <a:lnTo>
                  <a:pt x="10800" y="10800"/>
                </a:lnTo>
                <a:close/>
              </a:path>
              <a:path fill="none" w="21600" h="21600">
                <a:moveTo>
                  <a:pt x="762" y="14784"/>
                </a:moveTo>
                <a:arcTo wR="10800" hR="10800" stAng="9501283" swAng="25974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2508120" y="212364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2604960" y="155412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2701800" y="98064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2798640" y="40968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2916360" y="216648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3013200" y="159696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3110040" y="102348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206880" y="45252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3324240" y="226332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3421080" y="169380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3517920" y="112032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614760" y="54936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3732120" y="233532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3828960" y="176544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3925800" y="119232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4022640" y="62064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4140360" y="240660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237200" y="183672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4334040" y="126360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430880" y="69228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4548240" y="247824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4645080" y="190800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4741920" y="133524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838760" y="76356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2507760" y="1190520"/>
            <a:ext cx="1435320" cy="39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2921040" y="1268280"/>
            <a:ext cx="1434960" cy="39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3333240" y="1346040"/>
            <a:ext cx="1435320" cy="39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2598840" y="620640"/>
            <a:ext cx="1434960" cy="39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3011040" y="698400"/>
            <a:ext cx="1435320" cy="39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424320" y="776160"/>
            <a:ext cx="1434960" cy="39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2701800" y="981000"/>
            <a:ext cx="1047960" cy="441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092400" y="1052640"/>
            <a:ext cx="1047960" cy="44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524400" y="1123920"/>
            <a:ext cx="1047600" cy="441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771640" y="404640"/>
            <a:ext cx="1047960" cy="441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203640" y="476280"/>
            <a:ext cx="1047600" cy="44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635280" y="549360"/>
            <a:ext cx="1006560" cy="441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3530160" y="2473200"/>
            <a:ext cx="1047960" cy="17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H="1">
            <a:off x="3131640" y="2421000"/>
            <a:ext cx="104796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flipH="1">
            <a:off x="2700360" y="2349360"/>
            <a:ext cx="1047600" cy="17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3602160" y="1897200"/>
            <a:ext cx="104760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3203640" y="1844640"/>
            <a:ext cx="104760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2771280" y="1773360"/>
            <a:ext cx="104796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433680" y="1693800"/>
            <a:ext cx="1435320" cy="21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2987640" y="1628640"/>
            <a:ext cx="1434960" cy="21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2631960" y="1563840"/>
            <a:ext cx="1435320" cy="21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86080" y="2236680"/>
            <a:ext cx="1435320" cy="21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2840040" y="2171880"/>
            <a:ext cx="1434960" cy="21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484360" y="2106720"/>
            <a:ext cx="1435320" cy="21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orollary 8. Let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*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be faithful graph of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i=1,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  The graph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*,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i="1" lang="zh-TW" sz="2800" spc="-1" strike="noStrike">
                <a:solidFill>
                  <a:srgbClr val="ff7c80"/>
                </a:solidFill>
                <a:latin typeface="Symbol"/>
                <a:ea typeface="Symbol"/>
              </a:rPr>
              <a:t>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*,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1-EFT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.  Furthermo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eft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Symbol"/>
                <a:ea typeface="Symbol"/>
              </a:rPr>
              <a:t>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i="1" lang="zh-TW" sz="2800" spc="-1" strike="noStrike">
                <a:solidFill>
                  <a:srgbClr val="ff7c80"/>
                </a:solidFill>
                <a:latin typeface="Symbol"/>
                <a:ea typeface="Symbol"/>
              </a:rPr>
              <a:t>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2(|E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*)|-E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|)(|E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*)-E(G</a:t>
            </a:r>
            <a:r>
              <a:rPr b="0" i="1" lang="zh-TW" sz="28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2800" spc="-1" strike="noStrike">
                <a:solidFill>
                  <a:srgbClr val="ff7c80"/>
                </a:solidFill>
                <a:latin typeface="Arial"/>
              </a:rPr>
              <a:t>)|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314000" y="47451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Tenso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mma 10. Let 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3200" spc="-1" strike="noStrike">
                <a:solidFill>
                  <a:srgbClr val="ff7c80"/>
                </a:solidFill>
                <a:latin typeface="Symbol"/>
                <a:ea typeface="Symbol"/>
              </a:rPr>
              <a:t>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be a positive even integer for all 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C*(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…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is an optimal 1-EFT graph with respect to 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C(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…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  Furthermore, 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eft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(C(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,…,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))=(</a:t>
            </a:r>
            <a:r>
              <a:rPr b="0" i="1" lang="zh-TW" sz="3200" spc="-1" strike="noStrike">
                <a:solidFill>
                  <a:srgbClr val="ff7c80"/>
                </a:solidFill>
                <a:latin typeface="Symbol"/>
                <a:ea typeface="Symbol"/>
              </a:rPr>
              <a:t>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i=1</a:t>
            </a:r>
            <a:r>
              <a:rPr b="0" i="1" lang="zh-TW" sz="3200" spc="-1" strike="noStrike" baseline="30000">
                <a:solidFill>
                  <a:srgbClr val="ff7c80"/>
                </a:solidFill>
                <a:latin typeface="Arial"/>
              </a:rPr>
              <a:t>n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 m</a:t>
            </a:r>
            <a:r>
              <a:rPr b="0" i="1" lang="zh-TW" sz="32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0" i="1" lang="zh-TW" sz="3200" spc="-1" strike="noStrike">
                <a:solidFill>
                  <a:srgbClr val="ff7c80"/>
                </a:solidFill>
                <a:latin typeface="Arial"/>
              </a:rPr>
              <a:t>)/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1187280" y="2276640"/>
                <a:ext cx="595332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jecture  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-</m:t>
                            </m:r>
                            <m:r>
                              <m:t xml:space="preserve">1</m:t>
                            </m:r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⌈"/>
                                <m:endChr m:val="⌉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each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an odd integer with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bviously, 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k+1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k-EFT(G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for any graph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oreover,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is an optimal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1-EFT(P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)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t is easy to check that the torus graph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C(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,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,…, 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is an 1-edge fault tolerant graph for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M(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,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,…, 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i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 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1 </a:t>
            </a:r>
            <a:r>
              <a:rPr b="0" lang="zh-TW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 i </a:t>
            </a:r>
            <a:r>
              <a:rPr b="0" lang="zh-TW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 n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958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79560" y="5894280"/>
            <a:ext cx="127080" cy="127080"/>
            <a:chOff x="979560" y="5894280"/>
            <a:chExt cx="127080" cy="127080"/>
          </a:xfrm>
        </p:grpSpPr>
        <p:sp>
          <p:nvSpPr>
            <p:cNvPr id="48" name=""/>
            <p:cNvSpPr/>
            <p:nvPr/>
          </p:nvSpPr>
          <p:spPr>
            <a:xfrm>
              <a:off x="97956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4292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717560" y="5894280"/>
            <a:ext cx="127080" cy="127080"/>
            <a:chOff x="1717560" y="5894280"/>
            <a:chExt cx="127080" cy="127080"/>
          </a:xfrm>
        </p:grpSpPr>
        <p:sp>
          <p:nvSpPr>
            <p:cNvPr id="51" name=""/>
            <p:cNvSpPr/>
            <p:nvPr/>
          </p:nvSpPr>
          <p:spPr>
            <a:xfrm>
              <a:off x="171756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8128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455920" y="5894280"/>
            <a:ext cx="127080" cy="127080"/>
            <a:chOff x="2455920" y="5894280"/>
            <a:chExt cx="127080" cy="127080"/>
          </a:xfrm>
        </p:grpSpPr>
        <p:sp>
          <p:nvSpPr>
            <p:cNvPr id="54" name=""/>
            <p:cNvSpPr/>
            <p:nvPr/>
          </p:nvSpPr>
          <p:spPr>
            <a:xfrm>
              <a:off x="245592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1928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193920" y="5894280"/>
            <a:ext cx="127080" cy="127080"/>
            <a:chOff x="3193920" y="5894280"/>
            <a:chExt cx="127080" cy="127080"/>
          </a:xfrm>
        </p:grpSpPr>
        <p:sp>
          <p:nvSpPr>
            <p:cNvPr id="57" name=""/>
            <p:cNvSpPr/>
            <p:nvPr/>
          </p:nvSpPr>
          <p:spPr>
            <a:xfrm>
              <a:off x="319392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5764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32280" y="5894280"/>
            <a:ext cx="127080" cy="127080"/>
            <a:chOff x="3932280" y="5894280"/>
            <a:chExt cx="127080" cy="127080"/>
          </a:xfrm>
        </p:grpSpPr>
        <p:sp>
          <p:nvSpPr>
            <p:cNvPr id="60" name=""/>
            <p:cNvSpPr/>
            <p:nvPr/>
          </p:nvSpPr>
          <p:spPr>
            <a:xfrm>
              <a:off x="393228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670280" y="5894280"/>
            <a:ext cx="127080" cy="127080"/>
            <a:chOff x="4670280" y="5894280"/>
            <a:chExt cx="127080" cy="127080"/>
          </a:xfrm>
        </p:grpSpPr>
        <p:sp>
          <p:nvSpPr>
            <p:cNvPr id="63" name=""/>
            <p:cNvSpPr/>
            <p:nvPr/>
          </p:nvSpPr>
          <p:spPr>
            <a:xfrm>
              <a:off x="467028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3400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408640" y="5894280"/>
            <a:ext cx="127080" cy="127080"/>
            <a:chOff x="5408640" y="5894280"/>
            <a:chExt cx="127080" cy="127080"/>
          </a:xfrm>
        </p:grpSpPr>
        <p:sp>
          <p:nvSpPr>
            <p:cNvPr id="66" name=""/>
            <p:cNvSpPr/>
            <p:nvPr/>
          </p:nvSpPr>
          <p:spPr>
            <a:xfrm>
              <a:off x="540864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7200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6640" y="5894280"/>
            <a:ext cx="127080" cy="127080"/>
            <a:chOff x="6146640" y="5894280"/>
            <a:chExt cx="127080" cy="127080"/>
          </a:xfrm>
        </p:grpSpPr>
        <p:sp>
          <p:nvSpPr>
            <p:cNvPr id="69" name=""/>
            <p:cNvSpPr/>
            <p:nvPr/>
          </p:nvSpPr>
          <p:spPr>
            <a:xfrm>
              <a:off x="614664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1036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885000" y="5894280"/>
            <a:ext cx="127080" cy="127080"/>
            <a:chOff x="6885000" y="5894280"/>
            <a:chExt cx="127080" cy="127080"/>
          </a:xfrm>
        </p:grpSpPr>
        <p:sp>
          <p:nvSpPr>
            <p:cNvPr id="72" name=""/>
            <p:cNvSpPr/>
            <p:nvPr/>
          </p:nvSpPr>
          <p:spPr>
            <a:xfrm>
              <a:off x="6885000" y="5894280"/>
              <a:ext cx="127080" cy="127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48360" y="59580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-4916520" y="-11366640"/>
            <a:ext cx="17827920" cy="1782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7" y="20990"/>
                </a:moveTo>
                <a:arcTo wR="10800" hR="10800" stAng="4239360" swAng="2321278"/>
                <a:lnTo>
                  <a:pt x="10800" y="10800"/>
                </a:lnTo>
                <a:close/>
              </a:path>
              <a:path fill="none" w="21600" h="21600">
                <a:moveTo>
                  <a:pt x="14377" y="20990"/>
                </a:moveTo>
                <a:arcTo wR="10800" hR="10800" stAng="4239360" swAng="2321278"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k-EFT(G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graph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G*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zh-TW" sz="3200" spc="-1" strike="noStrike">
                <a:solidFill>
                  <a:srgbClr val="ff0066"/>
                </a:solidFill>
                <a:latin typeface="Arial"/>
              </a:rPr>
              <a:t>optimal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f it contains the least number of edges among all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k-EFT(G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graph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eft</a:t>
            </a:r>
            <a:r>
              <a:rPr b="0" lang="zh-TW" sz="3200" spc="-1" strike="noStrike" baseline="-25000">
                <a:solidFill>
                  <a:srgbClr val="ff9900"/>
                </a:solidFill>
                <a:latin typeface="Arial"/>
              </a:rPr>
              <a:t>k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(G)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o denote the difference between the number of edges in an optimal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k-EFT(G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graph and that in </a:t>
            </a:r>
            <a:r>
              <a:rPr b="0" lang="zh-TW" sz="3200" spc="-1" strike="noStrike">
                <a:solidFill>
                  <a:srgbClr val="ff9900"/>
                </a:solidFill>
                <a:latin typeface="Arial"/>
              </a:rPr>
              <a:t>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16000" y="2060640"/>
            <a:ext cx="2735280" cy="273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4400000">
            <a:off x="1736640" y="217908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1052640" y="3365640"/>
            <a:ext cx="12672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7200000">
            <a:off x="1735920" y="45496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3600000">
            <a:off x="3102840" y="454968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7920" y="336384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000000">
            <a:off x="3103560" y="217944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2060640"/>
            <a:ext cx="2735280" cy="273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3500000">
            <a:off x="5484960" y="2397240"/>
            <a:ext cx="12672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8100000">
            <a:off x="5484600" y="4331880"/>
            <a:ext cx="12672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700000">
            <a:off x="7419600" y="4332240"/>
            <a:ext cx="127080" cy="12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900000">
            <a:off x="7419600" y="2396880"/>
            <a:ext cx="127080" cy="12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00360" y="2243160"/>
            <a:ext cx="1366560" cy="2370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800360" y="2243160"/>
            <a:ext cx="1366560" cy="2370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116000" y="3427560"/>
            <a:ext cx="27352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48320" y="2460600"/>
            <a:ext cx="1935000" cy="1935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47960" y="2460600"/>
            <a:ext cx="1935000" cy="19353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20960" y="5229360"/>
            <a:ext cx="96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24960" y="5229360"/>
            <a:ext cx="96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692360" y="1494000"/>
            <a:ext cx="127080" cy="126720"/>
            <a:chOff x="1692360" y="1494000"/>
            <a:chExt cx="127080" cy="126720"/>
          </a:xfrm>
        </p:grpSpPr>
        <p:sp>
          <p:nvSpPr>
            <p:cNvPr id="96" name=""/>
            <p:cNvSpPr/>
            <p:nvPr/>
          </p:nvSpPr>
          <p:spPr>
            <a:xfrm>
              <a:off x="1692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57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84440" y="1494000"/>
            <a:ext cx="127080" cy="126720"/>
            <a:chOff x="2584440" y="1494000"/>
            <a:chExt cx="127080" cy="126720"/>
          </a:xfrm>
        </p:grpSpPr>
        <p:sp>
          <p:nvSpPr>
            <p:cNvPr id="99" name=""/>
            <p:cNvSpPr/>
            <p:nvPr/>
          </p:nvSpPr>
          <p:spPr>
            <a:xfrm>
              <a:off x="258444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4816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478320" y="1494000"/>
            <a:ext cx="126720" cy="126720"/>
            <a:chOff x="3478320" y="1494000"/>
            <a:chExt cx="126720" cy="126720"/>
          </a:xfrm>
        </p:grpSpPr>
        <p:sp>
          <p:nvSpPr>
            <p:cNvPr id="102" name=""/>
            <p:cNvSpPr/>
            <p:nvPr/>
          </p:nvSpPr>
          <p:spPr>
            <a:xfrm>
              <a:off x="347832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413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70400" y="1494000"/>
            <a:ext cx="127080" cy="126720"/>
            <a:chOff x="4370400" y="1494000"/>
            <a:chExt cx="127080" cy="126720"/>
          </a:xfrm>
        </p:grpSpPr>
        <p:sp>
          <p:nvSpPr>
            <p:cNvPr id="105" name=""/>
            <p:cNvSpPr/>
            <p:nvPr/>
          </p:nvSpPr>
          <p:spPr>
            <a:xfrm>
              <a:off x="437040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341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64280" y="1494000"/>
            <a:ext cx="126720" cy="126720"/>
            <a:chOff x="5264280" y="1494000"/>
            <a:chExt cx="126720" cy="126720"/>
          </a:xfrm>
        </p:grpSpPr>
        <p:sp>
          <p:nvSpPr>
            <p:cNvPr id="108" name=""/>
            <p:cNvSpPr/>
            <p:nvPr/>
          </p:nvSpPr>
          <p:spPr>
            <a:xfrm>
              <a:off x="526428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272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156360" y="1494000"/>
            <a:ext cx="127080" cy="126720"/>
            <a:chOff x="6156360" y="1494000"/>
            <a:chExt cx="127080" cy="126720"/>
          </a:xfrm>
        </p:grpSpPr>
        <p:sp>
          <p:nvSpPr>
            <p:cNvPr id="111" name=""/>
            <p:cNvSpPr/>
            <p:nvPr/>
          </p:nvSpPr>
          <p:spPr>
            <a:xfrm>
              <a:off x="6156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00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75572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47800" y="155736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4168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3760" y="155736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2764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957760" y="118908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92360" y="2505240"/>
            <a:ext cx="127080" cy="126720"/>
            <a:chOff x="1692360" y="2505240"/>
            <a:chExt cx="127080" cy="126720"/>
          </a:xfrm>
        </p:grpSpPr>
        <p:sp>
          <p:nvSpPr>
            <p:cNvPr id="120" name=""/>
            <p:cNvSpPr/>
            <p:nvPr/>
          </p:nvSpPr>
          <p:spPr>
            <a:xfrm>
              <a:off x="1692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57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584440" y="2505240"/>
            <a:ext cx="127080" cy="126720"/>
            <a:chOff x="2584440" y="2505240"/>
            <a:chExt cx="127080" cy="126720"/>
          </a:xfrm>
        </p:grpSpPr>
        <p:sp>
          <p:nvSpPr>
            <p:cNvPr id="123" name=""/>
            <p:cNvSpPr/>
            <p:nvPr/>
          </p:nvSpPr>
          <p:spPr>
            <a:xfrm>
              <a:off x="258444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4816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478320" y="2505240"/>
            <a:ext cx="126720" cy="126720"/>
            <a:chOff x="3478320" y="2505240"/>
            <a:chExt cx="126720" cy="126720"/>
          </a:xfrm>
        </p:grpSpPr>
        <p:sp>
          <p:nvSpPr>
            <p:cNvPr id="126" name=""/>
            <p:cNvSpPr/>
            <p:nvPr/>
          </p:nvSpPr>
          <p:spPr>
            <a:xfrm>
              <a:off x="347832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413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370400" y="2505240"/>
            <a:ext cx="127080" cy="126720"/>
            <a:chOff x="4370400" y="2505240"/>
            <a:chExt cx="127080" cy="126720"/>
          </a:xfrm>
        </p:grpSpPr>
        <p:sp>
          <p:nvSpPr>
            <p:cNvPr id="129" name=""/>
            <p:cNvSpPr/>
            <p:nvPr/>
          </p:nvSpPr>
          <p:spPr>
            <a:xfrm>
              <a:off x="437040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341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264280" y="2505240"/>
            <a:ext cx="126720" cy="126720"/>
            <a:chOff x="5264280" y="2505240"/>
            <a:chExt cx="126720" cy="126720"/>
          </a:xfrm>
        </p:grpSpPr>
        <p:sp>
          <p:nvSpPr>
            <p:cNvPr id="132" name=""/>
            <p:cNvSpPr/>
            <p:nvPr/>
          </p:nvSpPr>
          <p:spPr>
            <a:xfrm>
              <a:off x="526428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72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156360" y="2505240"/>
            <a:ext cx="127080" cy="126720"/>
            <a:chOff x="6156360" y="2505240"/>
            <a:chExt cx="127080" cy="126720"/>
          </a:xfrm>
        </p:grpSpPr>
        <p:sp>
          <p:nvSpPr>
            <p:cNvPr id="135" name=""/>
            <p:cNvSpPr/>
            <p:nvPr/>
          </p:nvSpPr>
          <p:spPr>
            <a:xfrm>
              <a:off x="6156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200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755720" y="256860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47800" y="256860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41680" y="256860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33760" y="256860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7640" y="256860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2957760" y="220032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692360" y="3516480"/>
            <a:ext cx="127080" cy="126720"/>
            <a:chOff x="1692360" y="3516480"/>
            <a:chExt cx="127080" cy="126720"/>
          </a:xfrm>
        </p:grpSpPr>
        <p:sp>
          <p:nvSpPr>
            <p:cNvPr id="144" name=""/>
            <p:cNvSpPr/>
            <p:nvPr/>
          </p:nvSpPr>
          <p:spPr>
            <a:xfrm>
              <a:off x="1692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57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584440" y="3516480"/>
            <a:ext cx="127080" cy="126720"/>
            <a:chOff x="2584440" y="3516480"/>
            <a:chExt cx="127080" cy="126720"/>
          </a:xfrm>
        </p:grpSpPr>
        <p:sp>
          <p:nvSpPr>
            <p:cNvPr id="147" name=""/>
            <p:cNvSpPr/>
            <p:nvPr/>
          </p:nvSpPr>
          <p:spPr>
            <a:xfrm>
              <a:off x="258444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4816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8320" y="3516480"/>
            <a:ext cx="126720" cy="126720"/>
            <a:chOff x="3478320" y="3516480"/>
            <a:chExt cx="126720" cy="126720"/>
          </a:xfrm>
        </p:grpSpPr>
        <p:sp>
          <p:nvSpPr>
            <p:cNvPr id="150" name=""/>
            <p:cNvSpPr/>
            <p:nvPr/>
          </p:nvSpPr>
          <p:spPr>
            <a:xfrm>
              <a:off x="347832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413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370400" y="3516480"/>
            <a:ext cx="127080" cy="126720"/>
            <a:chOff x="4370400" y="3516480"/>
            <a:chExt cx="127080" cy="126720"/>
          </a:xfrm>
        </p:grpSpPr>
        <p:sp>
          <p:nvSpPr>
            <p:cNvPr id="153" name=""/>
            <p:cNvSpPr/>
            <p:nvPr/>
          </p:nvSpPr>
          <p:spPr>
            <a:xfrm>
              <a:off x="437040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341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264280" y="3516480"/>
            <a:ext cx="126720" cy="126720"/>
            <a:chOff x="5264280" y="3516480"/>
            <a:chExt cx="126720" cy="126720"/>
          </a:xfrm>
        </p:grpSpPr>
        <p:sp>
          <p:nvSpPr>
            <p:cNvPr id="156" name=""/>
            <p:cNvSpPr/>
            <p:nvPr/>
          </p:nvSpPr>
          <p:spPr>
            <a:xfrm>
              <a:off x="526428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272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156360" y="3516480"/>
            <a:ext cx="127080" cy="126720"/>
            <a:chOff x="6156360" y="3516480"/>
            <a:chExt cx="127080" cy="126720"/>
          </a:xfrm>
        </p:grpSpPr>
        <p:sp>
          <p:nvSpPr>
            <p:cNvPr id="159" name=""/>
            <p:cNvSpPr/>
            <p:nvPr/>
          </p:nvSpPr>
          <p:spPr>
            <a:xfrm>
              <a:off x="6156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200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75572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47800" y="35798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4168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33760" y="35798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2764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957760" y="321156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92360" y="4525920"/>
            <a:ext cx="127080" cy="126720"/>
            <a:chOff x="1692360" y="4525920"/>
            <a:chExt cx="127080" cy="126720"/>
          </a:xfrm>
        </p:grpSpPr>
        <p:sp>
          <p:nvSpPr>
            <p:cNvPr id="168" name=""/>
            <p:cNvSpPr/>
            <p:nvPr/>
          </p:nvSpPr>
          <p:spPr>
            <a:xfrm>
              <a:off x="1692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557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584440" y="4525920"/>
            <a:ext cx="127080" cy="126720"/>
            <a:chOff x="2584440" y="4525920"/>
            <a:chExt cx="127080" cy="126720"/>
          </a:xfrm>
        </p:grpSpPr>
        <p:sp>
          <p:nvSpPr>
            <p:cNvPr id="171" name=""/>
            <p:cNvSpPr/>
            <p:nvPr/>
          </p:nvSpPr>
          <p:spPr>
            <a:xfrm>
              <a:off x="258444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4816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78320" y="4525920"/>
            <a:ext cx="126720" cy="126720"/>
            <a:chOff x="3478320" y="4525920"/>
            <a:chExt cx="126720" cy="126720"/>
          </a:xfrm>
        </p:grpSpPr>
        <p:sp>
          <p:nvSpPr>
            <p:cNvPr id="174" name=""/>
            <p:cNvSpPr/>
            <p:nvPr/>
          </p:nvSpPr>
          <p:spPr>
            <a:xfrm>
              <a:off x="347832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413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370400" y="4525920"/>
            <a:ext cx="127080" cy="126720"/>
            <a:chOff x="4370400" y="4525920"/>
            <a:chExt cx="127080" cy="126720"/>
          </a:xfrm>
        </p:grpSpPr>
        <p:sp>
          <p:nvSpPr>
            <p:cNvPr id="177" name=""/>
            <p:cNvSpPr/>
            <p:nvPr/>
          </p:nvSpPr>
          <p:spPr>
            <a:xfrm>
              <a:off x="437040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341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264280" y="4525920"/>
            <a:ext cx="126720" cy="126720"/>
            <a:chOff x="5264280" y="4525920"/>
            <a:chExt cx="126720" cy="126720"/>
          </a:xfrm>
        </p:grpSpPr>
        <p:sp>
          <p:nvSpPr>
            <p:cNvPr id="180" name=""/>
            <p:cNvSpPr/>
            <p:nvPr/>
          </p:nvSpPr>
          <p:spPr>
            <a:xfrm>
              <a:off x="526428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272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156360" y="4525920"/>
            <a:ext cx="127080" cy="126720"/>
            <a:chOff x="6156360" y="4525920"/>
            <a:chExt cx="127080" cy="126720"/>
          </a:xfrm>
        </p:grpSpPr>
        <p:sp>
          <p:nvSpPr>
            <p:cNvPr id="183" name=""/>
            <p:cNvSpPr/>
            <p:nvPr/>
          </p:nvSpPr>
          <p:spPr>
            <a:xfrm>
              <a:off x="6156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200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75572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47800" y="45896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4168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33760" y="45896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2957760" y="422100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69880" y="-1036800"/>
            <a:ext cx="8219520" cy="8220240"/>
            <a:chOff x="1469880" y="-1036800"/>
            <a:chExt cx="8219520" cy="8220240"/>
          </a:xfrm>
        </p:grpSpPr>
        <p:sp>
          <p:nvSpPr>
            <p:cNvPr id="192" name=""/>
            <p:cNvSpPr/>
            <p:nvPr/>
          </p:nvSpPr>
          <p:spPr>
            <a:xfrm flipV="1">
              <a:off x="1755720" y="3579480"/>
              <a:ext cx="0" cy="10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755720" y="256824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755720" y="155700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69880" y="-1036800"/>
              <a:ext cx="8219520" cy="822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340000" y="-1044360"/>
            <a:ext cx="8219520" cy="8219160"/>
            <a:chOff x="2340000" y="-1044360"/>
            <a:chExt cx="8219520" cy="8219160"/>
          </a:xfrm>
        </p:grpSpPr>
        <p:sp>
          <p:nvSpPr>
            <p:cNvPr id="197" name=""/>
            <p:cNvSpPr/>
            <p:nvPr/>
          </p:nvSpPr>
          <p:spPr>
            <a:xfrm flipV="1">
              <a:off x="2625840" y="357156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625840" y="25603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625840" y="154944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40000" y="-1044360"/>
              <a:ext cx="821952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0240" y="-1052280"/>
            <a:ext cx="8219520" cy="8219160"/>
            <a:chOff x="3270240" y="-1052280"/>
            <a:chExt cx="8219520" cy="8219160"/>
          </a:xfrm>
        </p:grpSpPr>
        <p:sp>
          <p:nvSpPr>
            <p:cNvPr id="202" name=""/>
            <p:cNvSpPr/>
            <p:nvPr/>
          </p:nvSpPr>
          <p:spPr>
            <a:xfrm flipV="1">
              <a:off x="3556080" y="356364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556080" y="255240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556080" y="15415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70240" y="-1052280"/>
              <a:ext cx="821952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140360" y="-1060200"/>
            <a:ext cx="8219160" cy="8219160"/>
            <a:chOff x="4140360" y="-1060200"/>
            <a:chExt cx="8219160" cy="8219160"/>
          </a:xfrm>
        </p:grpSpPr>
        <p:sp>
          <p:nvSpPr>
            <p:cNvPr id="207" name=""/>
            <p:cNvSpPr/>
            <p:nvPr/>
          </p:nvSpPr>
          <p:spPr>
            <a:xfrm flipV="1">
              <a:off x="4425840" y="355572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425840" y="254448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425840" y="153360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40360" y="-1060200"/>
              <a:ext cx="821916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33880" y="-1036800"/>
            <a:ext cx="8219520" cy="8220240"/>
            <a:chOff x="5033880" y="-1036800"/>
            <a:chExt cx="8219520" cy="8220240"/>
          </a:xfrm>
        </p:grpSpPr>
        <p:sp>
          <p:nvSpPr>
            <p:cNvPr id="212" name=""/>
            <p:cNvSpPr/>
            <p:nvPr/>
          </p:nvSpPr>
          <p:spPr>
            <a:xfrm flipV="1">
              <a:off x="5319720" y="3579480"/>
              <a:ext cx="0" cy="10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319720" y="256824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319720" y="155700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33880" y="-1036800"/>
              <a:ext cx="8219520" cy="822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934240" y="-1044360"/>
            <a:ext cx="8219160" cy="8219160"/>
            <a:chOff x="5934240" y="-1044360"/>
            <a:chExt cx="8219160" cy="8219160"/>
          </a:xfrm>
        </p:grpSpPr>
        <p:sp>
          <p:nvSpPr>
            <p:cNvPr id="217" name=""/>
            <p:cNvSpPr/>
            <p:nvPr/>
          </p:nvSpPr>
          <p:spPr>
            <a:xfrm flipV="1">
              <a:off x="6219720" y="357156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219720" y="25603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219720" y="154944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34240" y="-1044360"/>
              <a:ext cx="821916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77600" y="5589720"/>
            <a:ext cx="90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1692360" y="1494000"/>
            <a:ext cx="127080" cy="126720"/>
            <a:chOff x="1692360" y="1494000"/>
            <a:chExt cx="127080" cy="126720"/>
          </a:xfrm>
        </p:grpSpPr>
        <p:sp>
          <p:nvSpPr>
            <p:cNvPr id="223" name=""/>
            <p:cNvSpPr/>
            <p:nvPr/>
          </p:nvSpPr>
          <p:spPr>
            <a:xfrm>
              <a:off x="1692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557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584440" y="1494000"/>
            <a:ext cx="127080" cy="126720"/>
            <a:chOff x="2584440" y="1494000"/>
            <a:chExt cx="127080" cy="126720"/>
          </a:xfrm>
        </p:grpSpPr>
        <p:sp>
          <p:nvSpPr>
            <p:cNvPr id="226" name=""/>
            <p:cNvSpPr/>
            <p:nvPr/>
          </p:nvSpPr>
          <p:spPr>
            <a:xfrm>
              <a:off x="258444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4816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478320" y="1494000"/>
            <a:ext cx="126720" cy="126720"/>
            <a:chOff x="3478320" y="1494000"/>
            <a:chExt cx="126720" cy="126720"/>
          </a:xfrm>
        </p:grpSpPr>
        <p:sp>
          <p:nvSpPr>
            <p:cNvPr id="229" name=""/>
            <p:cNvSpPr/>
            <p:nvPr/>
          </p:nvSpPr>
          <p:spPr>
            <a:xfrm>
              <a:off x="347832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413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370400" y="1494000"/>
            <a:ext cx="127080" cy="126720"/>
            <a:chOff x="4370400" y="1494000"/>
            <a:chExt cx="127080" cy="126720"/>
          </a:xfrm>
        </p:grpSpPr>
        <p:sp>
          <p:nvSpPr>
            <p:cNvPr id="232" name=""/>
            <p:cNvSpPr/>
            <p:nvPr/>
          </p:nvSpPr>
          <p:spPr>
            <a:xfrm>
              <a:off x="437040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341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264280" y="1494000"/>
            <a:ext cx="126720" cy="126720"/>
            <a:chOff x="5264280" y="1494000"/>
            <a:chExt cx="126720" cy="126720"/>
          </a:xfrm>
        </p:grpSpPr>
        <p:sp>
          <p:nvSpPr>
            <p:cNvPr id="235" name=""/>
            <p:cNvSpPr/>
            <p:nvPr/>
          </p:nvSpPr>
          <p:spPr>
            <a:xfrm>
              <a:off x="526428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272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156360" y="1494000"/>
            <a:ext cx="127080" cy="126720"/>
            <a:chOff x="6156360" y="1494000"/>
            <a:chExt cx="127080" cy="126720"/>
          </a:xfrm>
        </p:grpSpPr>
        <p:sp>
          <p:nvSpPr>
            <p:cNvPr id="238" name=""/>
            <p:cNvSpPr/>
            <p:nvPr/>
          </p:nvSpPr>
          <p:spPr>
            <a:xfrm>
              <a:off x="6156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200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692360" y="2505240"/>
            <a:ext cx="127080" cy="126720"/>
            <a:chOff x="1692360" y="2505240"/>
            <a:chExt cx="127080" cy="126720"/>
          </a:xfrm>
        </p:grpSpPr>
        <p:sp>
          <p:nvSpPr>
            <p:cNvPr id="241" name=""/>
            <p:cNvSpPr/>
            <p:nvPr/>
          </p:nvSpPr>
          <p:spPr>
            <a:xfrm>
              <a:off x="1692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557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584440" y="2505240"/>
            <a:ext cx="127080" cy="126720"/>
            <a:chOff x="2584440" y="2505240"/>
            <a:chExt cx="127080" cy="126720"/>
          </a:xfrm>
        </p:grpSpPr>
        <p:sp>
          <p:nvSpPr>
            <p:cNvPr id="244" name=""/>
            <p:cNvSpPr/>
            <p:nvPr/>
          </p:nvSpPr>
          <p:spPr>
            <a:xfrm>
              <a:off x="258444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4816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478320" y="2505240"/>
            <a:ext cx="126720" cy="126720"/>
            <a:chOff x="3478320" y="2505240"/>
            <a:chExt cx="126720" cy="126720"/>
          </a:xfrm>
        </p:grpSpPr>
        <p:sp>
          <p:nvSpPr>
            <p:cNvPr id="247" name=""/>
            <p:cNvSpPr/>
            <p:nvPr/>
          </p:nvSpPr>
          <p:spPr>
            <a:xfrm>
              <a:off x="347832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413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370400" y="2505240"/>
            <a:ext cx="127080" cy="126720"/>
            <a:chOff x="4370400" y="2505240"/>
            <a:chExt cx="127080" cy="126720"/>
          </a:xfrm>
        </p:grpSpPr>
        <p:sp>
          <p:nvSpPr>
            <p:cNvPr id="250" name=""/>
            <p:cNvSpPr/>
            <p:nvPr/>
          </p:nvSpPr>
          <p:spPr>
            <a:xfrm>
              <a:off x="437040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341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264280" y="2505240"/>
            <a:ext cx="126720" cy="126720"/>
            <a:chOff x="5264280" y="2505240"/>
            <a:chExt cx="126720" cy="126720"/>
          </a:xfrm>
        </p:grpSpPr>
        <p:sp>
          <p:nvSpPr>
            <p:cNvPr id="253" name=""/>
            <p:cNvSpPr/>
            <p:nvPr/>
          </p:nvSpPr>
          <p:spPr>
            <a:xfrm>
              <a:off x="526428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272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156360" y="2505240"/>
            <a:ext cx="127080" cy="126720"/>
            <a:chOff x="6156360" y="2505240"/>
            <a:chExt cx="127080" cy="126720"/>
          </a:xfrm>
        </p:grpSpPr>
        <p:sp>
          <p:nvSpPr>
            <p:cNvPr id="256" name=""/>
            <p:cNvSpPr/>
            <p:nvPr/>
          </p:nvSpPr>
          <p:spPr>
            <a:xfrm>
              <a:off x="6156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200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92360" y="3516480"/>
            <a:ext cx="127080" cy="126720"/>
            <a:chOff x="1692360" y="3516480"/>
            <a:chExt cx="127080" cy="126720"/>
          </a:xfrm>
        </p:grpSpPr>
        <p:sp>
          <p:nvSpPr>
            <p:cNvPr id="259" name=""/>
            <p:cNvSpPr/>
            <p:nvPr/>
          </p:nvSpPr>
          <p:spPr>
            <a:xfrm>
              <a:off x="1692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57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84440" y="3516480"/>
            <a:ext cx="127080" cy="126720"/>
            <a:chOff x="2584440" y="3516480"/>
            <a:chExt cx="127080" cy="126720"/>
          </a:xfrm>
        </p:grpSpPr>
        <p:sp>
          <p:nvSpPr>
            <p:cNvPr id="262" name=""/>
            <p:cNvSpPr/>
            <p:nvPr/>
          </p:nvSpPr>
          <p:spPr>
            <a:xfrm>
              <a:off x="258444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4816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478320" y="3516480"/>
            <a:ext cx="126720" cy="126720"/>
            <a:chOff x="3478320" y="3516480"/>
            <a:chExt cx="126720" cy="126720"/>
          </a:xfrm>
        </p:grpSpPr>
        <p:sp>
          <p:nvSpPr>
            <p:cNvPr id="265" name=""/>
            <p:cNvSpPr/>
            <p:nvPr/>
          </p:nvSpPr>
          <p:spPr>
            <a:xfrm>
              <a:off x="347832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413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370400" y="3516480"/>
            <a:ext cx="127080" cy="126720"/>
            <a:chOff x="4370400" y="3516480"/>
            <a:chExt cx="127080" cy="126720"/>
          </a:xfrm>
        </p:grpSpPr>
        <p:sp>
          <p:nvSpPr>
            <p:cNvPr id="268" name=""/>
            <p:cNvSpPr/>
            <p:nvPr/>
          </p:nvSpPr>
          <p:spPr>
            <a:xfrm>
              <a:off x="437040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341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264280" y="3516480"/>
            <a:ext cx="126720" cy="126720"/>
            <a:chOff x="5264280" y="3516480"/>
            <a:chExt cx="126720" cy="126720"/>
          </a:xfrm>
        </p:grpSpPr>
        <p:sp>
          <p:nvSpPr>
            <p:cNvPr id="271" name=""/>
            <p:cNvSpPr/>
            <p:nvPr/>
          </p:nvSpPr>
          <p:spPr>
            <a:xfrm>
              <a:off x="526428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272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156360" y="3516480"/>
            <a:ext cx="127080" cy="126720"/>
            <a:chOff x="6156360" y="3516480"/>
            <a:chExt cx="127080" cy="126720"/>
          </a:xfrm>
        </p:grpSpPr>
        <p:sp>
          <p:nvSpPr>
            <p:cNvPr id="274" name=""/>
            <p:cNvSpPr/>
            <p:nvPr/>
          </p:nvSpPr>
          <p:spPr>
            <a:xfrm>
              <a:off x="6156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200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692360" y="4525920"/>
            <a:ext cx="127080" cy="126720"/>
            <a:chOff x="1692360" y="4525920"/>
            <a:chExt cx="127080" cy="126720"/>
          </a:xfrm>
        </p:grpSpPr>
        <p:sp>
          <p:nvSpPr>
            <p:cNvPr id="277" name=""/>
            <p:cNvSpPr/>
            <p:nvPr/>
          </p:nvSpPr>
          <p:spPr>
            <a:xfrm>
              <a:off x="1692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557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584440" y="4525920"/>
            <a:ext cx="127080" cy="126720"/>
            <a:chOff x="2584440" y="4525920"/>
            <a:chExt cx="127080" cy="126720"/>
          </a:xfrm>
        </p:grpSpPr>
        <p:sp>
          <p:nvSpPr>
            <p:cNvPr id="280" name=""/>
            <p:cNvSpPr/>
            <p:nvPr/>
          </p:nvSpPr>
          <p:spPr>
            <a:xfrm>
              <a:off x="258444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4816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478320" y="4525920"/>
            <a:ext cx="126720" cy="126720"/>
            <a:chOff x="3478320" y="4525920"/>
            <a:chExt cx="126720" cy="126720"/>
          </a:xfrm>
        </p:grpSpPr>
        <p:sp>
          <p:nvSpPr>
            <p:cNvPr id="283" name=""/>
            <p:cNvSpPr/>
            <p:nvPr/>
          </p:nvSpPr>
          <p:spPr>
            <a:xfrm>
              <a:off x="347832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413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70400" y="4525920"/>
            <a:ext cx="127080" cy="126720"/>
            <a:chOff x="4370400" y="4525920"/>
            <a:chExt cx="127080" cy="126720"/>
          </a:xfrm>
        </p:grpSpPr>
        <p:sp>
          <p:nvSpPr>
            <p:cNvPr id="286" name=""/>
            <p:cNvSpPr/>
            <p:nvPr/>
          </p:nvSpPr>
          <p:spPr>
            <a:xfrm>
              <a:off x="437040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341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264280" y="4525920"/>
            <a:ext cx="126720" cy="126720"/>
            <a:chOff x="5264280" y="4525920"/>
            <a:chExt cx="126720" cy="126720"/>
          </a:xfrm>
        </p:grpSpPr>
        <p:sp>
          <p:nvSpPr>
            <p:cNvPr id="289" name=""/>
            <p:cNvSpPr/>
            <p:nvPr/>
          </p:nvSpPr>
          <p:spPr>
            <a:xfrm>
              <a:off x="526428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72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156360" y="4525920"/>
            <a:ext cx="127080" cy="126720"/>
            <a:chOff x="6156360" y="4525920"/>
            <a:chExt cx="127080" cy="126720"/>
          </a:xfrm>
        </p:grpSpPr>
        <p:sp>
          <p:nvSpPr>
            <p:cNvPr id="292" name=""/>
            <p:cNvSpPr/>
            <p:nvPr/>
          </p:nvSpPr>
          <p:spPr>
            <a:xfrm>
              <a:off x="6156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200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75572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685960" y="256536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564000" y="256212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763640" y="155736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685960" y="1552320"/>
            <a:ext cx="2678040" cy="20206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564000" y="154764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5572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47800" y="2568600"/>
            <a:ext cx="26798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4168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572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47800" y="1557360"/>
            <a:ext cx="26798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4168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84360" y="5516640"/>
            <a:ext cx="269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-E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-E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90160" y="60930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o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1692360" y="1494000"/>
            <a:ext cx="127080" cy="126720"/>
            <a:chOff x="1692360" y="1494000"/>
            <a:chExt cx="127080" cy="126720"/>
          </a:xfrm>
        </p:grpSpPr>
        <p:sp>
          <p:nvSpPr>
            <p:cNvPr id="309" name=""/>
            <p:cNvSpPr/>
            <p:nvPr/>
          </p:nvSpPr>
          <p:spPr>
            <a:xfrm>
              <a:off x="1692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57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84440" y="1494000"/>
            <a:ext cx="127080" cy="126720"/>
            <a:chOff x="2584440" y="1494000"/>
            <a:chExt cx="127080" cy="126720"/>
          </a:xfrm>
        </p:grpSpPr>
        <p:sp>
          <p:nvSpPr>
            <p:cNvPr id="312" name=""/>
            <p:cNvSpPr/>
            <p:nvPr/>
          </p:nvSpPr>
          <p:spPr>
            <a:xfrm>
              <a:off x="258444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4816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478320" y="1494000"/>
            <a:ext cx="126720" cy="126720"/>
            <a:chOff x="3478320" y="1494000"/>
            <a:chExt cx="126720" cy="126720"/>
          </a:xfrm>
        </p:grpSpPr>
        <p:sp>
          <p:nvSpPr>
            <p:cNvPr id="315" name=""/>
            <p:cNvSpPr/>
            <p:nvPr/>
          </p:nvSpPr>
          <p:spPr>
            <a:xfrm>
              <a:off x="347832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413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370400" y="1494000"/>
            <a:ext cx="127080" cy="126720"/>
            <a:chOff x="4370400" y="1494000"/>
            <a:chExt cx="127080" cy="126720"/>
          </a:xfrm>
        </p:grpSpPr>
        <p:sp>
          <p:nvSpPr>
            <p:cNvPr id="318" name=""/>
            <p:cNvSpPr/>
            <p:nvPr/>
          </p:nvSpPr>
          <p:spPr>
            <a:xfrm>
              <a:off x="437040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3412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264280" y="1494000"/>
            <a:ext cx="126720" cy="126720"/>
            <a:chOff x="5264280" y="1494000"/>
            <a:chExt cx="126720" cy="126720"/>
          </a:xfrm>
        </p:grpSpPr>
        <p:sp>
          <p:nvSpPr>
            <p:cNvPr id="321" name=""/>
            <p:cNvSpPr/>
            <p:nvPr/>
          </p:nvSpPr>
          <p:spPr>
            <a:xfrm>
              <a:off x="5264280" y="149400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272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156360" y="1494000"/>
            <a:ext cx="127080" cy="126720"/>
            <a:chOff x="6156360" y="1494000"/>
            <a:chExt cx="127080" cy="126720"/>
          </a:xfrm>
        </p:grpSpPr>
        <p:sp>
          <p:nvSpPr>
            <p:cNvPr id="324" name=""/>
            <p:cNvSpPr/>
            <p:nvPr/>
          </p:nvSpPr>
          <p:spPr>
            <a:xfrm>
              <a:off x="6156360" y="149400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0080" y="155736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75572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47800" y="155736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4168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33760" y="155736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27640" y="155736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2957760" y="118908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92360" y="2505240"/>
            <a:ext cx="127080" cy="126720"/>
            <a:chOff x="1692360" y="2505240"/>
            <a:chExt cx="127080" cy="126720"/>
          </a:xfrm>
        </p:grpSpPr>
        <p:sp>
          <p:nvSpPr>
            <p:cNvPr id="333" name=""/>
            <p:cNvSpPr/>
            <p:nvPr/>
          </p:nvSpPr>
          <p:spPr>
            <a:xfrm>
              <a:off x="1692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57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84440" y="2505240"/>
            <a:ext cx="127080" cy="126720"/>
            <a:chOff x="2584440" y="2505240"/>
            <a:chExt cx="127080" cy="126720"/>
          </a:xfrm>
        </p:grpSpPr>
        <p:sp>
          <p:nvSpPr>
            <p:cNvPr id="336" name=""/>
            <p:cNvSpPr/>
            <p:nvPr/>
          </p:nvSpPr>
          <p:spPr>
            <a:xfrm>
              <a:off x="258444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4816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478320" y="2505240"/>
            <a:ext cx="126720" cy="126720"/>
            <a:chOff x="3478320" y="2505240"/>
            <a:chExt cx="126720" cy="126720"/>
          </a:xfrm>
        </p:grpSpPr>
        <p:sp>
          <p:nvSpPr>
            <p:cNvPr id="339" name=""/>
            <p:cNvSpPr/>
            <p:nvPr/>
          </p:nvSpPr>
          <p:spPr>
            <a:xfrm>
              <a:off x="347832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413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370400" y="2505240"/>
            <a:ext cx="127080" cy="126720"/>
            <a:chOff x="4370400" y="2505240"/>
            <a:chExt cx="127080" cy="126720"/>
          </a:xfrm>
        </p:grpSpPr>
        <p:sp>
          <p:nvSpPr>
            <p:cNvPr id="342" name=""/>
            <p:cNvSpPr/>
            <p:nvPr/>
          </p:nvSpPr>
          <p:spPr>
            <a:xfrm>
              <a:off x="437040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412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264280" y="2505240"/>
            <a:ext cx="126720" cy="126720"/>
            <a:chOff x="5264280" y="2505240"/>
            <a:chExt cx="126720" cy="126720"/>
          </a:xfrm>
        </p:grpSpPr>
        <p:sp>
          <p:nvSpPr>
            <p:cNvPr id="345" name=""/>
            <p:cNvSpPr/>
            <p:nvPr/>
          </p:nvSpPr>
          <p:spPr>
            <a:xfrm>
              <a:off x="5264280" y="250524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272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156360" y="2505240"/>
            <a:ext cx="127080" cy="126720"/>
            <a:chOff x="6156360" y="2505240"/>
            <a:chExt cx="127080" cy="126720"/>
          </a:xfrm>
        </p:grpSpPr>
        <p:sp>
          <p:nvSpPr>
            <p:cNvPr id="348" name=""/>
            <p:cNvSpPr/>
            <p:nvPr/>
          </p:nvSpPr>
          <p:spPr>
            <a:xfrm>
              <a:off x="6156360" y="250524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20080" y="256860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755720" y="256860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800" y="256860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41680" y="256860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33760" y="256860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56860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-2957760" y="220032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2360" y="3516480"/>
            <a:ext cx="127080" cy="126720"/>
            <a:chOff x="1692360" y="3516480"/>
            <a:chExt cx="127080" cy="126720"/>
          </a:xfrm>
        </p:grpSpPr>
        <p:sp>
          <p:nvSpPr>
            <p:cNvPr id="357" name=""/>
            <p:cNvSpPr/>
            <p:nvPr/>
          </p:nvSpPr>
          <p:spPr>
            <a:xfrm>
              <a:off x="1692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57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84440" y="3516480"/>
            <a:ext cx="127080" cy="126720"/>
            <a:chOff x="2584440" y="3516480"/>
            <a:chExt cx="127080" cy="126720"/>
          </a:xfrm>
        </p:grpSpPr>
        <p:sp>
          <p:nvSpPr>
            <p:cNvPr id="360" name=""/>
            <p:cNvSpPr/>
            <p:nvPr/>
          </p:nvSpPr>
          <p:spPr>
            <a:xfrm>
              <a:off x="258444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4816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478320" y="3516480"/>
            <a:ext cx="126720" cy="126720"/>
            <a:chOff x="3478320" y="3516480"/>
            <a:chExt cx="126720" cy="126720"/>
          </a:xfrm>
        </p:grpSpPr>
        <p:sp>
          <p:nvSpPr>
            <p:cNvPr id="363" name=""/>
            <p:cNvSpPr/>
            <p:nvPr/>
          </p:nvSpPr>
          <p:spPr>
            <a:xfrm>
              <a:off x="347832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413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70400" y="3516480"/>
            <a:ext cx="127080" cy="126720"/>
            <a:chOff x="4370400" y="3516480"/>
            <a:chExt cx="127080" cy="126720"/>
          </a:xfrm>
        </p:grpSpPr>
        <p:sp>
          <p:nvSpPr>
            <p:cNvPr id="366" name=""/>
            <p:cNvSpPr/>
            <p:nvPr/>
          </p:nvSpPr>
          <p:spPr>
            <a:xfrm>
              <a:off x="437040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3412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264280" y="3516480"/>
            <a:ext cx="126720" cy="126720"/>
            <a:chOff x="5264280" y="3516480"/>
            <a:chExt cx="126720" cy="126720"/>
          </a:xfrm>
        </p:grpSpPr>
        <p:sp>
          <p:nvSpPr>
            <p:cNvPr id="369" name=""/>
            <p:cNvSpPr/>
            <p:nvPr/>
          </p:nvSpPr>
          <p:spPr>
            <a:xfrm>
              <a:off x="5264280" y="351648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272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156360" y="3516480"/>
            <a:ext cx="127080" cy="126720"/>
            <a:chOff x="6156360" y="3516480"/>
            <a:chExt cx="127080" cy="126720"/>
          </a:xfrm>
        </p:grpSpPr>
        <p:sp>
          <p:nvSpPr>
            <p:cNvPr id="372" name=""/>
            <p:cNvSpPr/>
            <p:nvPr/>
          </p:nvSpPr>
          <p:spPr>
            <a:xfrm>
              <a:off x="6156360" y="351648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20080" y="357984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75572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47800" y="35798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4168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33760" y="35798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27640" y="35798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-2957760" y="321156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692360" y="4525920"/>
            <a:ext cx="127080" cy="126720"/>
            <a:chOff x="1692360" y="4525920"/>
            <a:chExt cx="127080" cy="126720"/>
          </a:xfrm>
        </p:grpSpPr>
        <p:sp>
          <p:nvSpPr>
            <p:cNvPr id="381" name=""/>
            <p:cNvSpPr/>
            <p:nvPr/>
          </p:nvSpPr>
          <p:spPr>
            <a:xfrm>
              <a:off x="1692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557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584440" y="4525920"/>
            <a:ext cx="127080" cy="126720"/>
            <a:chOff x="2584440" y="4525920"/>
            <a:chExt cx="127080" cy="126720"/>
          </a:xfrm>
        </p:grpSpPr>
        <p:sp>
          <p:nvSpPr>
            <p:cNvPr id="384" name=""/>
            <p:cNvSpPr/>
            <p:nvPr/>
          </p:nvSpPr>
          <p:spPr>
            <a:xfrm>
              <a:off x="258444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4816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478320" y="4525920"/>
            <a:ext cx="126720" cy="126720"/>
            <a:chOff x="3478320" y="4525920"/>
            <a:chExt cx="126720" cy="126720"/>
          </a:xfrm>
        </p:grpSpPr>
        <p:sp>
          <p:nvSpPr>
            <p:cNvPr id="387" name=""/>
            <p:cNvSpPr/>
            <p:nvPr/>
          </p:nvSpPr>
          <p:spPr>
            <a:xfrm>
              <a:off x="347832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413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370400" y="4525920"/>
            <a:ext cx="127080" cy="126720"/>
            <a:chOff x="4370400" y="4525920"/>
            <a:chExt cx="127080" cy="126720"/>
          </a:xfrm>
        </p:grpSpPr>
        <p:sp>
          <p:nvSpPr>
            <p:cNvPr id="390" name=""/>
            <p:cNvSpPr/>
            <p:nvPr/>
          </p:nvSpPr>
          <p:spPr>
            <a:xfrm>
              <a:off x="437040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3412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264280" y="4525920"/>
            <a:ext cx="126720" cy="126720"/>
            <a:chOff x="5264280" y="4525920"/>
            <a:chExt cx="126720" cy="126720"/>
          </a:xfrm>
        </p:grpSpPr>
        <p:sp>
          <p:nvSpPr>
            <p:cNvPr id="393" name=""/>
            <p:cNvSpPr/>
            <p:nvPr/>
          </p:nvSpPr>
          <p:spPr>
            <a:xfrm>
              <a:off x="5264280" y="4525920"/>
              <a:ext cx="12672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272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156360" y="4525920"/>
            <a:ext cx="127080" cy="126720"/>
            <a:chOff x="6156360" y="4525920"/>
            <a:chExt cx="127080" cy="126720"/>
          </a:xfrm>
        </p:grpSpPr>
        <p:sp>
          <p:nvSpPr>
            <p:cNvPr id="396" name=""/>
            <p:cNvSpPr/>
            <p:nvPr/>
          </p:nvSpPr>
          <p:spPr>
            <a:xfrm>
              <a:off x="6156360" y="4525920"/>
              <a:ext cx="127080" cy="12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20080" y="4589280"/>
              <a:ext cx="360" cy="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175572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647800" y="45896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4168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33760" y="4589640"/>
            <a:ext cx="89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27640" y="458964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2957760" y="4221000"/>
            <a:ext cx="13894200" cy="138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30" y="573"/>
                </a:moveTo>
                <a:arcTo wR="10800" hR="10800" stAng="-6524385" swAng="2248770"/>
                <a:lnTo>
                  <a:pt x="10800" y="10800"/>
                </a:lnTo>
                <a:close/>
              </a:path>
              <a:path fill="none" w="21600" h="21600">
                <a:moveTo>
                  <a:pt x="7330" y="573"/>
                </a:moveTo>
                <a:arcTo wR="10800" hR="10800" stAng="-6524385" swAng="22487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469880" y="-1036800"/>
            <a:ext cx="8219520" cy="8220240"/>
            <a:chOff x="1469880" y="-1036800"/>
            <a:chExt cx="8219520" cy="8220240"/>
          </a:xfrm>
        </p:grpSpPr>
        <p:sp>
          <p:nvSpPr>
            <p:cNvPr id="405" name=""/>
            <p:cNvSpPr/>
            <p:nvPr/>
          </p:nvSpPr>
          <p:spPr>
            <a:xfrm flipV="1">
              <a:off x="1755720" y="3579480"/>
              <a:ext cx="0" cy="10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755720" y="256824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755720" y="155700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69880" y="-1036800"/>
              <a:ext cx="8219520" cy="822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340000" y="-1044360"/>
            <a:ext cx="8219520" cy="8219160"/>
            <a:chOff x="2340000" y="-1044360"/>
            <a:chExt cx="8219520" cy="8219160"/>
          </a:xfrm>
        </p:grpSpPr>
        <p:sp>
          <p:nvSpPr>
            <p:cNvPr id="410" name=""/>
            <p:cNvSpPr/>
            <p:nvPr/>
          </p:nvSpPr>
          <p:spPr>
            <a:xfrm flipV="1">
              <a:off x="2625840" y="357156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625840" y="25603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625840" y="154944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40000" y="-1044360"/>
              <a:ext cx="821952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270240" y="-1052280"/>
            <a:ext cx="8219520" cy="8219160"/>
            <a:chOff x="3270240" y="-1052280"/>
            <a:chExt cx="8219520" cy="8219160"/>
          </a:xfrm>
        </p:grpSpPr>
        <p:sp>
          <p:nvSpPr>
            <p:cNvPr id="415" name=""/>
            <p:cNvSpPr/>
            <p:nvPr/>
          </p:nvSpPr>
          <p:spPr>
            <a:xfrm flipV="1">
              <a:off x="3556080" y="356364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556080" y="255240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556080" y="15415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0240" y="-1052280"/>
              <a:ext cx="821952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140360" y="-1060200"/>
            <a:ext cx="8219160" cy="8219160"/>
            <a:chOff x="4140360" y="-1060200"/>
            <a:chExt cx="8219160" cy="8219160"/>
          </a:xfrm>
        </p:grpSpPr>
        <p:sp>
          <p:nvSpPr>
            <p:cNvPr id="420" name=""/>
            <p:cNvSpPr/>
            <p:nvPr/>
          </p:nvSpPr>
          <p:spPr>
            <a:xfrm flipV="1">
              <a:off x="4425840" y="355572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425840" y="254448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425840" y="153360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40360" y="-1060200"/>
              <a:ext cx="821916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033880" y="-1036800"/>
            <a:ext cx="8219520" cy="8220240"/>
            <a:chOff x="5033880" y="-1036800"/>
            <a:chExt cx="8219520" cy="8220240"/>
          </a:xfrm>
        </p:grpSpPr>
        <p:sp>
          <p:nvSpPr>
            <p:cNvPr id="425" name=""/>
            <p:cNvSpPr/>
            <p:nvPr/>
          </p:nvSpPr>
          <p:spPr>
            <a:xfrm flipV="1">
              <a:off x="5319720" y="3579480"/>
              <a:ext cx="0" cy="10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319720" y="256824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319720" y="155700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33880" y="-1036800"/>
              <a:ext cx="8219520" cy="822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934240" y="-1044360"/>
            <a:ext cx="8219160" cy="8219160"/>
            <a:chOff x="5934240" y="-1044360"/>
            <a:chExt cx="8219160" cy="8219160"/>
          </a:xfrm>
        </p:grpSpPr>
        <p:sp>
          <p:nvSpPr>
            <p:cNvPr id="430" name=""/>
            <p:cNvSpPr/>
            <p:nvPr/>
          </p:nvSpPr>
          <p:spPr>
            <a:xfrm flipV="1">
              <a:off x="6219720" y="3571560"/>
              <a:ext cx="0" cy="10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219720" y="256032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219720" y="1549440"/>
              <a:ext cx="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34240" y="-1044360"/>
              <a:ext cx="8219160" cy="82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283" swAng="2597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283" swAng="25974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V="1">
            <a:off x="175572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647800" y="2568600"/>
            <a:ext cx="26798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54168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175536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47800" y="2568600"/>
            <a:ext cx="26798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41680" y="2568600"/>
            <a:ext cx="2678040" cy="2021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75572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647800" y="1557360"/>
            <a:ext cx="26798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54168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75536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47800" y="1557360"/>
            <a:ext cx="26798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41680" y="1557360"/>
            <a:ext cx="2678040" cy="2022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43120" y="5318280"/>
            <a:ext cx="340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47640" y="5805360"/>
            <a:ext cx="561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(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,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1:02:27Z</dcterms:created>
  <dc:creator>lhhsu</dc:creator>
  <dc:description/>
  <dc:language>en-US</dc:language>
  <cp:lastModifiedBy>LHHSU</cp:lastModifiedBy>
  <dcterms:modified xsi:type="dcterms:W3CDTF">2004-11-25T07:26:52Z</dcterms:modified>
  <cp:revision>14</cp:revision>
  <dc:subject/>
  <dc:title>Faithful 1-edge fault tolerant graphs</dc:title>
</cp:coreProperties>
</file>