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C36-ED01-43D8-B37F-4706F519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734-4291-4A11-8A70-F03B0688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F9C-977F-4117-B0AD-5396FCBB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874-A747-469C-BD02-689CE531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FB1-033B-43EC-9A11-9E779794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199-0495-43D9-A018-BF423EDA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848-AD3E-406D-B782-F433FAB4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DF9-BB79-479F-B69B-17531556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146-3D04-468D-B22A-75BC0C0E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3CA-8C08-4FFA-B367-AC9CD23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B4E-1B8B-4DCD-89DE-93157A62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84E-B28C-4043-9B42-F543A967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7C6D-BB53-42DA-AA50-33CF9FFE6C6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Generalized honeycomb t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formation Processing Letters 86 (2003) 185–190Hsun-Jung Cho, Li-YenH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Department of Transportation Technology and Management, National Chiao Tung University, Hsinchu 30050, Taiwan, R.O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re positive integers where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 even. Let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be any integer such that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m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 an even number. The </a:t>
            </a:r>
            <a:r>
              <a:rPr b="0" i="1" lang="zh-TW" sz="2400" spc="-1" strike="noStrike">
                <a:solidFill>
                  <a:srgbClr val="009999"/>
                </a:solidFill>
                <a:latin typeface="Arial"/>
              </a:rPr>
              <a:t>generalized honeycomb rectangular torus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GHT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m,n, d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 the graph with the node set {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| 0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&lt;m,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&lt; n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} such that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k, l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re adjacent if they satisfy one of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± 1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− 1 if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 even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0,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− 1, an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d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n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38320" y="274680"/>
            <a:ext cx="398448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bviously, any GHT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m,n, d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a 3-regular bipartite graph. We can label those nodes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ite when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even or black if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3. Isomorph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y definition, we can easily prove that the honeycomb rectangular torus HRe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 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isomorphic to G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 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the honeycomb rhombic torus HRo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 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isomorphic to G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n,m 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 With the following theorem, the honeycomb hexagonal torus 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isomorphic to G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Theorem 1.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 is isomorphic to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G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7200" y="274680"/>
            <a:ext cx="8229240" cy="5850720"/>
            <a:chOff x="457200" y="274680"/>
            <a:chExt cx="8229240" cy="5850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457200" y="274680"/>
              <a:ext cx="8229240" cy="268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88240" y="2963160"/>
              <a:ext cx="8097840" cy="316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82296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84120" y="274680"/>
            <a:ext cx="681516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e use the brick drawing, proposed in [7,8], to define the honeycomb rectangular to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[7] B. Parhami, D.M. Kwai, A unified formulation of honeycomb and diamond networks, IEEE Trans. Parallel Distributed Systems 12 (2001) 74–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[8] I. Stojmenovic, Honeycomb networks: Topological properties and communication Algorithms, IEEE Trans. Parallel Distributed Systems 8 (1997) 1036–104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0042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4. Hamiltonian properties of some generalized</a:t>
            </a: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honeycomb 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t is easy to prove that any honeycomb rectangular torus and any honeycomb rhombic torus are Hamiltonian. In [5], it is proved that any honeycomb hexagonal torus is Hamiltoni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[5] G.M. Megson, X. Yang, X. Liu, Honeycomb tori are Hamiltoni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form. Process. Lett. 72 (1999) 99–1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e reprove this result with the following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Theorem 2.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Any generalized honeycomb torus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HT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m,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k, k) is Hamilton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68436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52800" y="681120"/>
            <a:ext cx="48384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695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86080" y="3751200"/>
            <a:ext cx="5051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5400" y="274680"/>
            <a:ext cx="76914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984240"/>
            <a:ext cx="82296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1600200"/>
            <a:ext cx="7902360" cy="3551760"/>
            <a:chOff x="457200" y="1600200"/>
            <a:chExt cx="7902360" cy="35517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7855200" cy="12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57200" y="2883600"/>
              <a:ext cx="7902360" cy="22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987480"/>
            <a:ext cx="82296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re positive even integers. The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honeycomb rectangular torus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ReT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m, n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the graph with the node set {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0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&lt; m,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&lt; 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} such that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k, l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re adjacent if they satisfy one of the following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± 1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;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− 1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28880" y="974880"/>
            <a:ext cx="572292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re positive integers where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even. The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honeycomb rhombic toru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Ro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m, 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the graph with the node set {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| 0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&lt;m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&lt; n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} such that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i, j 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k, l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re adjacent if they satisfy one of the following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± 1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1 if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even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0,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1, and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9520" y="274680"/>
            <a:ext cx="390672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a positive integer. The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honeycomb hexagonal mesh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the graph with the node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−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       1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}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wo nodes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re adjacent if and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+ |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| + |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−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| =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62080" y="274680"/>
            <a:ext cx="715788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honeycomb hexagonal toru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s the graph with the same node set as HM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 The edge set is the union of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E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n))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the wraparound edg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({i, n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), (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 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, n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| 1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}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i, n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), (n, 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 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|1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}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{(i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n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), (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, n,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 −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|1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5:52:53Z</dcterms:created>
  <dc:creator>PU</dc:creator>
  <dc:description/>
  <dc:language>en-US</dc:language>
  <cp:lastModifiedBy>PU</cp:lastModifiedBy>
  <dcterms:modified xsi:type="dcterms:W3CDTF">2011-02-10T06:37:30Z</dcterms:modified>
  <cp:revision>2</cp:revision>
  <dc:subject/>
  <dc:title>Generalized honeycomb torus</dc:title>
</cp:coreProperties>
</file>