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967-7C93-49CA-9323-561005A4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9AF-0089-4334-942B-0AF0EA91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D2F-B1C0-434A-AADB-69017C44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1D2-ADFE-4E80-8CA7-D9828892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D40-8FF0-4811-BEF7-985C3D23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3AB-C525-4A59-82DB-13CAED82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C48-7011-487B-AB90-897537BB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69B-9775-4112-ABCD-A45754B7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B84-08F8-4185-B839-F6B3AAB9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C69-29A8-4C95-AE2A-734B3239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18F-47B6-4FCD-8DF6-09FA682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275-C0E2-4496-8107-60EF885E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E214-B429-4433-96BF-912CC4369B4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Generalized honeycomb t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formation Processing Letters 86 (2003) 185–190Hsun-Jung Cho, Li-YenH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Department of Transportation Technology and Management, National Chiao Tung University, Hsinchu 30050, Taiwan, R.O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ssume that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re positive integers where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s even. Let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be any integer such that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m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s an even number. The </a:t>
            </a:r>
            <a:r>
              <a:rPr b="0" i="1" lang="zh-TW" sz="2400" spc="-1" strike="noStrike">
                <a:solidFill>
                  <a:srgbClr val="009999"/>
                </a:solidFill>
                <a:latin typeface="Arial"/>
              </a:rPr>
              <a:t>generalized honeycomb rectangular torus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GHT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m,n, d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s the graph with the node set {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| 0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 &lt;m,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j &lt; n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} such that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k, l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re adjacent if they satisfy one of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± 1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− 1 if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s even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0,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− 1, an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d 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n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38320" y="274680"/>
            <a:ext cx="398448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bviously, any GHT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m,n, d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a 3-regular bipartite graph. We can label those nodes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ite when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even or black if other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3. Isomorph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y definition, we can easily prove that the honeycomb rectangular torus HRe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m, n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isomorphic to G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m, 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the honeycomb rhombic torus HRo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m, n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isomorphic to G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m,n,m 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)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 With the following theorem, the honeycomb hexagonal torus 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isomorphic to G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Theorem 1.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) is isomorphic to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G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57200" y="274680"/>
            <a:ext cx="8229240" cy="5850720"/>
            <a:chOff x="457200" y="274680"/>
            <a:chExt cx="8229240" cy="5850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457200" y="274680"/>
              <a:ext cx="8229240" cy="268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88240" y="2963160"/>
              <a:ext cx="8097840" cy="316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82296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84120" y="274680"/>
            <a:ext cx="681516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e use the brick drawing, proposed in [7,8], to define the honeycomb rectangular tor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[7] B. Parhami, D.M. Kwai, A unified formulation of honeycomb and diamond networks, IEEE Trans. Parallel Distributed Systems 12 (2001) 74–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[8] I. Stojmenovic, Honeycomb networks: Topological properties and communication Algorithms, IEEE Trans. Parallel Distributed Systems 8 (1997) 1036–104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0042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4. Hamiltonian properties of some generalized</a:t>
            </a:r>
            <a:br>
              <a:rPr sz="4000"/>
            </a:b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honeycomb 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t is easy to prove that any honeycomb rectangular torus and any honeycomb rhombic torus are Hamiltonian. In [5], it is proved that any honeycomb hexagonal torus is Hamiltoni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[5] G.M. Megson, X. Yang, X. Liu, Honeycomb tori are Hamiltoni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form. Process. Lett. 72 (1999) 99–1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e reprove this result with the following theo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Theorem 2.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Any generalized honeycomb torus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HT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m,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k, k) is Hamilton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68436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52800" y="681120"/>
            <a:ext cx="48384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3695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86080" y="3751200"/>
            <a:ext cx="50511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5400" y="274680"/>
            <a:ext cx="76914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984240"/>
            <a:ext cx="82296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1600200"/>
            <a:ext cx="7902360" cy="3551760"/>
            <a:chOff x="457200" y="1600200"/>
            <a:chExt cx="7902360" cy="35517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7855200" cy="12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457200" y="2883600"/>
              <a:ext cx="7902360" cy="22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987480"/>
            <a:ext cx="82296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ssume that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re positive even integers. The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honeycomb rectangular torus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ReT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m, n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the graph with the node set {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| 0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 &lt; m,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j &lt; n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} such that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k, l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re adjacent if they satisfy one of the following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± 1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;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− 1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e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28880" y="974880"/>
            <a:ext cx="572292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ssume that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re positive integers where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even. The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honeycomb rhombic toru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Ro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m, n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the graph with the node set {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| 0 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&lt;m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&lt; n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} such that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k, l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re adjacent if they satisfy one of the following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± 1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1 if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even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0,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1, an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9520" y="274680"/>
            <a:ext cx="390672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ssume that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a positive integer. The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honeycomb hexagonal mesh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the graph with the node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| −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+ 1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nd        1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}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wo nodes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re adjacent if and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| + |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| + |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−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| =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62080" y="274680"/>
            <a:ext cx="715788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honeycomb hexagonal toru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the graph with the same node set as HM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 The edge set is the union of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E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)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the wraparound edg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{i, n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+ 1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), (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 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, n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| 1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}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i, n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), (n, 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 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|1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}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{(i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n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), (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 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|1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5:52:53Z</dcterms:created>
  <dc:creator>PU</dc:creator>
  <dc:description/>
  <dc:language>en-US</dc:language>
  <cp:lastModifiedBy>PU</cp:lastModifiedBy>
  <dcterms:modified xsi:type="dcterms:W3CDTF">2011-02-10T06:37:30Z</dcterms:modified>
  <cp:revision>2</cp:revision>
  <dc:subject/>
  <dc:title>Generalized honeycomb torus</dc:title>
</cp:coreProperties>
</file>