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1E4-57EC-40FD-945D-993AD90D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D7B-1291-4613-A419-C5F34F5F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C8A-93BE-4F84-9478-EB625178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2EC-0496-4D60-B859-7C4BD6D1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A78-F47A-49A2-B3DB-1A1B4B6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4FD-1980-4EFB-A7E7-696C94D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3D5-554D-4CC3-82DD-9AD512B5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899-87C6-4F78-9D20-DD90448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E7B-FE46-40B7-9C43-E0E7DE3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649-C44E-4A98-9D9F-66487E3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267-A927-4291-BB6E-D506F4A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C5B-E305-4E31-A14B-CC1C24F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BE5-0FF5-4224-91F7-FBB1C1F8375F}" type="slidenum">
              <a:rPr b="0" lang="en-I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27942" r="4573" b="1838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 flipH="1">
            <a:off x="469800" y="35712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“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Some Class of Golden Graphs and its construction”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5" name="Rectangle 9"/>
          <p:cNvSpPr/>
          <p:nvPr/>
        </p:nvSpPr>
        <p:spPr>
          <a:xfrm flipH="1">
            <a:off x="-252360" y="2421000"/>
            <a:ext cx="61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Narayan Swamy 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Asst. Professor 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Depaprtment Of Mathematics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KLE Technological University, INDIA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851040" y="914400"/>
          <a:ext cx="756900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914400"/>
                    <a:ext cx="75690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42960" y="0"/>
          <a:ext cx="76960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0"/>
                    <a:ext cx="76960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28760" y="0"/>
          <a:ext cx="8543880" cy="70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0"/>
                    <a:ext cx="8543880" cy="70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39640" y="620640"/>
          <a:ext cx="8064720" cy="100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06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6"/>
          <p:cNvGraphicFramePr/>
          <p:nvPr/>
        </p:nvGraphicFramePr>
        <p:xfrm>
          <a:off x="468360" y="1844640"/>
          <a:ext cx="8136000" cy="468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844640"/>
                    <a:ext cx="8136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826920" y="274680"/>
          <a:ext cx="7345440" cy="61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4680"/>
                    <a:ext cx="734544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611280" y="341280"/>
          <a:ext cx="7561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1280"/>
                    <a:ext cx="7561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6"/>
          <p:cNvGraphicFramePr/>
          <p:nvPr/>
        </p:nvGraphicFramePr>
        <p:xfrm>
          <a:off x="611280" y="1841400"/>
          <a:ext cx="7993080" cy="417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841400"/>
                    <a:ext cx="799308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6"/>
          <p:cNvGraphicFramePr/>
          <p:nvPr/>
        </p:nvGraphicFramePr>
        <p:xfrm>
          <a:off x="428760" y="404640"/>
          <a:ext cx="8286480" cy="11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04640"/>
                    <a:ext cx="82864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8"/>
          <p:cNvGraphicFramePr/>
          <p:nvPr/>
        </p:nvGraphicFramePr>
        <p:xfrm>
          <a:off x="900000" y="1778040"/>
          <a:ext cx="7344000" cy="467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78040"/>
                    <a:ext cx="73440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468360" y="279360"/>
          <a:ext cx="80643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9360"/>
                    <a:ext cx="80643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324000" y="260280"/>
          <a:ext cx="8280360" cy="58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28036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900000" y="274680"/>
          <a:ext cx="73440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4680"/>
                    <a:ext cx="73440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69960" y="1052640"/>
          <a:ext cx="770580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052640"/>
                    <a:ext cx="77058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5"/>
          <p:cNvSpPr/>
          <p:nvPr/>
        </p:nvSpPr>
        <p:spPr>
          <a:xfrm>
            <a:off x="735120" y="342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and Notations: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684360" y="476280"/>
          <a:ext cx="7632720" cy="50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6327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684360" y="385920"/>
          <a:ext cx="74880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85920"/>
                    <a:ext cx="74880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755640" y="677880"/>
          <a:ext cx="7704000" cy="50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77880"/>
                    <a:ext cx="77040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539640" y="274680"/>
          <a:ext cx="77774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4680"/>
                    <a:ext cx="77774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"/>
          <p:cNvGraphicFramePr/>
          <p:nvPr/>
        </p:nvGraphicFramePr>
        <p:xfrm>
          <a:off x="468360" y="549360"/>
          <a:ext cx="7920000" cy="107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20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"/>
          <p:cNvGraphicFramePr/>
          <p:nvPr/>
        </p:nvGraphicFramePr>
        <p:xfrm>
          <a:off x="611280" y="1773360"/>
          <a:ext cx="7489800" cy="488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73360"/>
                    <a:ext cx="7489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4"/>
          <p:cNvGraphicFramePr/>
          <p:nvPr/>
        </p:nvGraphicFramePr>
        <p:xfrm>
          <a:off x="250920" y="403200"/>
          <a:ext cx="7993080" cy="11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3200"/>
                    <a:ext cx="79930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6"/>
          <p:cNvGraphicFramePr/>
          <p:nvPr/>
        </p:nvGraphicFramePr>
        <p:xfrm>
          <a:off x="539640" y="1773360"/>
          <a:ext cx="7345440" cy="4608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7345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4"/>
          <p:cNvGraphicFramePr/>
          <p:nvPr/>
        </p:nvGraphicFramePr>
        <p:xfrm>
          <a:off x="468360" y="274680"/>
          <a:ext cx="792000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4680"/>
                    <a:ext cx="792000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4"/>
          <p:cNvGraphicFramePr/>
          <p:nvPr/>
        </p:nvGraphicFramePr>
        <p:xfrm>
          <a:off x="603360" y="636480"/>
          <a:ext cx="6192720" cy="71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36480"/>
                    <a:ext cx="6192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539640" y="1628640"/>
          <a:ext cx="7848720" cy="4525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628640"/>
                    <a:ext cx="7848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4"/>
          <p:cNvGraphicFramePr/>
          <p:nvPr/>
        </p:nvGraphicFramePr>
        <p:xfrm>
          <a:off x="900000" y="404640"/>
          <a:ext cx="7344000" cy="7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7344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684360" y="1700280"/>
          <a:ext cx="7704000" cy="439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00280"/>
                    <a:ext cx="770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4"/>
          <p:cNvGraphicFramePr/>
          <p:nvPr/>
        </p:nvGraphicFramePr>
        <p:xfrm>
          <a:off x="539640" y="476280"/>
          <a:ext cx="763272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6327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28760" y="404640"/>
          <a:ext cx="7929360" cy="616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04640"/>
                    <a:ext cx="7929360" cy="61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468360" y="620640"/>
          <a:ext cx="777564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7775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611280" y="1628640"/>
          <a:ext cx="7632720" cy="43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628640"/>
                    <a:ext cx="76327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39640" y="2671920"/>
            <a:ext cx="64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SimHei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92360" y="1413000"/>
            <a:ext cx="6912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</a:rPr>
              <a:t>                       </a:t>
            </a:r>
            <a:r>
              <a:rPr b="0" lang="en-US" sz="7500" spc="-1" strike="noStrike">
                <a:solidFill>
                  <a:srgbClr val="000000"/>
                </a:solidFill>
                <a:latin typeface="DFKai-SB"/>
              </a:rPr>
              <a:t>MOTIVATION</a:t>
            </a:r>
            <a:endParaRPr b="0" lang="en-US" sz="75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7"/>
          <p:cNvGraphicFramePr/>
          <p:nvPr/>
        </p:nvGraphicFramePr>
        <p:xfrm>
          <a:off x="182520" y="291960"/>
          <a:ext cx="441000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1960"/>
                    <a:ext cx="4410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9"/>
          <p:cNvGraphicFramePr/>
          <p:nvPr/>
        </p:nvGraphicFramePr>
        <p:xfrm>
          <a:off x="357120" y="1285920"/>
          <a:ext cx="7704360" cy="345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285920"/>
                    <a:ext cx="7704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981000"/>
          <a:ext cx="7559640" cy="14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75596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3"/>
          <p:cNvGraphicFramePr/>
          <p:nvPr/>
        </p:nvGraphicFramePr>
        <p:xfrm>
          <a:off x="725400" y="3141720"/>
          <a:ext cx="7489800" cy="158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141720"/>
                    <a:ext cx="74898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042920" y="765000"/>
          <a:ext cx="763272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7632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900000" y="2205000"/>
          <a:ext cx="7704360" cy="287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205000"/>
                    <a:ext cx="7704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1803240" y="546120"/>
          <a:ext cx="5778720" cy="85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546120"/>
                    <a:ext cx="5778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6"/>
          <p:cNvGraphicFramePr/>
          <p:nvPr/>
        </p:nvGraphicFramePr>
        <p:xfrm>
          <a:off x="785880" y="-285840"/>
          <a:ext cx="7607160" cy="763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-285840"/>
                    <a:ext cx="7607160" cy="76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11280" y="692280"/>
          <a:ext cx="7777080" cy="86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7777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6"/>
          <p:cNvGraphicFramePr/>
          <p:nvPr/>
        </p:nvGraphicFramePr>
        <p:xfrm>
          <a:off x="468360" y="2276640"/>
          <a:ext cx="7704000" cy="57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76640"/>
                    <a:ext cx="7704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9"/>
          <p:cNvGraphicFramePr/>
          <p:nvPr/>
        </p:nvGraphicFramePr>
        <p:xfrm>
          <a:off x="539640" y="3500280"/>
          <a:ext cx="7848720" cy="223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500280"/>
                    <a:ext cx="784872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7:55:12Z</dcterms:created>
  <dc:creator>admin</dc:creator>
  <dc:description/>
  <dc:language>en-US</dc:language>
  <cp:lastModifiedBy>admin</cp:lastModifiedBy>
  <dcterms:modified xsi:type="dcterms:W3CDTF">2016-08-19T04:32:55Z</dcterms:modified>
  <cp:revision>36</cp:revision>
  <dc:subject/>
  <dc:title>Slide 1</dc:title>
</cp:coreProperties>
</file>