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11398680"/>
            <a:ext cx="360" cy="243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88D-6EBB-42BF-AED6-9C9F8490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4C5-92F4-43F3-87BB-3F2AA146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28C-81C0-452C-A4F1-86857870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760-0314-4338-B8F0-9660E40D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F51-47DC-4F0C-9294-998070A3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E2E-1428-4F3F-A673-ED1B10E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E16-E06E-4EE6-9432-3E0DE136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CA1-362F-4120-A9AF-542DB814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6AE-2CF8-4CD6-93F5-81603D5B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5DD-1D0C-414C-A9B8-AAC147A9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CCF-EA8D-4402-ACD3-58B1D126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939-5CAF-498B-8FE5-96A4EB34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0C89A3-F67E-4E86-AD31-68FEB7DE3F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697F00-D698-4D77-8F46-75FCB4C1061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300"/>
            </a:br>
            <a:br>
              <a:rPr sz="4300"/>
            </a:br>
            <a:r>
              <a:rPr b="1" lang="en-US" sz="63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model of one </a:t>
            </a:r>
            <a:br>
              <a:rPr sz="6300"/>
            </a:br>
            <a:r>
              <a:rPr b="1" lang="en-US" sz="63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iological 2-cells complex</a:t>
            </a:r>
            <a:br>
              <a:rPr sz="6000"/>
            </a:br>
            <a:br>
              <a:rPr sz="60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kinshin A.A., Golubyatnikov V.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olev Institute of Mathematics SB RA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kharina T.A., Furman D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Cytology and Genetics SB 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Novosibirsk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24 </a:t>
            </a: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September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 </a:t>
            </a: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Geometry Days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2014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C878AF-174E-425A-971B-4D0CBB42F68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67BF00-CBDC-44FF-B716-E2CFB510831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2453400" y="457200"/>
            <a:ext cx="31464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ENDIX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8"/>
              <p:cNvSpPr txBox="1"/>
              <p:nvPr/>
            </p:nvSpPr>
            <p:spPr>
              <a:xfrm>
                <a:off x="106200" y="3917880"/>
                <a:ext cx="8961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9"/>
              <p:cNvSpPr txBox="1"/>
              <p:nvPr/>
            </p:nvSpPr>
            <p:spPr>
              <a:xfrm>
                <a:off x="106200" y="2541600"/>
                <a:ext cx="9037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Прямоугольник 10"/>
          <p:cNvSpPr/>
          <p:nvPr/>
        </p:nvSpPr>
        <p:spPr>
          <a:xfrm>
            <a:off x="128520" y="1498680"/>
            <a:ext cx="7975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shold” functions describing positiv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412720" y="3208320"/>
            <a:ext cx="47282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negative feedbacks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109080" y="4919760"/>
            <a:ext cx="87912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we consider their smooth analogues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1"/>
              <p:cNvSpPr txBox="1"/>
              <p:nvPr/>
            </p:nvSpPr>
            <p:spPr>
              <a:xfrm>
                <a:off x="380880" y="3178080"/>
                <a:ext cx="17528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1CD738-3F11-4279-A1B0-F8AD6A8D91B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Объект 3"/>
              <p:cNvSpPr txBox="1"/>
              <p:nvPr/>
            </p:nvSpPr>
            <p:spPr>
              <a:xfrm>
                <a:off x="331920" y="1295280"/>
                <a:ext cx="2639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ик 4"/>
          <p:cNvSpPr/>
          <p:nvPr/>
        </p:nvSpPr>
        <p:spPr>
          <a:xfrm>
            <a:off x="2514600" y="92160"/>
            <a:ext cx="3124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Объект 6"/>
              <p:cNvSpPr txBox="1"/>
              <p:nvPr/>
            </p:nvSpPr>
            <p:spPr>
              <a:xfrm>
                <a:off x="3124080" y="1295280"/>
                <a:ext cx="4310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Прямоугольник 7"/>
          <p:cNvSpPr/>
          <p:nvPr/>
        </p:nvSpPr>
        <p:spPr>
          <a:xfrm>
            <a:off x="7676280" y="1463760"/>
            <a:ext cx="85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A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Объект 8"/>
              <p:cNvSpPr txBox="1"/>
              <p:nvPr/>
            </p:nvSpPr>
            <p:spPr>
              <a:xfrm>
                <a:off x="457200" y="2590920"/>
                <a:ext cx="26398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Объект 10"/>
              <p:cNvSpPr txBox="1"/>
              <p:nvPr/>
            </p:nvSpPr>
            <p:spPr>
              <a:xfrm>
                <a:off x="3247920" y="2590920"/>
                <a:ext cx="4086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Прямоугольник 11"/>
          <p:cNvSpPr/>
          <p:nvPr/>
        </p:nvSpPr>
        <p:spPr>
          <a:xfrm>
            <a:off x="7752240" y="2819520"/>
            <a:ext cx="85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A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Объект 13"/>
              <p:cNvSpPr txBox="1"/>
              <p:nvPr/>
            </p:nvSpPr>
            <p:spPr>
              <a:xfrm>
                <a:off x="1204920" y="3733920"/>
                <a:ext cx="5241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Прямоугольник 14"/>
          <p:cNvSpPr/>
          <p:nvPr/>
        </p:nvSpPr>
        <p:spPr>
          <a:xfrm>
            <a:off x="200160" y="4587840"/>
            <a:ext cx="905148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epiped                                                         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ly invariant for both systems (A1) and (A2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ains a unique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um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int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(A2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or odd</a:t>
            </a:r>
            <a:r>
              <a:rPr b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tains a unique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um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(A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Объект 16"/>
              <p:cNvSpPr txBox="1"/>
              <p:nvPr/>
            </p:nvSpPr>
            <p:spPr>
              <a:xfrm>
                <a:off x="2909880" y="4419720"/>
                <a:ext cx="471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Прямоугольник 1"/>
          <p:cNvSpPr/>
          <p:nvPr/>
        </p:nvSpPr>
        <p:spPr>
          <a:xfrm>
            <a:off x="93960" y="152280"/>
            <a:ext cx="872424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2) is the Glass-Tyson (et al) dynamical syste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1) was considered in our previous pap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C99BEA-8FB0-48F1-88E1-3F9B7287D78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D:\Father\2013\Akinshin\SobolevPresentation\Presentation\images\odd-plot.jpg"/>
          <p:cNvPicPr/>
          <p:nvPr/>
        </p:nvPicPr>
        <p:blipFill>
          <a:blip r:embed="rId1"/>
          <a:stretch/>
        </p:blipFill>
        <p:spPr>
          <a:xfrm>
            <a:off x="76320" y="1219320"/>
            <a:ext cx="4038480" cy="548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Father\2013\Akinshin\SobolevPresentation\Presentation\images\even-plot.jpg"/>
          <p:cNvPicPr/>
          <p:nvPr/>
        </p:nvPicPr>
        <p:blipFill>
          <a:blip r:embed="rId2"/>
          <a:stretch/>
        </p:blipFill>
        <p:spPr>
          <a:xfrm>
            <a:off x="4114800" y="68580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76320" y="152280"/>
            <a:ext cx="42670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2); (A1)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k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e equilibrium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152280"/>
            <a:ext cx="41148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1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k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“many” equilibrium poi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303A6D-93FE-4FA6-B989-AAF62C71024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-convex invariant domain of the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3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D system (A1) 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osed by six triangle prisms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ru-RU" sz="3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20320" y="6095880"/>
            <a:ext cx="3808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4968720" y="1374840"/>
                <a:ext cx="822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7696080" y="1268280"/>
                <a:ext cx="8254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Rectangle 7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294600" y="28954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5" name="Rectangle 9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4"/>
              <p:cNvSpPr txBox="1"/>
              <p:nvPr/>
            </p:nvSpPr>
            <p:spPr>
              <a:xfrm>
                <a:off x="8364600" y="3684600"/>
                <a:ext cx="779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1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6"/>
              <p:cNvSpPr txBox="1"/>
              <p:nvPr/>
            </p:nvSpPr>
            <p:spPr>
              <a:xfrm>
                <a:off x="5257800" y="5334120"/>
                <a:ext cx="779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Picture 17" descr=""/>
          <p:cNvPicPr/>
          <p:nvPr/>
        </p:nvPicPr>
        <p:blipFill>
          <a:blip r:embed="rId1"/>
          <a:stretch/>
        </p:blipFill>
        <p:spPr>
          <a:xfrm>
            <a:off x="4983120" y="1523880"/>
            <a:ext cx="3855960" cy="419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76320" y="5867280"/>
                <a:ext cx="89913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344520" y="1752480"/>
                <a:ext cx="41115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304920" y="2362320"/>
                <a:ext cx="4170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272880" y="4079880"/>
                <a:ext cx="3308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  <m:r>
                      <m:t xml:space="preserve">intersec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270000" y="4816440"/>
                <a:ext cx="3049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r>
                      <m:t xml:space="preserve">intersec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6FDBF0-493A-4B31-BD57-AA8CAA7BF9B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80880" y="380880"/>
            <a:ext cx="876312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tential level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a block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many faces of the block are intersected by outgoing trajectorie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many arrows come out of the corresponding vertex of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e transition diagram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f the dynamical syst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D90039-88AA-4EDA-A186-F8682ED9AF7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219320" y="1254240"/>
            <a:ext cx="5562360" cy="560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0" y="374760"/>
                <a:ext cx="2195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3780000" y="338040"/>
                <a:ext cx="2160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6699240" y="347760"/>
                <a:ext cx="1987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9"/>
          <p:cNvSpPr/>
          <p:nvPr/>
        </p:nvSpPr>
        <p:spPr>
          <a:xfrm>
            <a:off x="1123920" y="1468440"/>
            <a:ext cx="687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trajectory and a limit cycle</a:t>
            </a:r>
            <a:r>
              <a:rPr b="1" lang="en-GB" sz="3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4422960" y="2743200"/>
            <a:ext cx="299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2594160" y="4648320"/>
            <a:ext cx="299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380880" y="358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ajectories and bifurcation cycles</a:t>
            </a: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D:\Father\2011\Akinshin\071011.jpg"/>
          <p:cNvPicPr/>
          <p:nvPr/>
        </p:nvPicPr>
        <p:blipFill>
          <a:blip r:embed="rId1"/>
          <a:stretch/>
        </p:blipFill>
        <p:spPr>
          <a:xfrm>
            <a:off x="0" y="1523880"/>
            <a:ext cx="4317840" cy="53341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" descr=""/>
          <p:cNvPicPr/>
          <p:nvPr/>
        </p:nvPicPr>
        <p:blipFill>
          <a:blip r:embed="rId2"/>
          <a:stretch/>
        </p:blipFill>
        <p:spPr>
          <a:xfrm>
            <a:off x="4317840" y="1295280"/>
            <a:ext cx="4826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F9AB39-ABD3-462D-8736-501214A73B1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135240" y="152280"/>
            <a:ext cx="2553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G:\2014\NSUpictures\hill105a-e89.png"/>
          <p:cNvPicPr/>
          <p:nvPr/>
        </p:nvPicPr>
        <p:blipFill>
          <a:blip r:embed="rId1"/>
          <a:stretch/>
        </p:blipFill>
        <p:spPr>
          <a:xfrm>
            <a:off x="4489560" y="1181160"/>
            <a:ext cx="4578120" cy="5499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G:\2014\NSUpictures\hill105a-e24.png"/>
          <p:cNvPicPr/>
          <p:nvPr/>
        </p:nvPicPr>
        <p:blipFill>
          <a:blip r:embed="rId2"/>
          <a:stretch/>
        </p:blipFill>
        <p:spPr>
          <a:xfrm>
            <a:off x="0" y="1154160"/>
            <a:ext cx="5029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532AB5-FDEC-406F-9E1D-0C576749014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228600" y="152280"/>
            <a:ext cx="87631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ystem (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1" i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ate transition diagram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3) (J.Tyson, L.Glass et al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Объект 4"/>
              <p:cNvSpPr txBox="1"/>
              <p:nvPr/>
            </p:nvSpPr>
            <p:spPr>
              <a:xfrm>
                <a:off x="4462560" y="5638680"/>
                <a:ext cx="2563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1" name="Прямоугольник 5"/>
          <p:cNvSpPr/>
          <p:nvPr/>
        </p:nvSpPr>
        <p:spPr>
          <a:xfrm>
            <a:off x="0" y="5638680"/>
            <a:ext cx="89917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ectories of all points in                                (in (A4) )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approach </a:t>
            </a:r>
            <a:r>
              <a:rPr b="0" i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fixed direction.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Объект 8"/>
              <p:cNvSpPr txBox="1"/>
              <p:nvPr/>
            </p:nvSpPr>
            <p:spPr>
              <a:xfrm>
                <a:off x="609480" y="1066680"/>
                <a:ext cx="600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0"/>
              <p:cNvSpPr txBox="1"/>
              <p:nvPr/>
            </p:nvSpPr>
            <p:spPr>
              <a:xfrm>
                <a:off x="609480" y="2057400"/>
                <a:ext cx="6019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Объект 12"/>
              <p:cNvSpPr txBox="1"/>
              <p:nvPr/>
            </p:nvSpPr>
            <p:spPr>
              <a:xfrm>
                <a:off x="9907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Объект 13"/>
              <p:cNvSpPr txBox="1"/>
              <p:nvPr/>
            </p:nvSpPr>
            <p:spPr>
              <a:xfrm>
                <a:off x="57913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Прямоугольник 14"/>
          <p:cNvSpPr/>
          <p:nvPr/>
        </p:nvSpPr>
        <p:spPr>
          <a:xfrm>
            <a:off x="7491240" y="137160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Объект 15"/>
              <p:cNvSpPr txBox="1"/>
              <p:nvPr/>
            </p:nvSpPr>
            <p:spPr>
              <a:xfrm>
                <a:off x="746280" y="3048120"/>
                <a:ext cx="6038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Объект 16"/>
              <p:cNvSpPr txBox="1"/>
              <p:nvPr/>
            </p:nvSpPr>
            <p:spPr>
              <a:xfrm>
                <a:off x="719280" y="4032360"/>
                <a:ext cx="595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Объект 18"/>
              <p:cNvSpPr txBox="1"/>
              <p:nvPr/>
            </p:nvSpPr>
            <p:spPr>
              <a:xfrm>
                <a:off x="1066680" y="3429000"/>
                <a:ext cx="381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Объект 19"/>
              <p:cNvSpPr txBox="1"/>
              <p:nvPr/>
            </p:nvSpPr>
            <p:spPr>
              <a:xfrm>
                <a:off x="5943600" y="342900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Прямоугольник 21"/>
          <p:cNvSpPr/>
          <p:nvPr/>
        </p:nvSpPr>
        <p:spPr>
          <a:xfrm>
            <a:off x="7602480" y="358128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2"/>
          <p:cNvSpPr/>
          <p:nvPr/>
        </p:nvSpPr>
        <p:spPr>
          <a:xfrm>
            <a:off x="0" y="4572000"/>
            <a:ext cx="93456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shown that the union      of the blocks listed in (A3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ontain a cycle, and conditions of its existenc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established.   </a:t>
            </a:r>
            <a:r>
              <a:rPr b="1" lang="en-GB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about its uniqueness? 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Объект 24"/>
              <p:cNvSpPr txBox="1"/>
              <p:nvPr/>
            </p:nvSpPr>
            <p:spPr>
              <a:xfrm>
                <a:off x="4495680" y="4511520"/>
                <a:ext cx="381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Объект 26"/>
              <p:cNvSpPr txBox="1"/>
              <p:nvPr/>
            </p:nvSpPr>
            <p:spPr>
              <a:xfrm>
                <a:off x="6095880" y="6157800"/>
                <a:ext cx="22831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4A96D6-D911-4B2D-8FB1-2DD5F9F818D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380880" y="457200"/>
            <a:ext cx="754380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OREM 2.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       of the blocks listed in (A4) contains a trajectory which remains the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1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s theorem holds for smooth analogues of the system (A2) as w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L-case, there are infinitely many geometrically distinct trajectories in the diagram (A4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Объект 3"/>
              <p:cNvSpPr txBox="1"/>
              <p:nvPr/>
            </p:nvSpPr>
            <p:spPr>
              <a:xfrm>
                <a:off x="6095880" y="382680"/>
                <a:ext cx="533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Smale   “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 mathematical model of two cells via Turing’s equ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AMS,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s in Applied Mathematics, v. 6, 1977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these 4-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im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 describes one of two cells in a cell complex. Smale has shown that for some nice values of parameters this system can have non-trivial cycles, though its restriction to any cell has just a stable equilibrium point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05520" y="6095520"/>
            <a:ext cx="4521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5120" y="5304960"/>
            <a:ext cx="52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9C2346-AEFA-4435-8AA0-2303A757F86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Объект 2"/>
              <p:cNvSpPr txBox="1"/>
              <p:nvPr/>
            </p:nvSpPr>
            <p:spPr>
              <a:xfrm>
                <a:off x="457200" y="1828800"/>
                <a:ext cx="51148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Объект 4"/>
              <p:cNvSpPr txBox="1"/>
              <p:nvPr/>
            </p:nvSpPr>
            <p:spPr>
              <a:xfrm>
                <a:off x="6183360" y="1981080"/>
                <a:ext cx="2046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6172200" y="1981080"/>
                <a:ext cx="2046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152280" y="3408480"/>
                <a:ext cx="1197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Прямоугольник 3"/>
          <p:cNvSpPr/>
          <p:nvPr/>
        </p:nvSpPr>
        <p:spPr>
          <a:xfrm>
            <a:off x="1523880" y="3200400"/>
            <a:ext cx="72392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 to concentrations of species in these two cel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odel is quite hypothe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A9D497-B30E-4ABD-809B-4B5BB228727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28600" y="152280"/>
            <a:ext cx="60199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ystem (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1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1" i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ate transition diagram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Объект 8"/>
              <p:cNvSpPr txBox="1"/>
              <p:nvPr/>
            </p:nvSpPr>
            <p:spPr>
              <a:xfrm>
                <a:off x="658800" y="1066680"/>
                <a:ext cx="5908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Объект 10"/>
              <p:cNvSpPr txBox="1"/>
              <p:nvPr/>
            </p:nvSpPr>
            <p:spPr>
              <a:xfrm>
                <a:off x="593640" y="2057400"/>
                <a:ext cx="605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Объект 12"/>
              <p:cNvSpPr txBox="1"/>
              <p:nvPr/>
            </p:nvSpPr>
            <p:spPr>
              <a:xfrm>
                <a:off x="9907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Объект 13"/>
              <p:cNvSpPr txBox="1"/>
              <p:nvPr/>
            </p:nvSpPr>
            <p:spPr>
              <a:xfrm>
                <a:off x="57913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Прямоугольник 14"/>
          <p:cNvSpPr/>
          <p:nvPr/>
        </p:nvSpPr>
        <p:spPr>
          <a:xfrm>
            <a:off x="7491240" y="137160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Объект 18"/>
              <p:cNvSpPr txBox="1"/>
              <p:nvPr/>
            </p:nvSpPr>
            <p:spPr>
              <a:xfrm>
                <a:off x="237960" y="3276720"/>
                <a:ext cx="1686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Объект 19"/>
              <p:cNvSpPr txBox="1"/>
              <p:nvPr/>
            </p:nvSpPr>
            <p:spPr>
              <a:xfrm>
                <a:off x="1828800" y="3276720"/>
                <a:ext cx="1612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Прямоугольник 21"/>
          <p:cNvSpPr/>
          <p:nvPr/>
        </p:nvSpPr>
        <p:spPr>
          <a:xfrm>
            <a:off x="3352680" y="3352680"/>
            <a:ext cx="4429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zero potential lev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2"/>
          <p:cNvSpPr/>
          <p:nvPr/>
        </p:nvSpPr>
        <p:spPr>
          <a:xfrm>
            <a:off x="122040" y="4267080"/>
            <a:ext cx="888876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how that in symmetric cases the union       of th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listed in (A5) contains a cycle, conditions of it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ce were established. </a:t>
            </a:r>
            <a:r>
              <a:rPr b="1" lang="en-GB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t is unique in this un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nvariant 1-D manifold  </a:t>
            </a:r>
            <a:r>
              <a:rPr b="1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e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fixed direction.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Объект 24"/>
              <p:cNvSpPr txBox="1"/>
              <p:nvPr/>
            </p:nvSpPr>
            <p:spPr>
              <a:xfrm>
                <a:off x="7238880" y="4191120"/>
                <a:ext cx="457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Объект 1"/>
              <p:cNvSpPr txBox="1"/>
              <p:nvPr/>
            </p:nvSpPr>
            <p:spPr>
              <a:xfrm>
                <a:off x="609480" y="6248520"/>
                <a:ext cx="2597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DD5A70-73E4-448A-B4C5-682815ED78A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49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D case for (A1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5653080" y="2577960"/>
                <a:ext cx="20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1219320"/>
            <a:ext cx="48769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variant piece-wise linear 2-D surfac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aining 2 cycles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responding sy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re constructed in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: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cycle5m"/>
          <p:cNvPicPr/>
          <p:nvPr/>
        </p:nvPicPr>
        <p:blipFill>
          <a:blip r:embed="rId1"/>
          <a:stretch/>
        </p:blipFill>
        <p:spPr>
          <a:xfrm>
            <a:off x="4648320" y="762120"/>
            <a:ext cx="4038480" cy="41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Object 20"/>
              <p:cNvSpPr txBox="1"/>
              <p:nvPr/>
            </p:nvSpPr>
            <p:spPr>
              <a:xfrm>
                <a:off x="0" y="5821200"/>
                <a:ext cx="9067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Прямоугольник 1"/>
          <p:cNvSpPr/>
          <p:nvPr/>
        </p:nvSpPr>
        <p:spPr>
          <a:xfrm>
            <a:off x="3883680" y="6416640"/>
            <a:ext cx="24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vel=3 ~(A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90720" y="4267080"/>
            <a:ext cx="2541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vel=1 ~ (A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Объект 3"/>
              <p:cNvSpPr txBox="1"/>
              <p:nvPr/>
            </p:nvSpPr>
            <p:spPr>
              <a:xfrm>
                <a:off x="-17640" y="4800600"/>
                <a:ext cx="9257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topy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486400" y="2133360"/>
            <a:ext cx="9856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387920" y="2180880"/>
            <a:ext cx="4604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38544E-40B8-411E-9E8D-AEC8BA68813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Объект 6"/>
              <p:cNvSpPr txBox="1"/>
              <p:nvPr/>
            </p:nvSpPr>
            <p:spPr>
              <a:xfrm>
                <a:off x="165240" y="2057400"/>
                <a:ext cx="5549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Прямоугольник 7"/>
          <p:cNvSpPr/>
          <p:nvPr/>
        </p:nvSpPr>
        <p:spPr>
          <a:xfrm>
            <a:off x="5887080" y="2133720"/>
            <a:ext cx="177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cyc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Объект 9"/>
              <p:cNvSpPr txBox="1"/>
              <p:nvPr/>
            </p:nvSpPr>
            <p:spPr>
              <a:xfrm>
                <a:off x="73080" y="3200400"/>
                <a:ext cx="6556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Прямоугольник 10"/>
          <p:cNvSpPr/>
          <p:nvPr/>
        </p:nvSpPr>
        <p:spPr>
          <a:xfrm>
            <a:off x="6726240" y="3276720"/>
            <a:ext cx="1893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cycl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E2EF23-2B88-4DCD-B4A7-0836CB87875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"/>
                <a:ea typeface="Times New Roman"/>
              </a:rPr>
              <a:t>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r>
              <a:rPr b="1" lang="en-GB" sz="4000" spc="-1" strike="noStrike">
                <a:solidFill>
                  <a:srgbClr val="000000"/>
                </a:solidFill>
                <a:latin typeface="comic"/>
                <a:ea typeface="Times New Roman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current tasks are connected with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etermination of conditions of regular behaviour of  trajectories;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tudies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gral manifolds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n-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queness of the cycles,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scripti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eometry of the phase portraits;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furcations of the cycles, their dependence on the variations of the parameters, and</a:t>
            </a:r>
            <a:r>
              <a:rPr b="1" lang="en-GB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ons of these models with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models of the Gene Net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8268F3-9CD9-46D4-BE84-01BB820CBB5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cent publication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.Gaidov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 cycles and other geometric phenomena in phase portraits of some nonlinear dynamical system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ringer Proc. in Math. &amp;Statistics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7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225 – 23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B.Ayupova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uniqueness of a cycle in an asymmetric 3-D model of a molecular repressilator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Journ.Appl.Industr. Math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v.8(2), 1 – 6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Akinshin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 cycles in symmetric dynamical system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ulletin of Novosibirsk State Universi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12, v.2(2),  3 – 1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Bukharina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Golubyatnikov, D.Furman. Model  investigation of central regulatory contour of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 net of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melanogaste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chrohaete morphogenesis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ussian  journal of development biolog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12, v.43(1), 49 – 53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.Gaidov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existence and stability of cycles in gene networks with variable feedback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ntemporary Mathematic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11, v. 553,  61 – 7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BAF2DC-184F-44E4-8FAA-DA86614A80A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cknowledgments: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FBR grant 12-01-00074,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grant 80 of SB RAS, RAS VI.61.1.2,  6.6 an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400800" y="533160"/>
            <a:ext cx="571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610480" y="633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571680" y="990720"/>
            <a:ext cx="8223120" cy="5867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6478920" y="5962680"/>
            <a:ext cx="17488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h+bi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BB3D5F-B151-4D66-9494-6FDE78E26CD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D:\2014\ICiG\BGRS-14\Ljapunov.jpg"/>
          <p:cNvPicPr/>
          <p:nvPr/>
        </p:nvPicPr>
        <p:blipFill>
          <a:blip r:embed="rId1"/>
          <a:stretch/>
        </p:blipFill>
        <p:spPr>
          <a:xfrm>
            <a:off x="228600" y="171360"/>
            <a:ext cx="5105520" cy="656928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5562720" y="609480"/>
            <a:ext cx="33526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ks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evich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apunov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1 - 197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68EE86-BDAE-4E57-8A0C-285A8931BF8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hank you for your patience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flower3"/>
          <p:cNvPicPr/>
          <p:nvPr/>
        </p:nvPicPr>
        <p:blipFill>
          <a:blip r:embed="rId1"/>
          <a:stretch/>
        </p:blipFill>
        <p:spPr>
          <a:xfrm>
            <a:off x="838080" y="988920"/>
            <a:ext cx="7467840" cy="5869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609480" y="5715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ajectories of some 3-D systems</a:t>
            </a:r>
            <a:br>
              <a:rPr sz="2400"/>
            </a:br>
            <a:r>
              <a:rPr b="0" lang="en-US" sz="47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:</a:t>
            </a:r>
            <a:br>
              <a:rPr sz="4800"/>
            </a:br>
            <a:br>
              <a:rPr sz="4800"/>
            </a:b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f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Содержимое 5" descr="Ris1.jpg"/>
          <p:cNvPicPr/>
          <p:nvPr/>
        </p:nvPicPr>
        <p:blipFill>
          <a:blip r:embed="rId1"/>
          <a:stretch/>
        </p:blipFill>
        <p:spPr>
          <a:xfrm>
            <a:off x="0" y="2590920"/>
            <a:ext cx="4191120" cy="37843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GaidovGolubyatnikovNano copy.jpg"/>
          <p:cNvPicPr/>
          <p:nvPr/>
        </p:nvPicPr>
        <p:blipFill>
          <a:blip r:embed="rId2"/>
          <a:stretch/>
        </p:blipFill>
        <p:spPr>
          <a:xfrm>
            <a:off x="5029200" y="2743200"/>
            <a:ext cx="3276720" cy="281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2048040" y="685800"/>
                <a:ext cx="6824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1371600" y="1676520"/>
                <a:ext cx="53658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8"/>
          <p:cNvSpPr/>
          <p:nvPr/>
        </p:nvSpPr>
        <p:spPr>
          <a:xfrm>
            <a:off x="8690400" y="-61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533520" y="5823000"/>
            <a:ext cx="85341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inverse probl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to reconstruct integral manifolds inside and outside of the cy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B1E544-D5FF-4E28-8F80-8D9DE21D05D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D:\Father\2013\IC&amp;G\2_cells.png"/>
          <p:cNvPicPr/>
          <p:nvPr/>
        </p:nvPicPr>
        <p:blipFill>
          <a:blip r:embed="rId1"/>
          <a:stretch/>
        </p:blipFill>
        <p:spPr>
          <a:xfrm>
            <a:off x="228600" y="762120"/>
            <a:ext cx="8667720" cy="5243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400320" y="6416640"/>
            <a:ext cx="56048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gative feedback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···◄ (AS-C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80880" y="5943600"/>
            <a:ext cx="556272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itive feedback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-C)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 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0" y="76320"/>
            <a:ext cx="9144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wo cells complex in a natural gene network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DD61F0-E14F-4CFF-BF4B-C279C101554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Объект 2"/>
              <p:cNvSpPr txBox="1"/>
              <p:nvPr/>
            </p:nvSpPr>
            <p:spPr>
              <a:xfrm>
                <a:off x="152280" y="228600"/>
                <a:ext cx="2370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Объект 4"/>
              <p:cNvSpPr txBox="1"/>
              <p:nvPr/>
            </p:nvSpPr>
            <p:spPr>
              <a:xfrm>
                <a:off x="2819520" y="228600"/>
                <a:ext cx="2376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Прямоугольник 5"/>
          <p:cNvSpPr/>
          <p:nvPr/>
        </p:nvSpPr>
        <p:spPr>
          <a:xfrm>
            <a:off x="76320" y="1857240"/>
            <a:ext cx="693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; 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AS-C],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[Dl],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[N]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8"/>
              <p:cNvSpPr txBox="1"/>
              <p:nvPr/>
            </p:nvSpPr>
            <p:spPr>
              <a:xfrm>
                <a:off x="5486400" y="228600"/>
                <a:ext cx="2529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Объект 10"/>
              <p:cNvSpPr txBox="1"/>
              <p:nvPr/>
            </p:nvSpPr>
            <p:spPr>
              <a:xfrm>
                <a:off x="6553080" y="990720"/>
                <a:ext cx="24386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Picture 3" descr="D:\Father\2013\Akinshin\SobolevPresentation\Presentation\images\even-plot.jpg"/>
          <p:cNvPicPr/>
          <p:nvPr/>
        </p:nvPicPr>
        <p:blipFill>
          <a:blip r:embed="rId1"/>
          <a:stretch/>
        </p:blipFill>
        <p:spPr>
          <a:xfrm>
            <a:off x="4648320" y="2440080"/>
            <a:ext cx="4495680" cy="4417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76320" y="2440080"/>
            <a:ext cx="601956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monotonicall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ing, it correspond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egative feedback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···◄ (AS-C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moid functions </a:t>
            </a:r>
            <a:r>
              <a:rPr b="0" i="1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feedbac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AS-C) → D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table equilibrium points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point </a:t>
            </a:r>
            <a:r>
              <a:rPr b="1" i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</a:t>
            </a:r>
            <a:r>
              <a:rPr b="1" lang="en-US" sz="29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 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 unstabl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4"/>
              <p:cNvSpPr txBox="1"/>
              <p:nvPr/>
            </p:nvSpPr>
            <p:spPr>
              <a:xfrm>
                <a:off x="4191120" y="3809880"/>
                <a:ext cx="533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Прямоугольник 1"/>
          <p:cNvSpPr/>
          <p:nvPr/>
        </p:nvSpPr>
        <p:spPr>
          <a:xfrm>
            <a:off x="8637120" y="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E057F1-49A6-4D59-91A8-F31EF28DD86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04920" y="609480"/>
            <a:ext cx="876276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D:\Father\2013\IC&amp;G\3t-labels2.png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585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Father\2013\IC&amp;G\2cells\3t.png"/>
          <p:cNvPicPr/>
          <p:nvPr/>
        </p:nvPicPr>
        <p:blipFill>
          <a:blip r:embed="rId2"/>
          <a:stretch/>
        </p:blipFill>
        <p:spPr>
          <a:xfrm>
            <a:off x="5524560" y="76320"/>
            <a:ext cx="3605040" cy="3124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457200" y="81000"/>
            <a:ext cx="51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ectories of th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304920" y="5716440"/>
            <a:ext cx="67165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OREM 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unstable cycle can appear near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0EA958-FF07-465B-9C39-19B6F097850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D:\2014\2cells\4Risunok.png"/>
          <p:cNvPicPr/>
          <p:nvPr/>
        </p:nvPicPr>
        <p:blipFill>
          <a:blip r:embed="rId1"/>
          <a:stretch/>
        </p:blipFill>
        <p:spPr>
          <a:xfrm>
            <a:off x="228600" y="1600200"/>
            <a:ext cx="8008920" cy="5181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52280" y="76320"/>
            <a:ext cx="8371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omes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t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 with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ator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ur. The other one goes to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neur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s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1F5648-4024-4BAB-9FEC-7DAC36EFE41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re complicated mod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pict_Phyl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6021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8575200" y="8244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990720" y="6434280"/>
            <a:ext cx="360" cy="349200"/>
          </a:xfrm>
          <a:prstGeom prst="rect">
            <a:avLst/>
          </a:prstGeom>
          <a:solidFill>
            <a:srgbClr val="bacd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613F23-FA57-43FB-B4B0-AA5CBB35A08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D:\Father\2014\ICiG\GeneNetworkModels-master-old1\composition.png"/>
          <p:cNvPicPr/>
          <p:nvPr/>
        </p:nvPicPr>
        <p:blipFill>
          <a:blip r:embed="rId1"/>
          <a:stretch/>
        </p:blipFill>
        <p:spPr>
          <a:xfrm>
            <a:off x="15228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76320" y="228600"/>
            <a:ext cx="708660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equilibrium points in the system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ree of them are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:\2014\ICiG\5D_6D\Dro-ASC-6d\Runs\001\plot-time-x.png"/>
          <p:cNvPicPr/>
          <p:nvPr/>
        </p:nvPicPr>
        <p:blipFill>
          <a:blip r:embed="rId2"/>
          <a:stretch/>
        </p:blipFill>
        <p:spPr>
          <a:xfrm>
            <a:off x="4114800" y="11304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5040720" y="1295280"/>
            <a:ext cx="1672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S-C]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cycles.jpg"/>
          <p:cNvPicPr/>
          <p:nvPr/>
        </p:nvPicPr>
        <p:blipFill>
          <a:blip r:embed="rId1"/>
          <a:stretch/>
        </p:blipFill>
        <p:spPr>
          <a:xfrm>
            <a:off x="4686480" y="1847880"/>
            <a:ext cx="4457520" cy="49338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2286000" y="228600"/>
            <a:ext cx="4572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б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5" descr="cycle3.jpg"/>
          <p:cNvPicPr/>
          <p:nvPr/>
        </p:nvPicPr>
        <p:blipFill>
          <a:blip r:embed="rId2"/>
          <a:stretch/>
        </p:blipFill>
        <p:spPr>
          <a:xfrm>
            <a:off x="76320" y="2190600"/>
            <a:ext cx="4486320" cy="4667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533520" y="304920"/>
            <a:ext cx="84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ary points and cycles of the system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708760" y="7632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1"/>
              <p:cNvSpPr txBox="1"/>
              <p:nvPr/>
            </p:nvSpPr>
            <p:spPr>
              <a:xfrm>
                <a:off x="206280" y="838080"/>
                <a:ext cx="23590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2887560" y="853920"/>
                <a:ext cx="2446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5535720" y="853920"/>
                <a:ext cx="2388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VladimirPetrovich</cp:lastModifiedBy>
  <dcterms:modified xsi:type="dcterms:W3CDTF">2014-09-30T12:03:48Z</dcterms:modified>
  <cp:revision>553</cp:revision>
  <dc:subject/>
  <dc:title>Слайд 1</dc:title>
</cp:coreProperties>
</file>